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FFE7-A671-4E7F-8D03-B1C3D69D5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5321-42E2-42DB-AEC3-502F2A542A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1EED-6B78-4954-AA63-42A446965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8:00 – 9: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 5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age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58-6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Connecting Ser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66-7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Centering Ser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75-79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sting ser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9:30 – 9:45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Brea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:45 – 11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91-10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Assemble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3-128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ain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2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oving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:00 – 11:15    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1:15 – 12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40 – 14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ubrout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12:00 – 1:30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Calibri"/>
              </a:rPr>
              <a:t>Lun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1:30 – 3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35-24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Infrared TX / R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50-25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Lead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282-28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ollow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3:00-3: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Maze 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ollow the Leader Rob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Esther Williams” Robot Rou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Collection of Travel Vouchers / Expense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er Institute Review / Post Institute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8:00 – 9:3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Build 555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Pages</a:t>
            </a:r>
            <a:r>
              <a:rPr b="0" lang="en-US" sz="5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en-US" sz="5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	</a:t>
            </a:r>
            <a:r>
              <a:rPr b="0" lang="en-US" sz="5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Topic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58-61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Connecting Serv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66-70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Centering Serv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75-79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Testing servo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9:30 – 9:45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Break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9:45 – 11: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91-103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Assemble Robo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23-128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Main Progra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27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Moving Robo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1:00 – 11:15     Break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1:15 – 12: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40 – 143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Subroutin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12:00 – 1:30     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  <a:ea typeface="Calibri"/>
              </a:rPr>
              <a:t>Lunch</a:t>
            </a: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1:30 – 3:0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235-245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Infrared TX / RX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250-252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Leader Progra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282-283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Follower Program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87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3:00-3:4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Maze Completio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Follow the Leader Robo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“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Esther Williams” Robot Routine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Collection of Travel Vouchers / Expense Repor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Group Pictures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Calibri"/>
              </a:rPr>
              <a:t>Teacher Institute Review / Post Institute Survey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F715-82D0-4AAD-8A73-D49029B7AC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76000" y="467136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908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892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220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7600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892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220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76000" y="198864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908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476000" y="467136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908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892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42200" y="256500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47600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95892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42200" y="4671360"/>
            <a:ext cx="236448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76000" y="198864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9080" y="467136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76000" y="192132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600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9080" y="2565000"/>
            <a:ext cx="3583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76000" y="4671360"/>
            <a:ext cx="73436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1988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5516640"/>
            <a:ext cx="9144000" cy="1341360"/>
          </a:xfrm>
          <a:prstGeom prst="rect">
            <a:avLst/>
          </a:prstGeom>
          <a:gradFill rotWithShape="0">
            <a:gsLst>
              <a:gs pos="0">
                <a:srgbClr val="765e2f">
                  <a:alpha val="0"/>
                </a:srgbClr>
              </a:gs>
              <a:gs pos="100000">
                <a:srgbClr val="7eb1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2771640" y="5013360"/>
            <a:ext cx="6372360" cy="10796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76000" y="198864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476000" y="2565000"/>
            <a:ext cx="7343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powerpointemplates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95480" y="4800240"/>
            <a:ext cx="6477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RRL – Teacher Institu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879280" y="5543280"/>
            <a:ext cx="446580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cklin, Califo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781680" y="64771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yright 2009 - ARR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962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E-BOT Buil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6920" y="2421000"/>
            <a:ext cx="748836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BOE-B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ze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llow the Lea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her Williams” Rout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of Travel Vou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Pic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 Review / Post Institute Surv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9880" y="1371240"/>
            <a:ext cx="54864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obotics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981080" y="1981080"/>
          <a:ext cx="6188040" cy="4525920"/>
        </p:xfrm>
        <a:graphic>
          <a:graphicData uri="http://schemas.openxmlformats.org/drawingml/2006/table">
            <a:tbl>
              <a:tblPr/>
              <a:tblGrid>
                <a:gridCol w="3094200"/>
                <a:gridCol w="309384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Pa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pic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8, 6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nnecting Serv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6-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entering Serv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75-7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esting Serv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91-10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Assemble Rob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23-128 (main program pg 127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oving Robo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140-14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Subrouti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Maz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35-24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R TX/R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0-2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Leader Prog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82-2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Follower Progra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>
            <a:hlinkClick r:id="rId1"/>
          </p:cNvPr>
          <p:cNvSpPr/>
          <p:nvPr/>
        </p:nvSpPr>
        <p:spPr>
          <a:xfrm>
            <a:off x="3325680" y="5684760"/>
            <a:ext cx="4127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www.ARRL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7"/>
          <p:cNvSpPr txBox="1"/>
          <p:nvPr/>
        </p:nvSpPr>
        <p:spPr>
          <a:xfrm>
            <a:off x="3276720" y="5153040"/>
            <a:ext cx="374472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50505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0" dir="0" blurRad="0" rotWithShape="0">
                    <a:srgbClr val="000000"/>
                  </a:outerShdw>
                </a:effectLst>
                <a:latin typeface="Arial"/>
              </a:rPr>
              <a:t>Thank You!</a:t>
            </a:r>
            <a:endParaRPr b="1" lang="en-US" sz="1800" spc="1" strike="noStrike">
              <a:ln w="176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50505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0" dir="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05:11:37Z</dcterms:created>
  <dc:creator>menrique</dc:creator>
  <dc:description/>
  <dc:language>en-US</dc:language>
  <cp:lastModifiedBy>Tommy Gober</cp:lastModifiedBy>
  <dcterms:modified xsi:type="dcterms:W3CDTF">2011-06-23T05:40:48Z</dcterms:modified>
  <cp:revision>158</cp:revision>
  <dc:subject/>
  <dc:title>Slide 1</dc:title>
</cp:coreProperties>
</file>