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29.pct" ContentType="image/x-pict"/>
  <Override PartName="/ppt/media/image10.pct" ContentType="image/x-pict"/>
  <Override PartName="/ppt/media/image5.pct" ContentType="image/x-pict"/>
  <Override PartName="/ppt/media/image2.jpeg" ContentType="image/jpeg"/>
  <Override PartName="/ppt/media/image28.pct" ContentType="image/x-pict"/>
  <Override PartName="/ppt/media/image4.pct" ContentType="image/x-pict"/>
  <Override PartName="/ppt/media/image27.pct" ContentType="image/x-pict"/>
  <Override PartName="/ppt/media/image3.pct" ContentType="image/x-pict"/>
  <Override PartName="/ppt/media/image26.pct" ContentType="image/x-pict"/>
  <Override PartName="/ppt/media/image25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23D-ADC4-433C-922A-91490921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819-4597-4225-BAD0-AF751A39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617-01F4-495D-B87F-99B08D81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4828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444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12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4828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444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95D-DF15-4C66-AD11-EF22BF60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58F2-45B2-430A-85D0-0E87AF44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D0CF-F6E7-4732-BE90-96CE5B9B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AB2E-E913-4724-A247-D152D09B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0C43-2258-4127-9149-CC86367D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6731-1E84-44BD-9807-8B1806FF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B1D3-7579-4F61-AC2B-4F47E615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FCEE-143F-4A49-9FED-14A491E0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454-88FC-40AD-A3D6-48648027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AE81-83E2-4C89-A286-BC5B26BE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EAB1-B533-4F12-BF22-29F846E2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8249-6365-4668-89F2-7C06E2ED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F9A1-ECB4-4095-808A-44EB4234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4828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44440" y="182844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5212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4828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44440" y="4057200"/>
            <a:ext cx="2281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EC78-8C52-4D17-AC08-72ED5B76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D5A-84BC-408F-9D52-098A648E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C104-2DB1-4E26-89DC-14B2E5D2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69C-939B-4DFE-BF9E-E9C39C07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52120" y="4568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809-B613-491E-97FF-08187BE8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79B-094A-43A8-BCA0-A58DEB4B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83440" y="405720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0137-F723-40CE-ABEB-939EFA25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3440" y="1828440"/>
            <a:ext cx="34581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120" y="4057200"/>
            <a:ext cx="7086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4E2-10E8-4716-ADFB-F04E1354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343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eb00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1001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8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767960" y="6248520"/>
            <a:ext cx="173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F2B1-72EE-40DB-AC9A-BB42338C77B4}" type="slidenum">
              <a:rPr b="0" lang="en-US" sz="1400" spc="-1" strike="noStrike">
                <a:solidFill>
                  <a:srgbClr val="ffff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A496-963F-4DC7-A8F7-5D3458DE2181}" type="slidenum">
              <a:rPr b="0" lang="en-US" sz="1400" spc="-1" strike="noStrike">
                <a:solidFill>
                  <a:srgbClr val="ffff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10019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8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Element 1 Morse Code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Longview East Texas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Amateur Radio Club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S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• • •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ih-sih-sih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5588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O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– – –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hO-hO-hO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26733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Y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– • – –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Y-did-I-DI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275904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U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• • –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kiss-a-EW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5732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D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– • •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DOG-did-i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38480" y="2460600"/>
            <a:ext cx="2530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P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• – – •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did-POP-POP-i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270684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C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3760" y="3657600"/>
            <a:ext cx="3276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– • – •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ATCH-it-CATCH-i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38480" y="2381400"/>
            <a:ext cx="223812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R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• – •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brr-RAB-bi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4829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H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• • • •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deep-in-the-hear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25178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L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• – • •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a-LIGHT-is-li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2341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Macintosh HD:Users:garylewis:Documents:Ham Test Material:Elem 1 - Morse Code:Text_vs_Morse_Leno_2005_05_13.mov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Morse Code on Tonight 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how with Jay Leno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N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– •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NA-zi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2476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I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• •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bit-i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24861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F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• • – •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did-i-FAIL-i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2644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B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4120" y="3657600"/>
            <a:ext cx="347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– • • •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BAND-rat-a-ta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38480" y="2381400"/>
            <a:ext cx="233028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Z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– – • •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ZA-ZA-did-i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27860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G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– – •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GOD-LOVES-m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25653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Q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– – • –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AY-DAY-to-DAY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273852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X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81480" y="3505320"/>
            <a:ext cx="362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– • • –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ROSS-at-the-DOOR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24843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J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28840" y="3505320"/>
            <a:ext cx="377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• – – –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in-JAWS-JAWS-JAWS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2441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M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– –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A-MA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24573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Element 1 Tes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No Transmit requiremen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5 WPM Receive requiremen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arnsworth Method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eb00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haracter components sent at 15 WPM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eb00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Characters spaced at 5 WPM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wo ways to pass tes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eb00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Solid copy for 25 characters in a row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eb001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en question test based on copy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unctuation and Prosigns count as 2 characters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A QSO Message is what is copied on the tes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V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• • • –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v-v-v-VA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587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120" y="2819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Numbers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Numbers 1-5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52480" y="1828800"/>
          <a:ext cx="7086600" cy="4267080"/>
        </p:xfrm>
        <a:graphic>
          <a:graphicData uri="http://schemas.openxmlformats.org/drawingml/2006/table">
            <a:tbl>
              <a:tblPr/>
              <a:tblGrid>
                <a:gridCol w="2286000"/>
                <a:gridCol w="4800600"/>
              </a:tblGrid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• – – – –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• • – – –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• • • – –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• • • • –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• • • • •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Numbers 6-0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52480" y="1828800"/>
          <a:ext cx="7086600" cy="4267080"/>
        </p:xfrm>
        <a:graphic>
          <a:graphicData uri="http://schemas.openxmlformats.org/drawingml/2006/table">
            <a:tbl>
              <a:tblPr/>
              <a:tblGrid>
                <a:gridCol w="2286000"/>
                <a:gridCol w="4800600"/>
              </a:tblGrid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– • • • •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– – • • •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– – – • •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– – – – •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– – – – –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120" y="2819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Punctuation &amp; Prosigns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Punctuation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52480" y="1828800"/>
          <a:ext cx="7086600" cy="4267080"/>
        </p:xfrm>
        <a:graphic>
          <a:graphicData uri="http://schemas.openxmlformats.org/drawingml/2006/table">
            <a:tbl>
              <a:tblPr/>
              <a:tblGrid>
                <a:gridCol w="2286000"/>
                <a:gridCol w="4800600"/>
              </a:tblGrid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eriod .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• – • – • –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omma ,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– – • • – –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Question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Mark ?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• • – – • •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lash /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(DN)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– • • – •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Prosigns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52480" y="1828800"/>
          <a:ext cx="7086600" cy="3995640"/>
        </p:xfrm>
        <a:graphic>
          <a:graphicData uri="http://schemas.openxmlformats.org/drawingml/2006/table">
            <a:tbl>
              <a:tblPr/>
              <a:tblGrid>
                <a:gridCol w="3200400"/>
                <a:gridCol w="3886200"/>
              </a:tblGrid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BT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(Break in text)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Equal =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– • • • –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1368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AR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(End of Transmission)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lus +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– – • • – –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576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K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(End of Contact)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66"/>
                      </a:solidFill>
                    </a:lnL>
                    <a:lnR w="576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• • • – • –</a:t>
                      </a:r>
                      <a:endParaRPr b="0" lang="en-US" sz="2400" spc="-1" strike="noStrike">
                        <a:solidFill>
                          <a:srgbClr val="ffff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66"/>
                      </a:solidFill>
                    </a:lnL>
                    <a:lnR w="13680">
                      <a:solidFill>
                        <a:srgbClr val="ffff66"/>
                      </a:solidFill>
                    </a:lnR>
                    <a:lnT w="5760">
                      <a:solidFill>
                        <a:srgbClr val="ffff66"/>
                      </a:solidFill>
                    </a:lnT>
                    <a:lnB w="136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Example QSO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1595520" y="1606680"/>
            <a:ext cx="6276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VVV VVV VVV 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W2FBK/8 DE WV1L = 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OK ES THX FER CALL GERALD = 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MY NAME IS PAT = RST 558 SOLID CPY = 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RIG HERE IS A FT840 RUNNING 400 WATTS = 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ANTENNA IS A DELTA LOOP = 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QTH HERE IS WARWICK, RHODE ISLAND = 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WX HERE IS VERY DAMP, TEMP IS 36 F = 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MY JOB IS AS A CLERK = 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BEEN LICENSED FOR 40 YEARS = 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BACK TO YOU GERALD = 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W2FBK/8 DE WV1L 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Example 10 Question Tes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120" y="182844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499"/>
              </a:spcBef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What was the sender's call? 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WV1L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528120" indent="-528120">
              <a:spcBef>
                <a:spcPts val="499"/>
              </a:spcBef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What was the receiver's callsign?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 W2FBK/8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528120" indent="-528120">
              <a:spcBef>
                <a:spcPts val="499"/>
              </a:spcBef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What was the signal report?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 558 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528120" indent="-528120">
              <a:spcBef>
                <a:spcPts val="499"/>
              </a:spcBef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What was the sender's name?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 PAT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528120" indent="-528120">
              <a:spcBef>
                <a:spcPts val="499"/>
              </a:spcBef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What was the receiver's name?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 GERALD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528120" indent="-528120">
              <a:spcBef>
                <a:spcPts val="499"/>
              </a:spcBef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What was the sender's state?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 RHODE ISLAND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528120" indent="-528120">
              <a:spcBef>
                <a:spcPts val="499"/>
              </a:spcBef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What was the sender's city?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 WARWICK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528120" indent="-528120">
              <a:spcBef>
                <a:spcPts val="499"/>
              </a:spcBef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What was the sender's antenna?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 DELTA LOOP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528120" indent="-528120">
              <a:spcBef>
                <a:spcPts val="499"/>
              </a:spcBef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How did the sender describe the weather?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 VERY DAMP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528120" indent="-528120">
              <a:spcBef>
                <a:spcPts val="499"/>
              </a:spcBef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What is the occupation of the sender?</a:t>
            </a: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 CLERK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2819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s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W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• – –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o-WA-WA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25542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K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– • –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KANG-a-ROO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4177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E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•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Eek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269064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A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4120" y="3657600"/>
            <a:ext cx="347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• –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ay-AH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38480" y="2540160"/>
            <a:ext cx="24336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Letter 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4120" y="3505320"/>
            <a:ext cx="347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–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AL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23162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ry Lewis</cp:lastModifiedBy>
  <dcterms:modified xsi:type="dcterms:W3CDTF">2006-09-18T21:36:09Z</dcterms:modified>
  <cp:revision>4</cp:revision>
  <dc:subject/>
  <dc:title>Letter A</dc:title>
</cp:coreProperties>
</file>