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9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1.xml" ContentType="application/vnd.openxmlformats-officedocument.presentationml.notesSlide+xml"/>
  <Override PartName="/ppt/notesSlides/notesSlide2.xml" ContentType="application/vnd.openxmlformats-officedocument.presentationml.notesSlide+xml"/>
  <Override PartName="/ppt/notesSlides/notesSlide106.xml" ContentType="application/vnd.openxmlformats-officedocument.presentationml.notesSlide+xml"/>
  <Override PartName="/ppt/notesSlides/notesSlide84.xml" ContentType="application/vnd.openxmlformats-officedocument.presentationml.notesSlide+xml"/>
  <Override PartName="/ppt/notesSlides/notesSlide1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5CFF-4917-43BC-9957-01863C9AE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Operated (VOX) headsets and speaker/mikes are available.  These permit hands-free operation by detecting the voice of the user and automatically activating the push-to-talk (PTT).  Most of these unit offer a way to switch to manual operation to eliminate falsing (inadvertent transmissions) in a noisy environment.  They also generally offer some means to control the sensitivity (gain) of the VOX circuitry.  Better units include VOX delay to eliminate falsing on pulse noises and anti-VOX to prevent received audio from activating the transmitter.</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waves are a shared resource that must  be coordinated worldwide.  The ITU is the body that does this.  It’s important to recognize that the Americas are in Region 2.  Europe including Russia and Africa are Region 1 and the rest of Asia is Region 3.</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ppearance of an AM signal on a spectrum scope.  There is a carrier in the center that uses power but contains no information (it can be used for tuning).  Each of the two sidebands (upper and lower) are identical but inverted.  HF amateur communications are generally on a single sideband (SSB) by suppressing the carrier and opposite sideband.  This is more efficient by using less bandwidth and power is not wasted transmitting a dead carrier and duplicate sideb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radio design simplicity, the convention has been to use lower sideband (LSB) below 14 MHz and upper sideband (USB) above 14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zmuthal map is a map projection centered on a particular location, used to determine the shortest path between points on the surface of the earth.  From this map, centered on Seattle,  it can be seen that San Diego is 165 degrees, Hawaii about 230 degrees and Anchorage, AK will be about 325 degrees for the shortest path.  These bearings will likely be different than those from a standard Mercator projection because they account for the earth’s curv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ear your own voice echo when transmitting.  This is from a signal propagating all the way around the world via “long path”.  This “long path” signal will be from exactly the opposite bearing (180 degrees different) and because one path may have daylight, where the other doesn’t, it is often possible to make a long path contact when short path doesn’t work.</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logs generally include just the information supplied on a QSL card:  date, time, callsign, frequency/band, signal report and mode.  They generally include note fields to allow entering personal data like name and location or rig type, etc.  Many hams have paper logbook that go back decades.  More recently, computer logging has become popular because it has the ability to automatically generate much of the QSO data (date/time/frequency), can look up the other operator callsign in the FCC database and retrieve name and address and even generate and track QSL cards.  Many will also track progress toward awards such as Worked All States or DXCC (100 countries).  The only issue the reliability of this computer log vs. the old paper log boo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30E667-0499-46C3-901F-B30E727E1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AC74B3-018E-403F-A90D-227AEC0F56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BA9215-0123-4610-A721-DD326065D4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3895AA-2616-4FDC-86E7-E2D11AA63D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B64BDB-9155-4CBD-B4DF-7B654F574F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BEF621-3CF1-4134-9C7D-8A505FF3CC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53AE7-8B0B-42E5-9D45-31834C538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DCAA9-F077-4CCC-8A5C-76E0DBDBF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4F0DDF-7CC6-48F2-8700-4D592C7F0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EE84A-0AA2-4279-9C1D-0D7DE8842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5D70E-C753-4F12-BD36-B96B8E88F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774BC2-49C2-4B70-B080-FF42B7DB51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81378-682C-4772-B166-2CDE747DBC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63AC7-9295-4257-918B-D1AD78FC1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B41548-04F9-4403-B6BA-24AE99415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2E8761-6EC4-4B58-90F9-4EAFB3739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DD6ED3-9758-4B03-81F5-A491568AC9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BBBD8A-BCBB-4515-B7C5-2943727E14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C16F19-C071-4977-83D4-2A5FBBC72C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B4B2BF-757D-4C04-BE81-CD581A516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A29C8B-FA62-4292-92D8-F3561A70D6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9B1B5-048F-442F-8985-0A9AD7A33F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392459-0024-47FC-AA8D-CF1BD7A2EA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14F61F-9DE5-4720-BD1F-19C1B97E2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A9AA-D2E0-4AE4-8246-DE4F4E6AC6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47A5-CD01-4B10-AB98-298E6A6195C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88394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 -- OPERATING PROCEDURES</a:t>
            </a:r>
            <a:br>
              <a:rPr sz="3000"/>
            </a:br>
            <a:r>
              <a:rPr b="1" lang="en-US" sz="3000" spc="-1" strike="noStrike">
                <a:solidFill>
                  <a:srgbClr val="ffff00"/>
                </a:solidFill>
                <a:latin typeface="Tahoma"/>
              </a:rPr>
              <a:t>[6 Exam Questions -- 6 Groups]</a:t>
            </a:r>
            <a:endParaRPr b="1" lang="en-US" sz="3000" spc="-1" strike="noStrike">
              <a:solidFill>
                <a:srgbClr val="ffff00"/>
              </a:solidFill>
              <a:latin typeface="Tahoma"/>
            </a:endParaRPr>
          </a:p>
        </p:txBody>
      </p:sp>
      <p:sp>
        <p:nvSpPr>
          <p:cNvPr id="106" name="PlaceHolder 2"/>
          <p:cNvSpPr>
            <a:spLocks noGrp="1"/>
          </p:cNvSpPr>
          <p:nvPr>
            <p:ph/>
          </p:nvPr>
        </p:nvSpPr>
        <p:spPr>
          <a:xfrm>
            <a:off x="0" y="1828440"/>
            <a:ext cx="9144000" cy="4800600"/>
          </a:xfrm>
          <a:prstGeom prst="rect">
            <a:avLst/>
          </a:prstGeom>
          <a:noFill/>
          <a:ln w="0">
            <a:noFill/>
          </a:ln>
        </p:spPr>
        <p:txBody>
          <a:bodyPr lIns="90000" rIns="90000" tIns="46800" bIns="46800" anchor="t">
            <a:normAutofit fontScale="87000"/>
          </a:bodyPr>
          <a:p>
            <a:pPr lvl="1" marL="84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2A  Phone operating procedures</a:t>
            </a:r>
            <a:endParaRPr b="0" lang="en-US" sz="2200" spc="-1" strike="noStrike">
              <a:solidFill>
                <a:srgbClr val="ffffff"/>
              </a:solidFill>
              <a:latin typeface="Tahoma"/>
            </a:endParaRPr>
          </a:p>
          <a:p>
            <a:pPr lvl="1" marL="84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2B  Operating courtesy</a:t>
            </a:r>
            <a:endParaRPr b="0" lang="en-US" sz="2200" spc="-1" strike="noStrike">
              <a:solidFill>
                <a:srgbClr val="ffffff"/>
              </a:solidFill>
              <a:latin typeface="Tahoma"/>
            </a:endParaRPr>
          </a:p>
          <a:p>
            <a:pPr lvl="1" marL="84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2C  Emergencies, including drills and emergency communications</a:t>
            </a:r>
            <a:endParaRPr b="0" lang="en-US" sz="2200" spc="-1" strike="noStrike">
              <a:solidFill>
                <a:srgbClr val="ffffff"/>
              </a:solidFill>
              <a:latin typeface="Tahoma"/>
            </a:endParaRPr>
          </a:p>
          <a:p>
            <a:pPr lvl="1" marL="84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2D  Amateur auxiliary to the FCC's Compliance and Information Bureau; antenna orientation to minimize interference; HF operations, including logging practices</a:t>
            </a:r>
            <a:endParaRPr b="0" lang="en-US" sz="2200" spc="-1" strike="noStrike">
              <a:solidFill>
                <a:srgbClr val="ffffff"/>
              </a:solidFill>
              <a:latin typeface="Tahoma"/>
            </a:endParaRPr>
          </a:p>
          <a:p>
            <a:pPr lvl="1" marL="84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2E  Third-party communications; ITU Regions; VOX operation</a:t>
            </a:r>
            <a:endParaRPr b="0" lang="en-US" sz="2200" spc="-1" strike="noStrike">
              <a:solidFill>
                <a:srgbClr val="ffffff"/>
              </a:solidFill>
              <a:latin typeface="Tahoma"/>
            </a:endParaRPr>
          </a:p>
          <a:p>
            <a:pPr lvl="1" marL="845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2F  CW operating procedures, including procedural signals, Q signals and common abbreviations; full break-in; RTTY operating procedures, including g procedural signals and common abbreviations and operating procedures for other digital modes, such as HF packet, AMTOR, PacTOR, G-TOR, Clover and PSK31</a:t>
            </a:r>
            <a:endParaRPr b="0" lang="en-US" sz="22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88F68A9-FA3F-4A22-81A7-7B44D69C56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4 Which sideband is commonly used for 10-meter phone operation?</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3C3A28C-7643-4ED3-8345-4C6748ADDE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11 Which HF antenna would best be used to focus your signal to minimize interference?</a:t>
            </a:r>
            <a:endParaRPr b="1" lang="en-US" sz="3000" spc="-1" strike="noStrike">
              <a:solidFill>
                <a:srgbClr val="ffff00"/>
              </a:solidFill>
              <a:latin typeface="Tahoma"/>
            </a:endParaRPr>
          </a:p>
        </p:txBody>
      </p:sp>
      <p:sp>
        <p:nvSpPr>
          <p:cNvPr id="3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idirection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horizontal antenna positioned broadside to the desired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unidirection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omnidirectional antenna at low p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BD6D5F7-F60B-4D19-8A5D-684F120313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11 Which HF antenna would best be used to focus your signal to minimize interference?</a:t>
            </a:r>
            <a:endParaRPr b="1" lang="en-US" sz="3000" spc="-1" strike="noStrike">
              <a:solidFill>
                <a:srgbClr val="ffff00"/>
              </a:solidFill>
              <a:latin typeface="Tahoma"/>
            </a:endParaRPr>
          </a:p>
        </p:txBody>
      </p:sp>
      <p:sp>
        <p:nvSpPr>
          <p:cNvPr id="3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idirection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horizontal antenna positioned broadside to the desired direc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unidirectional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omnidirectional antenna at low p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889D3F1-1947-4BD4-9B85-B0966A6ECD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12 Which of the following is required by the FCC rules when operating in the 60-meter band?</a:t>
            </a:r>
            <a:endParaRPr b="1" lang="en-US" sz="3000" spc="-1" strike="noStrike">
              <a:solidFill>
                <a:srgbClr val="ffff00"/>
              </a:solidFill>
              <a:latin typeface="Tahoma"/>
            </a:endParaRPr>
          </a:p>
        </p:txBody>
      </p:sp>
      <p:sp>
        <p:nvSpPr>
          <p:cNvPr id="3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f you are using other than a dipole antenna, you must keep a record of the gain of your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keep a record of the date, time, frequency, power level and stations work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records are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keep a record of the manufacturer of your equipment and the antenna u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858E868-DE23-4B83-9DB6-DA0236D5A1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12 Which of the following is required by the FCC rules when operating in the 60-meter band?</a:t>
            </a:r>
            <a:endParaRPr b="1" lang="en-US" sz="3000" spc="-1" strike="noStrike">
              <a:solidFill>
                <a:srgbClr val="ffff00"/>
              </a:solidFill>
              <a:latin typeface="Tahoma"/>
            </a:endParaRPr>
          </a:p>
        </p:txBody>
      </p:sp>
      <p:sp>
        <p:nvSpPr>
          <p:cNvPr id="3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f you are using other than a dipole antenna, you must keep a record of the gain of your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keep a record of the date, time, frequency, power level and stations work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records are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keep a record of the manufacturer of your equipment and the antenna u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3DDEB72-4A20-43B4-9B35-D8DE2E3396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1 What type of messages may be transmitted to an amateur station in a foreign country?</a:t>
            </a:r>
            <a:endParaRPr b="1" lang="en-US" sz="3000" spc="-1" strike="noStrike">
              <a:solidFill>
                <a:srgbClr val="ffff00"/>
              </a:solidFill>
              <a:latin typeface="Tahoma"/>
            </a:endParaRPr>
          </a:p>
        </p:txBody>
      </p:sp>
      <p:sp>
        <p:nvSpPr>
          <p:cNvPr id="3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essages of any typ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ssages that are not religious, political, or patriotic in natu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essages of a technical nature or personal remarks of relative unimpor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ssages of any type, but only if the foreign country has a third-party communications agreement with the U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1BD740D8-2D14-498E-9EB1-A727354FE3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1 What type of messages may be transmitted to an amateur station in a foreign country?</a:t>
            </a:r>
            <a:endParaRPr b="1" lang="en-US" sz="3000" spc="-1" strike="noStrike">
              <a:solidFill>
                <a:srgbClr val="ffff00"/>
              </a:solidFill>
              <a:latin typeface="Tahoma"/>
            </a:endParaRPr>
          </a:p>
        </p:txBody>
      </p:sp>
      <p:sp>
        <p:nvSpPr>
          <p:cNvPr id="3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essages of any typ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ssages that are not religious, political, or patriotic in natur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Messages of a technical nature or personal remarks of relative unimporta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ssages of any type, but only if the foreign country has a third-party communications agreement with the U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1C7E7897-EB58-404E-9834-A947BAD3BF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360"/>
            <a:ext cx="883944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OX – Voice Operation</a:t>
            </a:r>
            <a:endParaRPr b="1" lang="en-US" sz="3000" spc="-1" strike="noStrike">
              <a:solidFill>
                <a:srgbClr val="ffff00"/>
              </a:solidFill>
              <a:latin typeface="Tahoma"/>
            </a:endParaRPr>
          </a:p>
        </p:txBody>
      </p:sp>
      <p:graphicFrame>
        <p:nvGraphicFramePr>
          <p:cNvPr id="330" name=""/>
          <p:cNvGraphicFramePr/>
          <p:nvPr/>
        </p:nvGraphicFramePr>
        <p:xfrm>
          <a:off x="2295360" y="1447920"/>
          <a:ext cx="4508640" cy="4905360"/>
        </p:xfrm>
        <a:graphic>
          <a:graphicData uri="http://schemas.openxmlformats.org/presentationml/2006/ole">
            <p:oleObj r:id="rId1" spid="">
              <p:embed/>
              <p:pic>
                <p:nvPicPr>
                  <p:cNvPr id="331" name="" descr=""/>
                  <p:cNvPicPr/>
                  <p:nvPr/>
                </p:nvPicPr>
                <p:blipFill>
                  <a:blip r:embed="rId2"/>
                  <a:stretch/>
                </p:blipFill>
                <p:spPr>
                  <a:xfrm>
                    <a:off x="2295360" y="1447920"/>
                    <a:ext cx="4508640" cy="4905360"/>
                  </a:xfrm>
                  <a:prstGeom prst="rect">
                    <a:avLst/>
                  </a:prstGeom>
                  <a:ln w="0">
                    <a:noFill/>
                  </a:ln>
                </p:spPr>
              </p:pic>
            </p:oleObj>
          </a:graphicData>
        </a:graphic>
      </p:graphicFrame>
      <p:sp>
        <p:nvSpPr>
          <p:cNvPr id="3" name="PlaceHolder 2"/>
          <p:cNvSpPr>
            <a:spLocks noGrp="1"/>
          </p:cNvSpPr>
          <p:nvPr>
            <p:ph type="ftr" idx="1"/>
          </p:nvPr>
        </p:nvSpPr>
        <p:spPr/>
        <p:txBody>
          <a:bodyPr/>
          <a:p>
            <a:r>
              <a:t>Operating Procedures</a:t>
            </a:r>
          </a:p>
        </p:txBody>
      </p:sp>
      <p:sp>
        <p:nvSpPr>
          <p:cNvPr id="4" name="PlaceHolder 3"/>
          <p:cNvSpPr>
            <a:spLocks noGrp="1"/>
          </p:cNvSpPr>
          <p:nvPr>
            <p:ph type="sldNum" idx="2"/>
          </p:nvPr>
        </p:nvSpPr>
        <p:spPr/>
        <p:txBody>
          <a:bodyPr/>
          <a:p>
            <a:fld id="{D5E7C495-CAE4-481B-BE6E-5037E7B29D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2 Which of the following statements is true of VOX operation?</a:t>
            </a:r>
            <a:endParaRPr b="1" lang="en-US" sz="3000" spc="-1" strike="noStrike">
              <a:solidFill>
                <a:srgbClr val="ffff00"/>
              </a:solidFill>
              <a:latin typeface="Tahoma"/>
            </a:endParaRPr>
          </a:p>
        </p:txBody>
      </p:sp>
      <p:sp>
        <p:nvSpPr>
          <p:cNvPr id="3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ceived signal is more natural soun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is mode allows "Hands Free' oper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y spectrum is conserv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uty cycle of the transmitter is reduc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10BC6DD-0E27-49A5-8829-B5282427C5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2 Which of the following statements is true of VOX operation?</a:t>
            </a:r>
            <a:endParaRPr b="1" lang="en-US" sz="3000" spc="-1" strike="noStrike">
              <a:solidFill>
                <a:srgbClr val="ffff00"/>
              </a:solidFill>
              <a:latin typeface="Tahoma"/>
            </a:endParaRPr>
          </a:p>
        </p:txBody>
      </p:sp>
      <p:sp>
        <p:nvSpPr>
          <p:cNvPr id="3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ceived signal is more natural sound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is mode allows "Hands Free' oper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y spectrum is conserv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duty cycle of the transmitter is reduc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85ACE6C-19F1-4D07-98C4-17B1B5010B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3 Which of the following user adjustable controls are usually associated with VOX circuitry?</a:t>
            </a:r>
            <a:endParaRPr b="1" lang="en-US" sz="3000" spc="-1" strike="noStrike">
              <a:solidFill>
                <a:srgbClr val="ffff00"/>
              </a:solidFill>
              <a:latin typeface="Tahoma"/>
            </a:endParaRPr>
          </a:p>
        </p:txBody>
      </p:sp>
      <p:sp>
        <p:nvSpPr>
          <p:cNvPr id="3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ti-VO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OX Del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X Sensi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C05919F-F615-4DED-B993-4CBC592A6E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4 Which sideband is commonly used for 10-meter phone operation?</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Upp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E9C06CA-CCB1-45DC-A4E6-1CC8798BA6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3 Which of the following user adjustable controls are usually associated with VOX circuitry?</a:t>
            </a:r>
            <a:endParaRPr b="1" lang="en-US" sz="3000" spc="-1" strike="noStrike">
              <a:solidFill>
                <a:srgbClr val="ffff00"/>
              </a:solidFill>
              <a:latin typeface="Tahoma"/>
            </a:endParaRPr>
          </a:p>
        </p:txBody>
      </p:sp>
      <p:sp>
        <p:nvSpPr>
          <p:cNvPr id="3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ti-VO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OX Del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X Sensitivit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2103C6A-4A2F-4FC5-9B9E-0A53D7F3B93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4 What is the purpose of the VOX sensitivity control?</a:t>
            </a:r>
            <a:endParaRPr b="1" lang="en-US" sz="3000" spc="-1" strike="noStrike">
              <a:solidFill>
                <a:srgbClr val="ffff00"/>
              </a:solidFill>
              <a:latin typeface="Tahoma"/>
            </a:endParaRPr>
          </a:p>
        </p:txBody>
      </p:sp>
      <p:sp>
        <p:nvSpPr>
          <p:cNvPr id="3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set the timing of transmitter activ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set the audio frequency range at which the transmitter activ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set the audio level at which the transmitter activ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choices is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2C51D46-954F-470C-A254-B13697420B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4 What is the purpose of the VOX sensitivity control?</a:t>
            </a:r>
            <a:endParaRPr b="1" lang="en-US" sz="3000" spc="-1" strike="noStrike">
              <a:solidFill>
                <a:srgbClr val="ffff00"/>
              </a:solidFill>
              <a:latin typeface="Tahoma"/>
            </a:endParaRPr>
          </a:p>
        </p:txBody>
      </p:sp>
      <p:sp>
        <p:nvSpPr>
          <p:cNvPr id="3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set the timing of transmitter activ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set the audio frequency range at which the transmitter activa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o set the audio level at which the transmitter activat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choices is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24C33D1-2826-4382-BCA0-C0E03F4157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0"/>
            <a:ext cx="8839440" cy="13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International Telegraph Union (ITU) Regions</a:t>
            </a:r>
            <a:endParaRPr b="1" lang="en-US" sz="2600" spc="-1" strike="noStrike">
              <a:solidFill>
                <a:srgbClr val="ffff00"/>
              </a:solidFill>
              <a:latin typeface="Tahoma"/>
            </a:endParaRPr>
          </a:p>
        </p:txBody>
      </p:sp>
      <p:pic>
        <p:nvPicPr>
          <p:cNvPr id="345" name="" descr=""/>
          <p:cNvPicPr/>
          <p:nvPr/>
        </p:nvPicPr>
        <p:blipFill>
          <a:blip r:embed="rId1"/>
          <a:stretch/>
        </p:blipFill>
        <p:spPr>
          <a:xfrm>
            <a:off x="457200" y="1576440"/>
            <a:ext cx="8229600" cy="4765680"/>
          </a:xfrm>
          <a:prstGeom prst="rect">
            <a:avLst/>
          </a:prstGeom>
          <a:ln w="0">
            <a:noFill/>
          </a:ln>
        </p:spPr>
      </p:pic>
      <p:sp>
        <p:nvSpPr>
          <p:cNvPr id="3" name="PlaceHolder 2"/>
          <p:cNvSpPr>
            <a:spLocks noGrp="1"/>
          </p:cNvSpPr>
          <p:nvPr>
            <p:ph type="ftr" idx="1"/>
          </p:nvPr>
        </p:nvSpPr>
        <p:spPr/>
        <p:txBody>
          <a:bodyPr/>
          <a:p>
            <a:r>
              <a:t>Operating Procedures</a:t>
            </a:r>
          </a:p>
        </p:txBody>
      </p:sp>
      <p:sp>
        <p:nvSpPr>
          <p:cNvPr id="4" name="PlaceHolder 3"/>
          <p:cNvSpPr>
            <a:spLocks noGrp="1"/>
          </p:cNvSpPr>
          <p:nvPr>
            <p:ph type="sldNum" idx="2"/>
          </p:nvPr>
        </p:nvSpPr>
        <p:spPr/>
        <p:txBody>
          <a:bodyPr/>
          <a:p>
            <a:fld id="{63909345-275C-4795-8FB4-57D61052C0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5 In which International Telecommunication Union Region is the continental United States?</a:t>
            </a:r>
            <a:endParaRPr b="1" lang="en-US" sz="3000" spc="-1" strike="noStrike">
              <a:solidFill>
                <a:srgbClr val="ffff00"/>
              </a:solidFill>
              <a:latin typeface="Tahoma"/>
            </a:endParaRPr>
          </a:p>
        </p:txBody>
      </p:sp>
      <p:sp>
        <p:nvSpPr>
          <p:cNvPr id="3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gion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gion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gion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ion 4</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3742DB10-D181-4ED8-8773-B1BAE4B86D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5 In which International Telecommunication Union Region is the continental United States?</a:t>
            </a:r>
            <a:endParaRPr b="1" lang="en-US" sz="3000" spc="-1" strike="noStrike">
              <a:solidFill>
                <a:srgbClr val="ffff00"/>
              </a:solidFill>
              <a:latin typeface="Tahoma"/>
            </a:endParaRPr>
          </a:p>
        </p:txBody>
      </p:sp>
      <p:sp>
        <p:nvSpPr>
          <p:cNvPr id="3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gion 1</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egion 2</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gion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ion 4</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05DB3FC-1BF7-42FA-A6F4-8C08B5FF6B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6 In which International Telecommunication Union Region are Europe and Africa?</a:t>
            </a:r>
            <a:endParaRPr b="1" lang="en-US" sz="3000" spc="-1" strike="noStrike">
              <a:solidFill>
                <a:srgbClr val="ffff00"/>
              </a:solidFill>
              <a:latin typeface="Tahoma"/>
            </a:endParaRPr>
          </a:p>
        </p:txBody>
      </p:sp>
      <p:sp>
        <p:nvSpPr>
          <p:cNvPr id="3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gion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gion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gion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ion 4</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DAC6C85-2009-4830-A68A-5085D211A9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6 In which International Telecommunication Union Region are Europe and Africa?</a:t>
            </a:r>
            <a:endParaRPr b="1" lang="en-US" sz="3000" spc="-1" strike="noStrike">
              <a:solidFill>
                <a:srgbClr val="ffff00"/>
              </a:solidFill>
              <a:latin typeface="Tahoma"/>
            </a:endParaRPr>
          </a:p>
        </p:txBody>
      </p:sp>
      <p:sp>
        <p:nvSpPr>
          <p:cNvPr id="3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Region 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gion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gion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ion 4</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2080C74-3A72-48FC-A3B2-A5775B8E92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7 In which International Telecommunication Union Region is Australia?</a:t>
            </a:r>
            <a:endParaRPr b="1" lang="en-US" sz="3000" spc="-1" strike="noStrike">
              <a:solidFill>
                <a:srgbClr val="ffff00"/>
              </a:solidFill>
              <a:latin typeface="Tahoma"/>
            </a:endParaRPr>
          </a:p>
        </p:txBody>
      </p:sp>
      <p:sp>
        <p:nvSpPr>
          <p:cNvPr id="3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gion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gion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gion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ion 4</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C5849D1-EF25-4F6C-8A2A-0FFED7D7CF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7 In which International Telecommunication Union Region is Australia?</a:t>
            </a:r>
            <a:endParaRPr b="1" lang="en-US" sz="3000" spc="-1" strike="noStrike">
              <a:solidFill>
                <a:srgbClr val="ffff00"/>
              </a:solidFill>
              <a:latin typeface="Tahoma"/>
            </a:endParaRPr>
          </a:p>
        </p:txBody>
      </p:sp>
      <p:sp>
        <p:nvSpPr>
          <p:cNvPr id="3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gion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gion 2</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Region 3</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ion 4</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BFEE167-0271-4B74-9978-6B354BF7BA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5 Which sideband is commonly used for 15-Meter phone operation?</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0EDD4A0-91AF-4D1A-B17E-6016847D2E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8 Which of the following organizations is responsible for international regulation of the radio spectrum?</a:t>
            </a:r>
            <a:endParaRPr b="1" lang="en-US" sz="3000" spc="-1" strike="noStrike">
              <a:solidFill>
                <a:srgbClr val="ffff00"/>
              </a:solidFill>
              <a:latin typeface="Tahoma"/>
            </a:endParaRPr>
          </a:p>
        </p:txBody>
      </p:sp>
      <p:sp>
        <p:nvSpPr>
          <p:cNvPr id="3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nternational Regulatory Com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ternational Radio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nternational Telecommunications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ternational Frequency-Spectrum Com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73DDB0C6-478F-4261-889D-F4391603C3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8 Which of the following organizations is responsible for international regulation of the radio spectrum?</a:t>
            </a:r>
            <a:endParaRPr b="1" lang="en-US" sz="3000" spc="-1" strike="noStrike">
              <a:solidFill>
                <a:srgbClr val="ffff00"/>
              </a:solidFill>
              <a:latin typeface="Tahoma"/>
            </a:endParaRPr>
          </a:p>
        </p:txBody>
      </p:sp>
      <p:sp>
        <p:nvSpPr>
          <p:cNvPr id="3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nternational Regulatory Com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ternational Radio Un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International Telecommunications Un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ternational Frequency-Spectrum Com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A76E15B-871A-4F04-A26E-BD0BDDF6F1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09 What do the initials "ITU" stand for?</a:t>
            </a:r>
            <a:endParaRPr b="1" lang="en-US" sz="3000" spc="-1" strike="noStrike">
              <a:solidFill>
                <a:srgbClr val="ffff00"/>
              </a:solidFill>
              <a:latin typeface="Tahoma"/>
            </a:endParaRPr>
          </a:p>
        </p:txBody>
      </p:sp>
      <p:sp>
        <p:nvSpPr>
          <p:cNvPr id="3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rstate Telecommunications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ternational Telephony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national Transmission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national Telecommunications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91FFE40-530B-4B5F-9819-9E2BF7638E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09 What do the initials "ITU" stand for?</a:t>
            </a:r>
            <a:endParaRPr b="1" lang="en-US" sz="3000" spc="-1" strike="noStrike">
              <a:solidFill>
                <a:srgbClr val="ffff00"/>
              </a:solidFill>
              <a:latin typeface="Tahoma"/>
            </a:endParaRPr>
          </a:p>
        </p:txBody>
      </p:sp>
      <p:sp>
        <p:nvSpPr>
          <p:cNvPr id="3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rstate Telecommunications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ternational Telephony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national Transmission Un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nternational Telecommunications Un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3A04F430-F3C0-47D1-8F2A-24D711398F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10 What is the circuit called that causes a transmitter to automatically transmit when an operator speaks into its microphone?</a:t>
            </a:r>
            <a:endParaRPr b="1" lang="en-US" sz="3000" spc="-1" strike="noStrike">
              <a:solidFill>
                <a:srgbClr val="ffff00"/>
              </a:solidFill>
              <a:latin typeface="Tahoma"/>
            </a:endParaRPr>
          </a:p>
        </p:txBody>
      </p:sp>
      <p:sp>
        <p:nvSpPr>
          <p:cNvPr id="3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X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O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C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F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16B7E45-617E-4497-B9BC-AE9E8FEC5B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10 What is the circuit called that causes a transmitter to automatically transmit when an operator speaks into its microphone?</a:t>
            </a:r>
            <a:endParaRPr b="1" lang="en-US" sz="3000" spc="-1" strike="noStrike">
              <a:solidFill>
                <a:srgbClr val="ffff00"/>
              </a:solidFill>
              <a:latin typeface="Tahoma"/>
            </a:endParaRPr>
          </a:p>
        </p:txBody>
      </p:sp>
      <p:sp>
        <p:nvSpPr>
          <p:cNvPr id="3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X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VOX</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C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F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B958A9A-1200-4C9E-96CA-5A5BCD3532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11 What is the best reason to use a headset with an attached microphone and VOX control when using a mobile station?</a:t>
            </a:r>
            <a:endParaRPr b="1" lang="en-US" sz="3000" spc="-1" strike="noStrike">
              <a:solidFill>
                <a:srgbClr val="ffff00"/>
              </a:solidFill>
              <a:latin typeface="Tahoma"/>
            </a:endParaRPr>
          </a:p>
        </p:txBody>
      </p:sp>
      <p:sp>
        <p:nvSpPr>
          <p:cNvPr id="3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or safer, hands-free oper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allows you to make quicke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eliminate ambient noise from you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reduce outside distractions while opera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12AF8F2-85C4-4DEC-9C6E-E93547DEBC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11 What is the best reason to use a headset with an attached microphone and VOX control when using a mobile station?</a:t>
            </a:r>
            <a:endParaRPr b="1" lang="en-US" sz="3000" spc="-1" strike="noStrike">
              <a:solidFill>
                <a:srgbClr val="ffff00"/>
              </a:solidFill>
              <a:latin typeface="Tahoma"/>
            </a:endParaRPr>
          </a:p>
        </p:txBody>
      </p:sp>
      <p:sp>
        <p:nvSpPr>
          <p:cNvPr id="3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For safer, hands-free oper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allows you to make quicke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eliminate ambient noise from you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reduce outside distractions while opera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9B376DD-06BE-4516-AC16-BD54B7266A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12 What function does an anti-VOX circuit perform?</a:t>
            </a:r>
            <a:endParaRPr b="1" lang="en-US" sz="3000" spc="-1" strike="noStrike">
              <a:solidFill>
                <a:srgbClr val="ffff00"/>
              </a:solidFill>
              <a:latin typeface="Tahoma"/>
            </a:endParaRPr>
          </a:p>
        </p:txBody>
      </p:sp>
      <p:sp>
        <p:nvSpPr>
          <p:cNvPr id="3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prevents received audio from keying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prevents background noise from keying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prevents unauthorized persons from keying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revents activation of the transmitter during CW op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F3DF978-4FAA-433A-B4C8-C5F51EE5F9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12 What function does an anti-VOX circuit perform?</a:t>
            </a:r>
            <a:endParaRPr b="1" lang="en-US" sz="3000" spc="-1" strike="noStrike">
              <a:solidFill>
                <a:srgbClr val="ffff00"/>
              </a:solidFill>
              <a:latin typeface="Tahoma"/>
            </a:endParaRPr>
          </a:p>
        </p:txBody>
      </p:sp>
      <p:sp>
        <p:nvSpPr>
          <p:cNvPr id="3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prevents received audio from keying the 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prevents background noise from keying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prevents unauthorized persons from keying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revents activation of the transmitter during CW oper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1D61713-A279-424A-AF8C-08CA7F26ADF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5 Which sideband is commonly used for 15-Meter phone operation?</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Upp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9307C29-2771-416A-92F8-6FD0835AD6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E13 Which of the following would indicate the completion of the transmitting of a formal message when using phone?</a:t>
            </a:r>
            <a:endParaRPr b="1" lang="en-US" sz="3000" spc="-1" strike="noStrike">
              <a:solidFill>
                <a:srgbClr val="ffff00"/>
              </a:solidFill>
              <a:latin typeface="Tahoma"/>
            </a:endParaRPr>
          </a:p>
        </p:txBody>
      </p:sp>
      <p:sp>
        <p:nvSpPr>
          <p:cNvPr id="3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hrase, "End of mes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ord "Brea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Q-signal "QS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Q-signal "QRV"</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E01D832-662F-405B-83FA-200D2F381F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E13 Which of the following would indicate the completion of the transmitting of a formal message when using phone?</a:t>
            </a:r>
            <a:endParaRPr b="1" lang="en-US" sz="3000" spc="-1" strike="noStrike">
              <a:solidFill>
                <a:srgbClr val="ffff00"/>
              </a:solidFill>
              <a:latin typeface="Tahoma"/>
            </a:endParaRPr>
          </a:p>
        </p:txBody>
      </p:sp>
      <p:sp>
        <p:nvSpPr>
          <p:cNvPr id="3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phrase, "End of mess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ord "Brea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Q-signal "QS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Q-signal "QRV"</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AD4FB0D-BA24-4687-9000-BB26429678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1 Which of the following describes full break-in telegraphy (QSK)?</a:t>
            </a:r>
            <a:endParaRPr b="1" lang="en-US" sz="3000" spc="-1" strike="noStrike">
              <a:solidFill>
                <a:srgbClr val="ffff00"/>
              </a:solidFill>
              <a:latin typeface="Tahoma"/>
            </a:endParaRPr>
          </a:p>
        </p:txBody>
      </p:sp>
      <p:sp>
        <p:nvSpPr>
          <p:cNvPr id="3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reaking stations send the Morse code prosign B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tomatic keyers are used to send Morse code instead of hand ke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perator must activate a manual send/receive switch before and after every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coming signals are received between transmitted key pul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4F122AA-4F9A-4BEF-B5DD-E04CEFC112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1 Which of the following describes full break-in telegraphy (QSK)?</a:t>
            </a:r>
            <a:endParaRPr b="1" lang="en-US" sz="3000" spc="-1" strike="noStrike">
              <a:solidFill>
                <a:srgbClr val="ffff00"/>
              </a:solidFill>
              <a:latin typeface="Tahoma"/>
            </a:endParaRPr>
          </a:p>
        </p:txBody>
      </p:sp>
      <p:sp>
        <p:nvSpPr>
          <p:cNvPr id="3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reaking stations send the Morse code prosign B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tomatic keyers are used to send Morse code instead of hand ke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perator must activate a manual send/receive switch before and after every transmiss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ncoming signals are received between transmitted key puls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EA3FD86-AB00-42D7-A903-83D9303518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2 In what segment of the 80-meter band do most data transmissions take place?</a:t>
            </a:r>
            <a:endParaRPr b="1" lang="en-US" sz="3000" spc="-1" strike="noStrike">
              <a:solidFill>
                <a:srgbClr val="ffff00"/>
              </a:solidFill>
              <a:latin typeface="Tahoma"/>
            </a:endParaRPr>
          </a:p>
        </p:txBody>
      </p:sp>
      <p:sp>
        <p:nvSpPr>
          <p:cNvPr id="3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580 - 362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500 - 3525-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700 - 37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775 - 3825-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99F25FD-CB44-4A00-A4E3-AF0260EFD6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2 In what segment of the 80-meter band do most data transmissions take place?</a:t>
            </a:r>
            <a:endParaRPr b="1" lang="en-US" sz="3000" spc="-1" strike="noStrike">
              <a:solidFill>
                <a:srgbClr val="ffff00"/>
              </a:solidFill>
              <a:latin typeface="Tahoma"/>
            </a:endParaRPr>
          </a:p>
        </p:txBody>
      </p:sp>
      <p:sp>
        <p:nvSpPr>
          <p:cNvPr id="3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3580 - 362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500 - 3525-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700 - 37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775 - 3825-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7E3D04B-95DC-4C76-9D1A-A9252DFD08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3 In what segment of the 20-meter band do most RTTY transmissions take place?</a:t>
            </a:r>
            <a:endParaRPr b="1" lang="en-US" sz="3000" spc="-1" strike="noStrike">
              <a:solidFill>
                <a:srgbClr val="ffff00"/>
              </a:solidFill>
              <a:latin typeface="Tahoma"/>
            </a:endParaRPr>
          </a:p>
        </p:txBody>
      </p:sp>
      <p:sp>
        <p:nvSpPr>
          <p:cNvPr id="3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000 - 14.0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070 - 14.09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150 - 14.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275 - 14.35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08B5FC2-3BC6-4359-921A-22FF6DF061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3 In what segment of the 20-meter band do most RTTY transmissions take place?</a:t>
            </a:r>
            <a:endParaRPr b="1" lang="en-US" sz="3000" spc="-1" strike="noStrike">
              <a:solidFill>
                <a:srgbClr val="ffff00"/>
              </a:solidFill>
              <a:latin typeface="Tahoma"/>
            </a:endParaRPr>
          </a:p>
        </p:txBody>
      </p:sp>
      <p:sp>
        <p:nvSpPr>
          <p:cNvPr id="3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000 - 14.05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4.070 - 14.095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150 - 14.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275 - 14.35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DDC964D-AABA-4D2B-BD15-BE8221432D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4 Which of the following is NOT correct?</a:t>
            </a:r>
            <a:endParaRPr b="1" lang="en-US" sz="3000" spc="-1" strike="noStrike">
              <a:solidFill>
                <a:srgbClr val="ffff00"/>
              </a:solidFill>
              <a:latin typeface="Tahoma"/>
            </a:endParaRPr>
          </a:p>
        </p:txBody>
      </p:sp>
      <p:sp>
        <p:nvSpPr>
          <p:cNvPr id="3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CII is a 7-bit code, with start, stop and parity b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benefit of using AMTOR is its error detection and correction propert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audot is a 5-bit code, with additional start and stop b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wo major AMTOR operating modes are SELCAL and LISTE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04BE435-3719-4766-86CF-A169DD8F118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4 Which of the following is NOT correct?</a:t>
            </a:r>
            <a:endParaRPr b="1" lang="en-US" sz="3000" spc="-1" strike="noStrike">
              <a:solidFill>
                <a:srgbClr val="ffff00"/>
              </a:solidFill>
              <a:latin typeface="Tahoma"/>
            </a:endParaRPr>
          </a:p>
        </p:txBody>
      </p:sp>
      <p:sp>
        <p:nvSpPr>
          <p:cNvPr id="3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CII is a 7-bit code, with start, stop and parity b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benefit of using AMTOR is its error detection and correction propert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audot is a 5-bit code, with additional start and stop bi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two major AMTOR operating modes are SELCAL and LISTE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DA4B5AF-830A-435C-BD15-D925EBF241B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6 Which sideband is commonly used for 17-Meter phone operation?</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8C88BB8-E5C0-43BB-89E3-A53428296F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5 What is the most common frequency shift for RTTY emissions in the amateur HF bands?</a:t>
            </a:r>
            <a:endParaRPr b="1" lang="en-US" sz="3000" spc="-1" strike="noStrike">
              <a:solidFill>
                <a:srgbClr val="ffff00"/>
              </a:solidFill>
              <a:latin typeface="Tahoma"/>
            </a:endParaRPr>
          </a:p>
        </p:txBody>
      </p:sp>
      <p:sp>
        <p:nvSpPr>
          <p:cNvPr id="3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5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7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5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850 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5195168-56A1-47E6-9510-C4654B8FA0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5 What is the most common frequency shift for RTTY emissions in the amateur HF bands?</a:t>
            </a:r>
            <a:endParaRPr b="1" lang="en-US" sz="3000" spc="-1" strike="noStrike">
              <a:solidFill>
                <a:srgbClr val="ffff00"/>
              </a:solidFill>
              <a:latin typeface="Tahoma"/>
            </a:endParaRPr>
          </a:p>
        </p:txBody>
      </p:sp>
      <p:sp>
        <p:nvSpPr>
          <p:cNvPr id="4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5 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70 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5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850 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EE00DDB-4ADE-46CE-B05E-11EC26CA00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6 Why are the string of letters R and Y (sent as "RYRYRYRY...") occasionally used at the beginning of RTTY or other data transmissions?</a:t>
            </a:r>
            <a:endParaRPr b="1" lang="en-US" sz="3000" spc="-1" strike="noStrike">
              <a:solidFill>
                <a:srgbClr val="ffff00"/>
              </a:solidFill>
              <a:latin typeface="Tahoma"/>
            </a:endParaRPr>
          </a:p>
        </p:txBody>
      </p:sp>
      <p:sp>
        <p:nvSpPr>
          <p:cNvPr id="4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is allows time to 'tune in' a station prior to the actual message being s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keep these commonly-used keys functio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se are the important mark and space ke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make sure the transmitter is functional before sending a mess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CFC23A9-1E36-4CED-A3E3-B9B52680A3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6 Why are the string of letters R and Y (sent as "RYRYRYRY...") occasionally used at the beginning of RTTY or other data transmissions?</a:t>
            </a:r>
            <a:endParaRPr b="1" lang="en-US" sz="3000" spc="-1" strike="noStrike">
              <a:solidFill>
                <a:srgbClr val="ffff00"/>
              </a:solidFill>
              <a:latin typeface="Tahoma"/>
            </a:endParaRPr>
          </a:p>
        </p:txBody>
      </p:sp>
      <p:sp>
        <p:nvSpPr>
          <p:cNvPr id="4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is allows time to 'tune in' a station prior to the actual message being s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keep these commonly-used keys functio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se are the important mark and space ke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make sure the transmitter is functional before sending a mess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30241D15-DD77-4421-9057-FE674CE574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7 What does the abbreviation "RTTY" stand for?</a:t>
            </a:r>
            <a:endParaRPr b="1" lang="en-US" sz="3000" spc="-1" strike="noStrike">
              <a:solidFill>
                <a:srgbClr val="ffff00"/>
              </a:solidFill>
              <a:latin typeface="Tahoma"/>
            </a:endParaRPr>
          </a:p>
        </p:txBody>
      </p:sp>
      <p:sp>
        <p:nvSpPr>
          <p:cNvPr id="4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turning to you", meaning "your turn to transm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adioteletyp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general call to all digital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se code practice over the ai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5E65817-A4F3-49C4-AE4F-5B1A9F6C83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7 What does the abbreviation "RTTY" stand for?</a:t>
            </a:r>
            <a:endParaRPr b="1" lang="en-US" sz="3000" spc="-1" strike="noStrike">
              <a:solidFill>
                <a:srgbClr val="ffff00"/>
              </a:solidFill>
              <a:latin typeface="Tahoma"/>
            </a:endParaRPr>
          </a:p>
        </p:txBody>
      </p:sp>
      <p:sp>
        <p:nvSpPr>
          <p:cNvPr id="4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turning to you", meaning "your turn to transmi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adioteletyp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general call to all digital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se code practice over the ai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948E420-3850-48F4-BFD9-87FFD1B076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8 What prosign is sent using CW to indicate the end of a formal message?</a:t>
            </a:r>
            <a:endParaRPr b="1" lang="en-US" sz="3000" spc="-1" strike="noStrike">
              <a:solidFill>
                <a:srgbClr val="ffff00"/>
              </a:solidFill>
              <a:latin typeface="Tahoma"/>
            </a:endParaRPr>
          </a:p>
        </p:txBody>
      </p:sp>
      <p:sp>
        <p:nvSpPr>
          <p:cNvPr id="4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K - I acknowled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K - brea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R - end of mes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KN - called station only, go ahea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79FB746-69A1-40D5-90F2-1271B275B3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8 What prosign is sent using CW to indicate the end of a formal message?</a:t>
            </a:r>
            <a:endParaRPr b="1" lang="en-US" sz="3000" spc="-1" strike="noStrike">
              <a:solidFill>
                <a:srgbClr val="ffff00"/>
              </a:solidFill>
              <a:latin typeface="Tahoma"/>
            </a:endParaRPr>
          </a:p>
        </p:txBody>
      </p:sp>
      <p:sp>
        <p:nvSpPr>
          <p:cNvPr id="4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K - I acknowled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K - brea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R - end of mess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KN - called station only, go ahea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BBF34C2-19A2-4505-9737-E750E2A58B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09 What character sequence is sent using RTTY or other data modes to indicate the end of a formal message?</a:t>
            </a:r>
            <a:endParaRPr b="1" lang="en-US" sz="3000" spc="-1" strike="noStrike">
              <a:solidFill>
                <a:srgbClr val="ffff00"/>
              </a:solidFill>
              <a:latin typeface="Tahoma"/>
            </a:endParaRPr>
          </a:p>
        </p:txBody>
      </p:sp>
      <p:sp>
        <p:nvSpPr>
          <p:cNvPr id="4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ZC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KKK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XXXXX</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NN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108CBAB-6975-4E3C-94A1-C350C32EDC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09 What character sequence is sent using RTTY or other data modes to indicate the end of a formal message?</a:t>
            </a:r>
            <a:endParaRPr b="1" lang="en-US" sz="3000" spc="-1" strike="noStrike">
              <a:solidFill>
                <a:srgbClr val="ffff00"/>
              </a:solidFill>
              <a:latin typeface="Tahoma"/>
            </a:endParaRPr>
          </a:p>
        </p:txBody>
      </p:sp>
      <p:sp>
        <p:nvSpPr>
          <p:cNvPr id="4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ZC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KKK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XXXXX</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NNN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398E8282-784C-45A2-8CDD-542D05E5C8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6 Which sideband is commonly used for 17-Meter phone operation?</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Upp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19459B4-49C0-4A7B-BA68-8A9528E90A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10 How many data bits are sent in a single PSK31 character?</a:t>
            </a:r>
            <a:endParaRPr b="1" lang="en-US" sz="3000" spc="-1" strike="noStrike">
              <a:solidFill>
                <a:srgbClr val="ffff00"/>
              </a:solidFill>
              <a:latin typeface="Tahoma"/>
            </a:endParaRPr>
          </a:p>
        </p:txBody>
      </p:sp>
      <p:sp>
        <p:nvSpPr>
          <p:cNvPr id="4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number var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8</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179B5AB-B8DF-4484-90CE-EAA4DB2A0C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10 How many data bits are sent in a single PSK31 character?</a:t>
            </a:r>
            <a:endParaRPr b="1" lang="en-US" sz="3000" spc="-1" strike="noStrike">
              <a:solidFill>
                <a:srgbClr val="ffff00"/>
              </a:solidFill>
              <a:latin typeface="Tahoma"/>
            </a:endParaRPr>
          </a:p>
        </p:txBody>
      </p:sp>
      <p:sp>
        <p:nvSpPr>
          <p:cNvPr id="4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number vari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8</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04BDBF3-5E49-41DA-A938-42EBE2BB48D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F11 What part of a data packet contains the routing and handling information?</a:t>
            </a:r>
            <a:endParaRPr b="1" lang="en-US" sz="3000" spc="-1" strike="noStrike">
              <a:solidFill>
                <a:srgbClr val="ffff00"/>
              </a:solidFill>
              <a:latin typeface="Tahoma"/>
            </a:endParaRPr>
          </a:p>
        </p:txBody>
      </p:sp>
      <p:sp>
        <p:nvSpPr>
          <p:cNvPr id="4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recto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ream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Hea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o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72AB7FF-E4AF-42F4-AE54-DE408BB403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F11 What part of a data packet contains the routing and handling information?</a:t>
            </a:r>
            <a:endParaRPr b="1" lang="en-US" sz="3000" spc="-1" strike="noStrike">
              <a:solidFill>
                <a:srgbClr val="ffff00"/>
              </a:solidFill>
              <a:latin typeface="Tahoma"/>
            </a:endParaRPr>
          </a:p>
        </p:txBody>
      </p:sp>
      <p:sp>
        <p:nvSpPr>
          <p:cNvPr id="4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recto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reamb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Head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o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F52A007-20EB-42F7-84CE-B3CF27E01384}" type="slidenum">
              <a:t>15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7 Which of the following modes of voice communication is most commonly used on the High Frequency Amateur bands?</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odulation (F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plitude modulation (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ngle sideband (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ase modulation (P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73734B1-F96C-41EC-9E09-2AF6FB8462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7 Which of the following modes of voice communication is most commonly used on the High Frequency Amateur bands?</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odulation (F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plitude modulation (A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ingle sideband (SSB)</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ase modulation (P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5E3DC17-E393-40D4-A54B-401A5A1071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8 Why is the single sideband mode of voice transmission used more frequently than Amplitude Modulation (AM) on the HF amateur bands?</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ngle sideband transmissions use less spectrum sp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ingle sideband transmissions are more power effici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carrier is transmitted with a single sideband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AEDA54C-3E1D-4EE2-BCC2-DD025409A7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8 Why is the single sideband mode of voice transmission used more frequently than Amplitude Modulation (AM) on the HF amateur bands?</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ngle sideband transmissions use less spectrum sp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ingle sideband transmissions are more power effici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carrier is transmitted with a single sideband transmiss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22BAA6A-73BA-489B-8BEA-947073B6BA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plitude Modulation</a:t>
            </a:r>
            <a:endParaRPr b="1" lang="en-US" sz="3000" spc="-1" strike="noStrike">
              <a:solidFill>
                <a:srgbClr val="ffff00"/>
              </a:solidFill>
              <a:latin typeface="Tahoma"/>
            </a:endParaRPr>
          </a:p>
        </p:txBody>
      </p:sp>
      <p:pic>
        <p:nvPicPr>
          <p:cNvPr id="108" name="" descr=""/>
          <p:cNvPicPr/>
          <p:nvPr/>
        </p:nvPicPr>
        <p:blipFill>
          <a:blip r:embed="rId1"/>
          <a:stretch/>
        </p:blipFill>
        <p:spPr>
          <a:xfrm>
            <a:off x="685800" y="4038480"/>
            <a:ext cx="3286080" cy="2286000"/>
          </a:xfrm>
          <a:prstGeom prst="rect">
            <a:avLst/>
          </a:prstGeom>
          <a:ln w="0">
            <a:noFill/>
          </a:ln>
        </p:spPr>
      </p:pic>
      <p:pic>
        <p:nvPicPr>
          <p:cNvPr id="109" name="" descr=""/>
          <p:cNvPicPr/>
          <p:nvPr/>
        </p:nvPicPr>
        <p:blipFill>
          <a:blip r:embed="rId2"/>
          <a:stretch/>
        </p:blipFill>
        <p:spPr>
          <a:xfrm>
            <a:off x="685800" y="1600200"/>
            <a:ext cx="3286080" cy="2300400"/>
          </a:xfrm>
          <a:prstGeom prst="rect">
            <a:avLst/>
          </a:prstGeom>
          <a:ln w="0">
            <a:noFill/>
          </a:ln>
        </p:spPr>
      </p:pic>
      <p:sp>
        <p:nvSpPr>
          <p:cNvPr id="110" name=""/>
          <p:cNvSpPr/>
          <p:nvPr/>
        </p:nvSpPr>
        <p:spPr>
          <a:xfrm>
            <a:off x="3909960" y="1833480"/>
            <a:ext cx="439128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unmodulated R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rier requires narr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ndwidth</a:t>
            </a:r>
            <a:endParaRPr b="0" lang="en-US" sz="2400" spc="-1" strike="noStrike">
              <a:solidFill>
                <a:srgbClr val="ffffff"/>
              </a:solidFill>
              <a:latin typeface="Arial"/>
            </a:endParaRPr>
          </a:p>
        </p:txBody>
      </p:sp>
      <p:sp>
        <p:nvSpPr>
          <p:cNvPr id="111" name=""/>
          <p:cNvSpPr/>
          <p:nvPr/>
        </p:nvSpPr>
        <p:spPr>
          <a:xfrm>
            <a:off x="4419720" y="4038480"/>
            <a:ext cx="434952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ulation of the carri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s sidebands. Th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s more bandwidt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mitter power is spread across this bandwidth</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Operating Procedures</a:t>
            </a:r>
          </a:p>
        </p:txBody>
      </p:sp>
      <p:sp>
        <p:nvSpPr>
          <p:cNvPr id="4" name="PlaceHolder 3"/>
          <p:cNvSpPr>
            <a:spLocks noGrp="1"/>
          </p:cNvSpPr>
          <p:nvPr>
            <p:ph type="sldNum" idx="2"/>
          </p:nvPr>
        </p:nvSpPr>
        <p:spPr/>
        <p:txBody>
          <a:bodyPr/>
          <a:p>
            <a:fld id="{1A0AE7EA-5C07-4D0B-AE2D-1F09F0B39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9 Which of the following statements is true of a lower sideband transmission?</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called lower sideband because the lower sideband is greatly attenuated</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called lower sideband because the lower sideband is the only sideband transmitted, since the upper sideband is suppressed</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lower sideband is wider than the upper sideband</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lower sideband is the only sideband that is authorized on the 160-, 75- and 40-meter amateu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61301CA-E59D-44E1-B631-FCE5BE783E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9 Which of the following statements is true of a lower sideband transmission?</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called lower sideband because the lower sideband is greatly attenua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is called lower sideband because the lower sideband is the only sideband transmitted, since the upper sideband is suppressed</a:t>
            </a:r>
            <a:endParaRPr b="1" lang="en-US" sz="2600" spc="-1" strike="noStrike">
              <a:solidFill>
                <a:srgbClr val="ffff00"/>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lower sideband is wider than the upper sideband</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lower sideband is the only sideband that is authorized on the 160-, 75- and 40-meter amateu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06567313-BEDB-4D7F-BDBE-75AF035D82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10 Which of the following statements is true of an upper sideband transmission?</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the upper sideband is transmitted, since the lower sideband is suppress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upper sideband is greatly attenuated as compared with the carr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upper sideband is greatly attenuated as compared with the low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e upper sideband may be used for phone transmissions on the amateur bands with frequencies above 1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E1DB705-DE5D-4BA9-802C-F0B052596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10 Which of the following statements is true of an upper sideband transmission?</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Only the upper sideband is transmitted, since the lower sideband is suppress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upper sideband is greatly attenuated as compared with the carr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upper sideband is greatly attenuated as compared with the low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e upper sideband may be used for phone transmissions on the amateur bands with frequencies above 1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D490B66-3E80-4690-AE38-A7C9FA3028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11 Why do most amateur stations use lower sideband on the 160-, 75- and 40-meter bands?</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ower sideband is more efficient at these frequency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ower sideband is the only sideband legal on these frequency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it is fully compatible with an AM detec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urrent amateur practice is to use lower sideband on these frequency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34AA1A9-240B-414C-B241-2C11215C0C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11 Why do most amateur stations use lower sideband on the 160-, 75- and 40-meter bands?</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ower sideband is more efficient at these frequency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ower sideband is the only sideband legal on these frequency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it is fully compatible with an AM detec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urrent amateur practice is to use lower sideband on these frequency band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2D7E137-3BC5-41A2-8E18-0509225859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1 If you are the net control station of a daily HF net, what should you do if the frequency on which you normally meet is in use just before the net begins?</a:t>
            </a:r>
            <a:endParaRPr b="1" lang="en-US" sz="3000" spc="-1" strike="noStrike">
              <a:solidFill>
                <a:srgbClr val="ffff00"/>
              </a:solidFill>
              <a:latin typeface="Tahoma"/>
            </a:endParaRPr>
          </a:p>
        </p:txBody>
      </p:sp>
      <p:sp>
        <p:nvSpPr>
          <p:cNvPr id="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duce your output power and start the net as usu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crease your power output so that net participants will be able to hear you over the existing activ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nduct the net on a clear frequency 3 to 5-kHz away from the regular ne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ncel the net for that da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319B66E-7131-49CF-8294-7B39E4239D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1 If you are the net control station of a daily HF net, what should you do if the frequency on which you normally meet is in use just before the net begins?</a:t>
            </a:r>
            <a:endParaRPr b="1" lang="en-US" sz="3000" spc="-1" strike="noStrike">
              <a:solidFill>
                <a:srgbClr val="ffff00"/>
              </a:solidFill>
              <a:latin typeface="Tahoma"/>
            </a:endParaRPr>
          </a:p>
        </p:txBody>
      </p:sp>
      <p:sp>
        <p:nvSpPr>
          <p:cNvPr id="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duce your output power and start the net as usu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crease your power output so that net participants will be able to hear you over the existing activit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onduct the net on a clear frequency 3 to 5-kHz away from the regular net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ncel the net for that da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B65E2AD-9F1C-473C-A830-489D3122F3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2 If a net is about to begin on a frequency which you and another station are using, what should you do?</a:t>
            </a:r>
            <a:endParaRPr b="1" lang="en-US" sz="3000" spc="-1" strike="noStrike">
              <a:solidFill>
                <a:srgbClr val="ffff00"/>
              </a:solidFill>
              <a:latin typeface="Tahoma"/>
            </a:endParaRPr>
          </a:p>
        </p:txBody>
      </p:sp>
      <p:sp>
        <p:nvSpPr>
          <p:cNvPr id="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a courtesy to the net, move to a differen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crease your power output to ensure that all net participants can hear you</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 as long as possible on the frequency so that no other stations may use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ff your ra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C054E29-FCA2-4E64-8559-2A15FDE58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2 If a net is about to begin on a frequency which you and another station are using, what should you do?</a:t>
            </a:r>
            <a:endParaRPr b="1" lang="en-US" sz="3000" spc="-1" strike="noStrike">
              <a:solidFill>
                <a:srgbClr val="ffff00"/>
              </a:solidFill>
              <a:latin typeface="Tahoma"/>
            </a:endParaRPr>
          </a:p>
        </p:txBody>
      </p:sp>
      <p:sp>
        <p:nvSpPr>
          <p:cNvPr id="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s a courtesy to the net, move to a different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crease your power output to ensure that all net participants can hear you</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 as long as possible on the frequency so that no other stations may use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ff your ra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1CC1515-7E30-4050-B3EF-48B366EC33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0"/>
            <a:ext cx="883944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 and SSB</a:t>
            </a:r>
            <a:endParaRPr b="1" lang="en-US" sz="3000" spc="-1" strike="noStrike">
              <a:solidFill>
                <a:srgbClr val="ffff00"/>
              </a:solidFill>
              <a:latin typeface="Tahoma"/>
            </a:endParaRPr>
          </a:p>
        </p:txBody>
      </p:sp>
      <p:grpSp>
        <p:nvGrpSpPr>
          <p:cNvPr id="113" name=""/>
          <p:cNvGrpSpPr/>
          <p:nvPr/>
        </p:nvGrpSpPr>
        <p:grpSpPr>
          <a:xfrm>
            <a:off x="762120" y="1752480"/>
            <a:ext cx="3514680" cy="2552760"/>
            <a:chOff x="762120" y="1752480"/>
            <a:chExt cx="3514680" cy="2552760"/>
          </a:xfrm>
        </p:grpSpPr>
        <p:pic>
          <p:nvPicPr>
            <p:cNvPr id="114" name="" descr=""/>
            <p:cNvPicPr/>
            <p:nvPr/>
          </p:nvPicPr>
          <p:blipFill>
            <a:blip r:embed="rId1"/>
            <a:stretch/>
          </p:blipFill>
          <p:spPr>
            <a:xfrm>
              <a:off x="762120" y="1752480"/>
              <a:ext cx="3514680" cy="2552760"/>
            </a:xfrm>
            <a:prstGeom prst="rect">
              <a:avLst/>
            </a:prstGeom>
            <a:ln w="0">
              <a:noFill/>
            </a:ln>
          </p:spPr>
        </p:pic>
        <p:grpSp>
          <p:nvGrpSpPr>
            <p:cNvPr id="115" name=""/>
            <p:cNvGrpSpPr/>
            <p:nvPr/>
          </p:nvGrpSpPr>
          <p:grpSpPr>
            <a:xfrm>
              <a:off x="1904760" y="3352680"/>
              <a:ext cx="457560" cy="380880"/>
              <a:chOff x="1904760" y="3352680"/>
              <a:chExt cx="457560" cy="380880"/>
            </a:xfrm>
          </p:grpSpPr>
          <p:sp>
            <p:nvSpPr>
              <p:cNvPr id="116" name=""/>
              <p:cNvSpPr/>
              <p:nvPr/>
            </p:nvSpPr>
            <p:spPr>
              <a:xfrm>
                <a:off x="1905120" y="335268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H="1">
                <a:off x="1904760" y="335268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 name=""/>
            <p:cNvGrpSpPr/>
            <p:nvPr/>
          </p:nvGrpSpPr>
          <p:grpSpPr>
            <a:xfrm>
              <a:off x="2286000" y="2742840"/>
              <a:ext cx="457200" cy="380880"/>
              <a:chOff x="2286000" y="2742840"/>
              <a:chExt cx="457200" cy="380880"/>
            </a:xfrm>
          </p:grpSpPr>
          <p:sp>
            <p:nvSpPr>
              <p:cNvPr id="119" name=""/>
              <p:cNvSpPr/>
              <p:nvPr/>
            </p:nvSpPr>
            <p:spPr>
              <a:xfrm flipH="1">
                <a:off x="2361600" y="274284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286000" y="274284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
          <p:cNvSpPr/>
          <p:nvPr/>
        </p:nvSpPr>
        <p:spPr>
          <a:xfrm>
            <a:off x="4495680" y="1676520"/>
            <a:ext cx="413388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arrier contains n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dio inform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idebands conta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plicate audio information</a:t>
            </a:r>
            <a:endParaRPr b="0" lang="en-US" sz="2400" spc="-1" strike="noStrike">
              <a:solidFill>
                <a:srgbClr val="ffffff"/>
              </a:solidFill>
              <a:latin typeface="Arial"/>
            </a:endParaRPr>
          </a:p>
        </p:txBody>
      </p:sp>
      <p:sp>
        <p:nvSpPr>
          <p:cNvPr id="122" name=""/>
          <p:cNvSpPr/>
          <p:nvPr/>
        </p:nvSpPr>
        <p:spPr>
          <a:xfrm>
            <a:off x="838080" y="4572000"/>
            <a:ext cx="776304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filtering out the carrier and one sideband, we save spectrum and concentrate our RF energy into a narrower bandwidth.  SSB is therefore more efficient.</a:t>
            </a:r>
            <a:endParaRPr b="0" lang="en-US" sz="2400" spc="-1" strike="noStrike">
              <a:solidFill>
                <a:srgbClr val="ffffff"/>
              </a:solidFill>
              <a:latin typeface="Arial"/>
            </a:endParaRPr>
          </a:p>
        </p:txBody>
      </p:sp>
      <p:pic>
        <p:nvPicPr>
          <p:cNvPr id="123" name="" descr=""/>
          <p:cNvPicPr/>
          <p:nvPr/>
        </p:nvPicPr>
        <p:blipFill>
          <a:blip r:embed="rId2"/>
          <a:stretch/>
        </p:blipFill>
        <p:spPr>
          <a:xfrm>
            <a:off x="4648320" y="3962520"/>
            <a:ext cx="304560" cy="304560"/>
          </a:xfrm>
          <a:prstGeom prst="rect">
            <a:avLst/>
          </a:prstGeom>
          <a:ln w="0">
            <a:noFill/>
          </a:ln>
        </p:spPr>
      </p:pic>
      <p:sp>
        <p:nvSpPr>
          <p:cNvPr id="124" name=""/>
          <p:cNvSpPr/>
          <p:nvPr/>
        </p:nvSpPr>
        <p:spPr>
          <a:xfrm>
            <a:off x="5029200" y="396252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Slashed"/>
              </a:rPr>
              <a:t>EI0CL from N0OB on SSB</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Operating Procedures</a:t>
            </a:r>
          </a:p>
        </p:txBody>
      </p:sp>
      <p:sp>
        <p:nvSpPr>
          <p:cNvPr id="4" name="PlaceHolder 3"/>
          <p:cNvSpPr>
            <a:spLocks noGrp="1"/>
          </p:cNvSpPr>
          <p:nvPr>
            <p:ph type="sldNum" idx="2"/>
          </p:nvPr>
        </p:nvSpPr>
        <p:spPr/>
        <p:txBody>
          <a:bodyPr/>
          <a:p>
            <a:fld id="{BD928D5C-48E6-470B-B18B-9CB493343C71}"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252"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3 If propagation changes during your contact and you notice increasing interference from other activity on the same frequency, what should you do?</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ll the interfering stations to change frequency, since you were there fir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port the interference to your local Amateur Auxiliary Coord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ove your contact to another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n your amplifier to overcome the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17B274F-82A6-4A34-8AE4-7CBAF90E75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3 If propagation changes during your contact and you notice increasing interference from other activity on the same frequency, what should you do?</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ll the interfering stations to change frequency, since you were there fir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port the interference to your local Amateur Auxiliary Coordin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Move your contact to another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n your amplifier to overcome the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90EE583-13C1-42D4-AF96-097A0F3B05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4 When selecting a CW transmitting frequency, what minimum frequency separation from a contact in progress should you allow to minimize interference?</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 to 5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 to 50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 to 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 to 6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0A10623-09F3-4901-9379-5D88052021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4 When selecting a CW transmitting frequency, what minimum frequency separation from a contact in progress should you allow to minimize interference?</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 to 50 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50 to 500 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 to 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 to 6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DB769CF-96BA-406F-BA99-0B87A2A98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5 When selecting a single-sideband phone transmitting frequency, what minimum frequency separation from a contact in progress should you allow (between suppressed carriers) to minimize interference?</a:t>
            </a:r>
            <a:endParaRPr b="1" lang="en-US" sz="3000" spc="-1" strike="noStrike">
              <a:solidFill>
                <a:srgbClr val="ffff00"/>
              </a:solidFill>
              <a:latin typeface="Tahoma"/>
            </a:endParaRPr>
          </a:p>
        </p:txBody>
      </p:sp>
      <p:sp>
        <p:nvSpPr>
          <p:cNvPr id="186"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 to 50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pproximately 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6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1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CDF6CE6-3F51-4127-BE3D-F8095DF463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5 When selecting a single-sideband phone transmitting frequency, what minimum frequency separation from a contact in progress should you allow (between suppressed carriers) to minimize interference?</a:t>
            </a:r>
            <a:endParaRPr b="1" lang="en-US" sz="3000" spc="-1" strike="noStrike">
              <a:solidFill>
                <a:srgbClr val="ffff00"/>
              </a:solidFill>
              <a:latin typeface="Tahoma"/>
            </a:endParaRPr>
          </a:p>
        </p:txBody>
      </p:sp>
      <p:sp>
        <p:nvSpPr>
          <p:cNvPr id="188"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 to 500 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pproximately 3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6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1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DFBF38F-7876-464C-9802-82B25A8EB5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6 When selecting a RTTY transmitting frequency, what minimum frequency separation from a contact in progress should you allow (center to center) to minimize interference?</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50 to 50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6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B5AF690-3D35-4456-A8EA-33222B0C96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6 When selecting a RTTY transmitting frequency, what minimum frequency separation from a contact in progress should you allow (center to center) to minimize interference?</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 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250 to 500 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pproximately 3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pproximately 6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FAD0D80-5864-409F-B538-3C14D2011A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7 What is a band plan?</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voluntary guideline beyond the divisions established by the FCC for using different operating modes within an amateu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guideline from the FCC for making amateur frequency band al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plan of operating schedules within an amateur band publish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lan devised by a club to best use a frequency band during a contes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27FA7D7-E97D-432F-88BC-232BDD5AC5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7 What is a band plan?</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voluntary guideline beyond the divisions established by the FCC for using different operating modes within an amateur ba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guideline from the FCC for making amateur frequency band al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plan of operating schedules within an amateur band publish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lan devised by a club to best use a frequency band during a contes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8C935D0-98C8-41D6-A95A-383F0ED7F9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1 Which sideband is commonly used for 20-meter phone operation?</a:t>
            </a: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E394B24-D4E3-4235-81D5-9AEBDA5034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8 What is another name for a voluntary guideline that guides amateur activities and extends beyond the divisions established by the FCC for using different operating modes within an amateur band?</a:t>
            </a:r>
            <a:endParaRPr b="1" lang="en-US" sz="3000" spc="-1" strike="noStrike">
              <a:solidFill>
                <a:srgbClr val="ffff00"/>
              </a:solidFill>
              <a:latin typeface="Tahoma"/>
            </a:endParaRPr>
          </a:p>
        </p:txBody>
      </p:sp>
      <p:sp>
        <p:nvSpPr>
          <p:cNvPr id="198"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and Pla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Frequency and Solar Cycle Gui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Knowledgeable Operator's Gui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Use Guidebook"</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BC46351-3483-4B29-94CC-2E0A9AD265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8 What is another name for a voluntary guideline that guides amateur activities and extends beyond the divisions established by the FCC for using different operating modes within an amateur band?</a:t>
            </a:r>
            <a:endParaRPr b="1" lang="en-US" sz="3000" spc="-1" strike="noStrike">
              <a:solidFill>
                <a:srgbClr val="ffff00"/>
              </a:solidFill>
              <a:latin typeface="Tahoma"/>
            </a:endParaRPr>
          </a:p>
        </p:txBody>
      </p:sp>
      <p:sp>
        <p:nvSpPr>
          <p:cNvPr id="200"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Band Pla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Frequency and Solar Cycle Gui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Knowledgeable Operator's Gui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Use Guidebook"</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AB92AB2-BE92-4105-91D5-F84457E2B9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09 When choosing a frequency for Slow-Scan TV (SSTV) operation, what should you do to comply with good amateur practice?</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view FCC Part 97 Rules regarding permitted frequencies and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llow generally accepted gentlemen's agreement band pl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fore transmitting, listen to the frequency to be used to avoid interfering with an ongoing 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29E23C8-1251-42AF-94DD-7B84B1C5FC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09 When choosing a frequency for Slow-Scan TV (SSTV) operation, what should you do to comply with good amateur practice?</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view FCC Part 97 Rules regarding permitted frequencies and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llow generally accepted gentlemen's agreement band pl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fore transmitting, listen to the frequency to be used to avoid interfering with an ongoing communic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D921F2E-336C-474C-8B62-2B7B1870BD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10 When choosing a frequency for radioteletype (RTTY) operation, what should you do to comply with good amateur practice?</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view FCC Part 97 Rules regarding permitted frequencies and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llow generally accepted gentlemen's agreement band pl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fore transmitting, first listen to the frequency to be used to avoid interfering with an ongoing 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0DF78F6-802F-4DD4-8537-DAE5044519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10 When choosing a frequency for radioteletype (RTTY) operation, what should you do to comply with good amateur practice?</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view FCC Part 97 Rules regarding permitted frequencies and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llow generally accepted gentlemen's agreement band pl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fore transmitting, first listen to the frequency to be used to avoid interfering with an ongoing communic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5606AE9-2209-430D-A8DA-D15B6BAF84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11 When choosing a frequency for HF Packet operation, what should you do to comply with good amateur practice?</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view FCC Part 97 Rules regarding permitted frequencies and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llow generally accepted gentlemen's agreement band pl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fore transmitting, first listen on the frequency to be used to avoid interfering with an ongoing 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05118D26-2FB5-470D-8B15-433F99CEE7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11 When choosing a frequency for HF Packet operation, what should you do to comply with good amateur practice?</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view FCC Part 97 Rules regarding permitted frequencies and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llow generally accepted gentlemen's agreement band pl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fore transmitting, first listen on the frequency to be used to avoid interfering with an ongoing communic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1D85117D-27E5-4E2B-9F62-E6B76832AD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12 What is a considerate way to avoid harmful interference when using phone?</a:t>
            </a:r>
            <a:endParaRPr b="1" lang="en-US" sz="3000" spc="-1" strike="noStrike">
              <a:solidFill>
                <a:srgbClr val="ffff00"/>
              </a:solidFill>
              <a:latin typeface="Tahoma"/>
            </a:endParaRPr>
          </a:p>
        </p:txBody>
      </p:sp>
      <p:sp>
        <p:nvSpPr>
          <p:cNvPr id="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k if the frequency is in use, and say 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ll MAYDAY to make sure that the frequency is cl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 CQ for two minutes and see if anyone resp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n your amplifier, then go ahead and trans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9E8E039-7C0C-4763-B6AB-18760F6A31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12 What is a considerate way to avoid harmful interference when using phone?</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sk if the frequency is in use, and say your call 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ll MAYDAY to make sure that the frequency is cl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 CQ for two minutes and see if anyone resp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n your amplifier, then go ahead and trans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6617A3B-4CBC-41AB-A938-DACC4ED143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1 Which sideband is commonly used for 20-meter phone operation?</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Upp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4ECD7CA-840B-4609-BD45-AA4CDDC5C1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B13 What is a considerate way to avoid harmful interference when using Morse code or CW?</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nd the letter "V" 12 times and then listen for a respo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ll CQ for two minutes and see if anyone resp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end "QRL? de" followed by your call sign and listen for a respo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n your amplifier, then go ahead and trans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150EC47C-57C3-4F59-851D-FA6E03254A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B13 What is a considerate way to avoid harmful interference when using Morse code or CW?</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nd the letter "V" 12 times and then listen for a respo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ll CQ for two minutes and see if anyone respon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end "QRL? de" followed by your call sign and listen for a respon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n your amplifier, then go ahead and trans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1404557-3DF8-45BF-A5BC-D79FD4ED02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1 What means may an amateur station in distress use to attract attention, make known its condition and location, and obtain assistance?</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Morse code signals sent on internationally recognized emergency chann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 means of radiocommunication, but only on internationally recognized emergency chann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means of radio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ose means of radiocommunication for which the station is licen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7DFC376-2ABD-4FD3-96E6-74378D695D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1 What means may an amateur station in distress use to attract attention, make known its condition and location, and obtain assistance?</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Morse code signals sent on internationally recognized emergency channe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 means of radiocommunication, but only on internationally recognized emergency channe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y means of radiocommunic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hose means of radiocommunication for which the station is licen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C987320-2DEC-4C80-9DE7-7DFC370DC7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2 During a disaster in the US, when may an amateur station make transmissions necessary to meet essential communication needs and assist relief operations?</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normal communication systems are overloaded, damaged or disrup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 local RACES net is activ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ver; only official emergency stations may transmit in a disas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normal communication systems are working but are not conveni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A7AF00D-163F-46DB-AFB3-8E238C92ED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2 During a disaster in the US, when may an amateur station make transmissions necessary to meet essential communication needs and assist relief operations?</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When normal communication systems are overloaded, damaged or disrupt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 local RACES net is activ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ver; only official emergency stations may transmit in a disas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normal communication systems are working but are not conveni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8D1CE7A-F783-4761-8C20-35660CFC11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3 If a disaster disrupts normal communications in your area, what may the FCC do?</a:t>
            </a:r>
            <a:endParaRPr b="1" lang="en-US" sz="3000" spc="-1" strike="noStrike">
              <a:solidFill>
                <a:srgbClr val="ffff00"/>
              </a:solidFill>
              <a:latin typeface="Tahoma"/>
            </a:endParaRPr>
          </a:p>
        </p:txBody>
      </p:sp>
      <p:sp>
        <p:nvSpPr>
          <p:cNvPr id="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eclare a temporary state of communication emerg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emporarily seize your equipment for use in disaster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rder all stations across the country to stop transmitting at o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until the President declares the area a disaster are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AF510CF-9662-4BC9-A191-41623D5CB1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3 If a disaster disrupts normal communications in your area, what may the FCC do?</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Declare a temporary state of communication emerg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emporarily seize your equipment for use in disaster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rder all stations across the country to stop transmitting at o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until the President declares the area a disaster are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56E032B-9976-49D5-A09A-D8079769BC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4 If a disaster disrupts normal communications in an area what would the FCC include in any notice of a temporary state of communication emergency?</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additional test questions needed for the licensing of amateur emergency communications work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list of organizations authorized to temporarily seize your equipment for disaster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special conditions requiring the use of non-commercial power syste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special conditions and special rules to be observed by stations during the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7DEC2ED1-588B-4125-BBBE-8264BF0076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4 If a disaster disrupts normal communications in an area what would the FCC include in any notice of a temporary state of communication emergency?</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additional test questions needed for the licensing of amateur emergency communications workers</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list of organizations authorized to temporarily seize your equipment for disaster communications</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special conditions requiring the use of non-commercial power syste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ny special conditions and special rules to be observed by stations during the emergenc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5C448FD-8E3E-46A3-9620-86D0792508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2 Which sideband is commonly used on 3925-kHz for phone operation?</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914F97B-A5E6-4325-AC03-EDF7F7733A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5 During an emergency, what power output limitations must be observed by a station in distress?</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during daylight hours, reduced to 200 watts PEP during the n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are no limitations during an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0B91F52-06D3-4C7C-A08E-8081EADDEE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5 During an emergency, what power output limitations must be observed by a station in distress?</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0 watts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during daylight hours, reduced to 200 watts PEP during the nigh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re are no limitations during an emergenc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83E6791-4220-4A48-A9A9-8D131959B2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6 During a disaster in the US, what frequencies may be used to obtain assistance?</a:t>
            </a:r>
            <a:endParaRPr b="1" lang="en-US" sz="3000" spc="-1" strike="noStrike">
              <a:solidFill>
                <a:srgbClr val="ffff00"/>
              </a:solidFill>
              <a:latin typeface="Tahoma"/>
            </a:endParaRPr>
          </a:p>
        </p:txBody>
      </p:sp>
      <p:sp>
        <p:nvSpPr>
          <p:cNvPr id="2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frequencies in the 80-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frequencies in the 40-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United Nations approved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3465D82-4FFF-42BC-841C-804C3C3820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6 During a disaster in the US, what frequencies may be used to obtain assistance?</a:t>
            </a:r>
            <a:endParaRPr b="1" lang="en-US" sz="3000" spc="-1" strike="noStrike">
              <a:solidFill>
                <a:srgbClr val="ffff00"/>
              </a:solidFill>
              <a:latin typeface="Tahoma"/>
            </a:endParaRPr>
          </a:p>
        </p:txBody>
      </p:sp>
      <p:sp>
        <p:nvSpPr>
          <p:cNvPr id="2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frequencies in the 80-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frequencies in the 40-meter ba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y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United Nations approved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EC098F1-4760-4CE1-967A-6A4547161B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7 If you are communicating with another amateur station and hear a station in distress break in, what is the first thing you should do?</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ntinue your communication because you were on frequency first</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cknowledge the station in distress and determine its location and what assistance may be needed</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ange to a different frequency so the station in distress may have a clear channel to call for assistance</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mediately cease all transmissions because stations in distress have emergency rights to the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BE139CE-E9D1-4F95-8D81-F48ECC42E2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7 If you are communicating with another amateur station and hear a station in distress break in, what is the first thing you should do?</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ntinue your communication because you were on frequency firs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cknowledge the station in distress and determine its location and what assistance may be needed</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ange to a different frequency so the station in distress may have a clear channel to call for assistance</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mediately cease all transmissions because stations in distress have emergency rights to the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59E5B3F7-E2F4-4311-BCFB-41BB35A480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8 Why do stations in the Radio Amateur Civil Emergency Service (RACES) participate in training tests and drills?</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provide orderly and efficient operations for the civil defense organization they serve in the event of an emerg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ensure that members attend monthly on-the-air meetings of the civil defense organization they ser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ensure that RACES members are able to conduct tests and dril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acquaint members of RACES with other members they may meet in an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50D2834-2A30-4D63-A197-5C7E6B6C65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8 Why do stations in the Radio Amateur Civil Emergency Service (RACES) participate in training tests and drills?</a:t>
            </a:r>
            <a:endParaRPr b="1" lang="en-US" sz="3000" spc="-1" strike="noStrike">
              <a:solidFill>
                <a:srgbClr val="ffff00"/>
              </a:solidFill>
              <a:latin typeface="Tahoma"/>
            </a:endParaRPr>
          </a:p>
        </p:txBody>
      </p:sp>
      <p:sp>
        <p:nvSpPr>
          <p:cNvPr id="2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provide orderly and efficient operations for the civil defense organization they serve in the event of an emerg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ensure that members attend monthly on-the-air meetings of the civil defense organization they ser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ensure that RACES members are able to conduct tests and dril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acquaint members of RACES with other members they may meet in an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09C5BBF8-F540-4077-86F3-19DDD5430F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09 When are you prohibited from helping a station in distress?</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at station is not transmitting on amateur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 station in distress offers no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are not ever prohibited from helping any station in dist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the station is not another amateur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AC950EB8-EA27-4B79-B917-C20345186D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09 When are you prohibited from helping a station in distress?</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at station is not transmitting on amateur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 station in distress offers no call 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You are not ever prohibited from helping any station in distres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the station is not another amateur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A797F23-84CB-4B0D-A131-9D6589A39B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2 Which sideband is commonly used on 3925-kHz for phone operation?</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Low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1C00608-D1F4-4765-8B17-F672D2E244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10 When FCC declares a temporary state of communication emergency, what must you do?</a:t>
            </a:r>
            <a:endParaRPr b="1" lang="en-US" sz="3000" spc="-1" strike="noStrike">
              <a:solidFill>
                <a:srgbClr val="ffff00"/>
              </a:solidFill>
              <a:latin typeface="Tahoma"/>
            </a:endParaRPr>
          </a:p>
        </p:txBody>
      </p:sp>
      <p:sp>
        <p:nvSpPr>
          <p:cNvPr id="2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y off the air until 30 days after FCC lifts the emergency no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ide by the limitations or conditions set forth in the FCC no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communicate with stations within 2 miles of your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wait until the President declares a formal emergency before taking further a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CBAD5CE-091B-44CD-82A8-CE5873A709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10 When FCC declares a temporary state of communication emergency, what must you do?</a:t>
            </a:r>
            <a:endParaRPr b="1" lang="en-US" sz="3000" spc="-1" strike="noStrike">
              <a:solidFill>
                <a:srgbClr val="ffff00"/>
              </a:solidFill>
              <a:latin typeface="Tahoma"/>
            </a:endParaRPr>
          </a:p>
        </p:txBody>
      </p:sp>
      <p:sp>
        <p:nvSpPr>
          <p:cNvPr id="2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y off the air until 30 days after FCC lifts the emergency not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bide by the limitations or conditions set forth in the FCC noti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communicate with stations within 2 miles of your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wait until the President declares a formal emergency before taking further a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F001DE5D-D341-4505-A910-E4639043A5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11 During a disaster in the US, which of the following emission modes must be used to obtain assistance?</a:t>
            </a:r>
            <a:endParaRPr b="1" lang="en-US" sz="3000" spc="-1" strike="noStrike">
              <a:solidFill>
                <a:srgbClr val="ffff00"/>
              </a:solidFill>
              <a:latin typeface="Tahoma"/>
            </a:endParaRPr>
          </a:p>
        </p:txBody>
      </p:sp>
      <p:sp>
        <p:nvSpPr>
          <p:cNvPr id="2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SSB and C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m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CW</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5031CA4-DFAE-4417-9166-054DEEEACF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11 During a disaster in the US, which of the following emission modes must be used to obtain assistance?</a:t>
            </a:r>
            <a:endParaRPr b="1" lang="en-US" sz="3000" spc="-1" strike="noStrike">
              <a:solidFill>
                <a:srgbClr val="ffff00"/>
              </a:solidFill>
              <a:latin typeface="Tahoma"/>
            </a:endParaRPr>
          </a:p>
        </p:txBody>
      </p:sp>
      <p:sp>
        <p:nvSpPr>
          <p:cNvPr id="2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SSB and CW</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y mod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CW</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363D1DE-9F5C-4E98-B8F9-71E877285D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12 What information should anyone who sends a distress transmission give to stations who answer?</a:t>
            </a:r>
            <a:endParaRPr b="1" lang="en-US" sz="3000" spc="-1" strike="noStrike">
              <a:solidFill>
                <a:srgbClr val="ffff00"/>
              </a:solidFill>
              <a:latin typeface="Tahoma"/>
            </a:endParaRPr>
          </a:p>
        </p:txBody>
      </p:sp>
      <p:sp>
        <p:nvSpPr>
          <p:cNvPr id="2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TU region and grid square locator of the emerg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ocation and nature of the dist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ime that the emergency occurred and the names of the persons involv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gencies to notify and the name of the emergency coordin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75EF77D-E450-4441-8E76-F921FF7F4D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12 What information should anyone who sends a distress transmission give to stations who answer?</a:t>
            </a:r>
            <a:endParaRPr b="1" lang="en-US" sz="3000" spc="-1" strike="noStrike">
              <a:solidFill>
                <a:srgbClr val="ffff00"/>
              </a:solidFill>
              <a:latin typeface="Tahoma"/>
            </a:endParaRPr>
          </a:p>
        </p:txBody>
      </p:sp>
      <p:sp>
        <p:nvSpPr>
          <p:cNvPr id="2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TU region and grid square locator of the emerg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location and nature of the distres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ime that the emergency occurred and the names of the persons involv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gencies to notify and the name of the emergency coordin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B58A36A-0133-44DC-8CDF-8BD91EF003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C13 What frequency should be used to send a distress call?</a:t>
            </a:r>
            <a:endParaRPr b="1" lang="en-US" sz="3000" spc="-1" strike="noStrike">
              <a:solidFill>
                <a:srgbClr val="ffff00"/>
              </a:solidFill>
              <a:latin typeface="Tahoma"/>
            </a:endParaRPr>
          </a:p>
        </p:txBody>
      </p:sp>
      <p:sp>
        <p:nvSpPr>
          <p:cNvPr id="2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atever frequency has the best chance of communicating the distress mes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873 kHz at night or 7285 kHz during the d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frequencies that are within your operating privile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frequencies used by police, fire or emergency medical serv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D306E71-DE2A-44F0-9369-F457D27E50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C13 What frequency should be used to send a distress call?</a:t>
            </a:r>
            <a:endParaRPr b="1" lang="en-US" sz="3000" spc="-1" strike="noStrike">
              <a:solidFill>
                <a:srgbClr val="ffff00"/>
              </a:solidFill>
              <a:latin typeface="Tahoma"/>
            </a:endParaRPr>
          </a:p>
        </p:txBody>
      </p:sp>
      <p:sp>
        <p:nvSpPr>
          <p:cNvPr id="2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Whatever frequency has the best chance of communicating the distress mess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873 kHz at night or 7285 kHz during the d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frequencies that are within your operating privile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frequencies used by police, fire or emergency medical serv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416940E-081D-47A9-83F3-E77324C9AD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1 What is the Amateur Auxiliary to the FCC's Compliance and Information Bureau?</a:t>
            </a:r>
            <a:endParaRPr b="1" lang="en-US" sz="3000" spc="-1" strike="noStrike">
              <a:solidFill>
                <a:srgbClr val="ffff00"/>
              </a:solidFill>
              <a:latin typeface="Tahoma"/>
            </a:endParaRPr>
          </a:p>
        </p:txBody>
      </p:sp>
      <p:sp>
        <p:nvSpPr>
          <p:cNvPr id="2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ateur volunteers who are formally enlisted to monitor the airwaves for rules viol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volunteers who conduct amateur licensing examin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ateur volunteers who conduct frequency coordination for amateur VHF repea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ateur volunteers who use their station equipment to help civil defense organizations in times of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18D59B25-6DCA-44C6-AFE4-8F9C500CBD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1 What is the Amateur Auxiliary to the FCC's Compliance and Information Bureau?</a:t>
            </a:r>
            <a:endParaRPr b="1" lang="en-US" sz="3000" spc="-1" strike="noStrike">
              <a:solidFill>
                <a:srgbClr val="ffff00"/>
              </a:solidFill>
              <a:latin typeface="Tahoma"/>
            </a:endParaRPr>
          </a:p>
        </p:txBody>
      </p:sp>
      <p:sp>
        <p:nvSpPr>
          <p:cNvPr id="2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mateur volunteers who are formally enlisted to monitor the airwaves for rules viol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volunteers who conduct amateur licensing examin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ateur volunteers who conduct frequency coordination for amateur VHF repea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ateur volunteers who use their station equipment to help civil defense organizations in times of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C318C57-09D8-4EB5-9CB9-9986843D52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A03 Which sideband is commonly used for 40-meter phone operation?</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BF8146F5-4E14-4CC5-8F96-216FC8A0D6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2 What are the objectives of the Amateur Auxiliary to the FCC's Compliance and Information Bureau?</a:t>
            </a:r>
            <a:endParaRPr b="1" lang="en-US" sz="3000" spc="-1" strike="noStrike">
              <a:solidFill>
                <a:srgbClr val="ffff00"/>
              </a:solidFill>
              <a:latin typeface="Tahoma"/>
            </a:endParaRPr>
          </a:p>
        </p:txBody>
      </p:sp>
      <p:sp>
        <p:nvSpPr>
          <p:cNvPr id="2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conduct efficient and orderly amateur licensing examin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encourage amateur self-regulation and compliance with the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oordinate repeaters for efficient and orderly spectrum u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provide emergency and public safet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169D9EB-1525-4927-BA1E-71D90D1F3A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2 What are the objectives of the Amateur Auxiliary to the FCC's Compliance and Information Bureau?</a:t>
            </a:r>
            <a:endParaRPr b="1" lang="en-US" sz="3000" spc="-1" strike="noStrike">
              <a:solidFill>
                <a:srgbClr val="ffff00"/>
              </a:solidFill>
              <a:latin typeface="Tahoma"/>
            </a:endParaRPr>
          </a:p>
        </p:txBody>
      </p:sp>
      <p:sp>
        <p:nvSpPr>
          <p:cNvPr id="2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conduct efficient and orderly amateur licensing examin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encourage amateur self-regulation and compliance with the ru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oordinate repeaters for efficient and orderly spectrum u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provide emergency and public safet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4C245A5-D4A6-4D73-AC31-302CFAE425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3 Why are direction-finding "Fox Hunts" important to the Amateur Auxiliary?</a:t>
            </a:r>
            <a:endParaRPr b="1" lang="en-US" sz="3000" spc="-1" strike="noStrike">
              <a:solidFill>
                <a:srgbClr val="ffff00"/>
              </a:solidFill>
              <a:latin typeface="Tahoma"/>
            </a:endParaRPr>
          </a:p>
        </p:txBody>
      </p:sp>
      <p:sp>
        <p:nvSpPr>
          <p:cNvPr id="2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ox Hunts compel amateurs to upgrade their licen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ox Hunts provide an opportunity to practice direction-finding skil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meone always receives an FCC Notice of Apparent Liability (NAL) when a Fox Hunt is conclu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x Hunts allow amateurs to work together with Environmental Protection Ag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6196C51-FEF9-4726-A306-0D79598633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3 Why are direction-finding "Fox Hunts" important to the Amateur Auxiliary?</a:t>
            </a:r>
            <a:endParaRPr b="1" lang="en-US" sz="3000" spc="-1" strike="noStrike">
              <a:solidFill>
                <a:srgbClr val="ffff00"/>
              </a:solidFill>
              <a:latin typeface="Tahoma"/>
            </a:endParaRPr>
          </a:p>
        </p:txBody>
      </p:sp>
      <p:sp>
        <p:nvSpPr>
          <p:cNvPr id="2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ox Hunts compel amateurs to upgrade their licens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Fox Hunts provide an opportunity to practice direction-finding skill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meone always receives an FCC Notice of Apparent Liability (NAL) when a Fox Hunt is conclu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x Hunts allow amateurs to work together with Environmental Protection Ag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4EE50D84-4FEC-449C-9422-5207804CAB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83944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zmuthal Projection Map</a:t>
            </a:r>
            <a:endParaRPr b="1" lang="en-US" sz="3000" spc="-1" strike="noStrike">
              <a:solidFill>
                <a:srgbClr val="ffff00"/>
              </a:solidFill>
              <a:latin typeface="Tahoma"/>
            </a:endParaRPr>
          </a:p>
        </p:txBody>
      </p:sp>
      <p:pic>
        <p:nvPicPr>
          <p:cNvPr id="286" name="" descr=""/>
          <p:cNvPicPr/>
          <p:nvPr/>
        </p:nvPicPr>
        <p:blipFill>
          <a:blip r:embed="rId1"/>
          <a:srcRect l="0" t="22224" r="0" b="20835"/>
          <a:stretch/>
        </p:blipFill>
        <p:spPr>
          <a:xfrm>
            <a:off x="1066680" y="1243080"/>
            <a:ext cx="7086600" cy="5224320"/>
          </a:xfrm>
          <a:prstGeom prst="rect">
            <a:avLst/>
          </a:prstGeom>
          <a:ln w="0">
            <a:noFill/>
          </a:ln>
        </p:spPr>
      </p:pic>
      <p:sp>
        <p:nvSpPr>
          <p:cNvPr id="3" name="PlaceHolder 2"/>
          <p:cNvSpPr>
            <a:spLocks noGrp="1"/>
          </p:cNvSpPr>
          <p:nvPr>
            <p:ph type="ftr" idx="1"/>
          </p:nvPr>
        </p:nvSpPr>
        <p:spPr/>
        <p:txBody>
          <a:bodyPr/>
          <a:p>
            <a:r>
              <a:t>Operating Procedures</a:t>
            </a:r>
          </a:p>
        </p:txBody>
      </p:sp>
      <p:sp>
        <p:nvSpPr>
          <p:cNvPr id="4" name="PlaceHolder 3"/>
          <p:cNvSpPr>
            <a:spLocks noGrp="1"/>
          </p:cNvSpPr>
          <p:nvPr>
            <p:ph type="sldNum" idx="2"/>
          </p:nvPr>
        </p:nvSpPr>
        <p:spPr/>
        <p:txBody>
          <a:bodyPr/>
          <a:p>
            <a:fld id="{31A69FCD-CBCB-4E2D-BF11-D3548BAF37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4 What is an azimuthal projection map?</a:t>
            </a:r>
            <a:endParaRPr b="1" lang="en-US" sz="3000" spc="-1" strike="noStrike">
              <a:solidFill>
                <a:srgbClr val="ffff00"/>
              </a:solidFill>
              <a:latin typeface="Tahoma"/>
            </a:endParaRPr>
          </a:p>
        </p:txBody>
      </p:sp>
      <p:sp>
        <p:nvSpPr>
          <p:cNvPr id="2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ap projection centered on the North Pole</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ap projection centered on a particular location, used to determine the shortest path between points on the surface of the earth</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ap that shows the angle at which an amateur satellite crosses the equator</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ap that shows the number of degrees longitude that an amateur satellite appears to move westward at the equator with each orb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F894B8A-3EC7-4178-80D8-A8B8E431DF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4 What is an azimuthal projection map?</a:t>
            </a:r>
            <a:endParaRPr b="1" lang="en-US" sz="3000" spc="-1" strike="noStrike">
              <a:solidFill>
                <a:srgbClr val="ffff00"/>
              </a:solidFill>
              <a:latin typeface="Tahoma"/>
            </a:endParaRPr>
          </a:p>
        </p:txBody>
      </p:sp>
      <p:sp>
        <p:nvSpPr>
          <p:cNvPr id="2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5000"/>
          </a:bodyPr>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ap projection centered on the North Po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map projection centered on a particular location, used to determine the shortest path between points on the surface of the earth</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map that shows the angle at which an amateur satellite crosses the equator</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ap that shows the number of degrees longitude that an amateur satellite appears to move westward at the equator with each orb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E36D5522-928A-497A-BD8A-6159F308E5B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5 What is the most useful type of map to use when orienting a directional HF antenna toward a distant station?</a:t>
            </a:r>
            <a:endParaRPr b="1" lang="en-US" sz="3000" spc="-1" strike="noStrike">
              <a:solidFill>
                <a:srgbClr val="ffff00"/>
              </a:solidFill>
              <a:latin typeface="Tahoma"/>
            </a:endParaRPr>
          </a:p>
        </p:txBody>
      </p:sp>
      <p:sp>
        <p:nvSpPr>
          <p:cNvPr id="2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zimuthal proj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rc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lar proj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pographic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974C4EA-1EC9-41B3-90EC-8EA6D1750C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5 What is the most useful type of map to use when orienting a directional HF antenna toward a distant station?</a:t>
            </a:r>
            <a:endParaRPr b="1" lang="en-US" sz="3000" spc="-1" strike="noStrike">
              <a:solidFill>
                <a:srgbClr val="ffff00"/>
              </a:solidFill>
              <a:latin typeface="Tahoma"/>
            </a:endParaRPr>
          </a:p>
        </p:txBody>
      </p:sp>
      <p:sp>
        <p:nvSpPr>
          <p:cNvPr id="2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zimuthal projec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rc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lar proj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pographic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07C65422-4280-481D-B790-8B7461AADF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6 A directional antenna pointed in the long-path direction to another station is generally oriented how many degrees from its short-path heading?</a:t>
            </a:r>
            <a:endParaRPr b="1" lang="en-US" sz="3000" spc="-1" strike="noStrike">
              <a:solidFill>
                <a:srgbClr val="ffff00"/>
              </a:solidFill>
              <a:latin typeface="Tahoma"/>
            </a:endParaRPr>
          </a:p>
        </p:txBody>
      </p:sp>
      <p:sp>
        <p:nvSpPr>
          <p:cNvPr id="2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5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9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80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70 degre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3285A7AB-CE56-4A46-BB7F-21EA1B347E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A03 Which sideband is commonly used for 40-meter phone operation?</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Low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plitude compando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ou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78E3271-EA46-4DE8-B957-08A7C7635E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6 A directional antenna pointed in the long-path direction to another station is generally oriented how many degrees from its short-path heading?</a:t>
            </a:r>
            <a:endParaRPr b="1" lang="en-US" sz="3000" spc="-1" strike="noStrike">
              <a:solidFill>
                <a:srgbClr val="ffff00"/>
              </a:solidFill>
              <a:latin typeface="Tahoma"/>
            </a:endParaRPr>
          </a:p>
        </p:txBody>
      </p:sp>
      <p:sp>
        <p:nvSpPr>
          <p:cNvPr id="2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5 degr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90 degre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80 degre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70 degre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2039D41C-2326-409C-93FA-88F6067300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Station Logs</a:t>
            </a:r>
            <a:endParaRPr b="1" lang="en-US" sz="3000" spc="-1" strike="noStrike">
              <a:solidFill>
                <a:srgbClr val="ffff00"/>
              </a:solidFill>
              <a:latin typeface="Tahoma"/>
            </a:endParaRPr>
          </a:p>
        </p:txBody>
      </p:sp>
      <p:pic>
        <p:nvPicPr>
          <p:cNvPr id="300" name="" descr=""/>
          <p:cNvPicPr/>
          <p:nvPr/>
        </p:nvPicPr>
        <p:blipFill>
          <a:blip r:embed="rId1"/>
          <a:stretch/>
        </p:blipFill>
        <p:spPr>
          <a:xfrm>
            <a:off x="914400" y="1600200"/>
            <a:ext cx="7315200" cy="4737240"/>
          </a:xfrm>
          <a:prstGeom prst="rect">
            <a:avLst/>
          </a:prstGeom>
          <a:ln w="0">
            <a:noFill/>
          </a:ln>
        </p:spPr>
      </p:pic>
      <p:sp>
        <p:nvSpPr>
          <p:cNvPr id="3" name="PlaceHolder 2"/>
          <p:cNvSpPr>
            <a:spLocks noGrp="1"/>
          </p:cNvSpPr>
          <p:nvPr>
            <p:ph type="ftr" idx="1"/>
          </p:nvPr>
        </p:nvSpPr>
        <p:spPr/>
        <p:txBody>
          <a:bodyPr/>
          <a:p>
            <a:r>
              <a:t>Operating Procedures</a:t>
            </a:r>
          </a:p>
        </p:txBody>
      </p:sp>
      <p:sp>
        <p:nvSpPr>
          <p:cNvPr id="4" name="PlaceHolder 3"/>
          <p:cNvSpPr>
            <a:spLocks noGrp="1"/>
          </p:cNvSpPr>
          <p:nvPr>
            <p:ph type="sldNum" idx="2"/>
          </p:nvPr>
        </p:nvSpPr>
        <p:spPr/>
        <p:txBody>
          <a:bodyPr/>
          <a:p>
            <a:fld id="{F310CAA6-59F9-4066-B878-317989F02A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7 If a visiting amateur transmits from your station on 14.325 MHz, which of these is NOT true?</a:t>
            </a:r>
            <a:endParaRPr b="1" lang="en-US" sz="3000" spc="-1" strike="noStrike">
              <a:solidFill>
                <a:srgbClr val="ffff00"/>
              </a:solidFill>
              <a:latin typeface="Tahoma"/>
            </a:endParaRPr>
          </a:p>
        </p:txBody>
      </p:sp>
      <p:sp>
        <p:nvSpPr>
          <p:cNvPr id="3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first give permission for the visiting amateur to use you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keep in your station log the call sign of the visiting amateur together with the time and date of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CC may think that you were the station's control operator, unless your station records show otherw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both are equally responsible for the proper operation of the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C724F9FC-5ACB-4DE3-BDBB-6CC21EBA2C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7 If a visiting amateur transmits from your station on 14.325 MHz, which of these is NOT true?</a:t>
            </a:r>
            <a:endParaRPr b="1" lang="en-US" sz="3000" spc="-1" strike="noStrike">
              <a:solidFill>
                <a:srgbClr val="ffff00"/>
              </a:solidFill>
              <a:latin typeface="Tahoma"/>
            </a:endParaRPr>
          </a:p>
        </p:txBody>
      </p:sp>
      <p:sp>
        <p:nvSpPr>
          <p:cNvPr id="3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first give permission for the visiting amateur to use your st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You must keep in your station log the call sign of the visiting amateur together with the time and date of transmiss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CC may think that you were the station's control operator, unless your station records show otherw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both are equally responsible for the proper operation of the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DBDBA1AD-AAA9-4239-A6DB-D0A84BFFF04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8 Why should I keep a log if the FCC doesn't require it?</a:t>
            </a:r>
            <a:endParaRPr b="1" lang="en-US" sz="3000" spc="-1" strike="noStrike">
              <a:solidFill>
                <a:srgbClr val="ffff00"/>
              </a:solidFill>
              <a:latin typeface="Tahoma"/>
            </a:endParaRPr>
          </a:p>
        </p:txBody>
      </p:sp>
      <p:sp>
        <p:nvSpPr>
          <p:cNvPr id="3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help with your reply, if FCC requests information on who was control operator of your station for a given date and time</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gs provide information (callsigns, dates &amp; times of contacts) used for many operating contests and awards</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gs are necessary to accurately verify contacts made weeks, months or years earlier, especially when completing QSL cards</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CA0D918-CD7F-471E-9B39-8C33A8F509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8 Why should I keep a log if the FCC doesn't require it?</a:t>
            </a:r>
            <a:endParaRPr b="1" lang="en-US" sz="3000" spc="-1" strike="noStrike">
              <a:solidFill>
                <a:srgbClr val="ffff00"/>
              </a:solidFill>
              <a:latin typeface="Tahoma"/>
            </a:endParaRPr>
          </a:p>
        </p:txBody>
      </p:sp>
      <p:sp>
        <p:nvSpPr>
          <p:cNvPr id="3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help with your reply, if FCC requests information on who was control operator of your station for a given date and time</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gs provide information (callsigns, dates &amp; times of contacts) used for many operating contests and awards</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gs are necessary to accurately verify contacts made weeks, months or years earlier, especially when completing QSL car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94B13BE4-0AEC-49F3-BAE5-0AC3AADFE2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09 What information is normally contained in a station log?</a:t>
            </a:r>
            <a:endParaRPr b="1" lang="en-US" sz="3000" spc="-1" strike="noStrike">
              <a:solidFill>
                <a:srgbClr val="ffff00"/>
              </a:solidFill>
              <a:latin typeface="Tahoma"/>
            </a:endParaRPr>
          </a:p>
        </p:txBody>
      </p:sp>
      <p:sp>
        <p:nvSpPr>
          <p:cNvPr id="3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ate and time of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and and/or frequency of the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 sign of station contacted and the RST signal report give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E84C92E-468D-4701-8538-203EEB8602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09 What information is normally contained in a station log?</a:t>
            </a:r>
            <a:endParaRPr b="1" lang="en-US" sz="3000" spc="-1" strike="noStrike">
              <a:solidFill>
                <a:srgbClr val="ffff00"/>
              </a:solidFill>
              <a:latin typeface="Tahoma"/>
            </a:endParaRPr>
          </a:p>
        </p:txBody>
      </p:sp>
      <p:sp>
        <p:nvSpPr>
          <p:cNvPr id="3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ate and time of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and and/or frequency of the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 sign of station contacted and the RST signal report give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893FE849-71C6-432A-9B82-530B1473B5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2D10 Which of the following is a good reason to keep a log of your station's activities?</a:t>
            </a:r>
            <a:endParaRPr b="1" lang="en-US" sz="3000" spc="-1" strike="noStrike">
              <a:solidFill>
                <a:srgbClr val="ffff00"/>
              </a:solidFill>
              <a:latin typeface="Tahoma"/>
            </a:endParaRPr>
          </a:p>
        </p:txBody>
      </p:sp>
      <p:sp>
        <p:nvSpPr>
          <p:cNvPr id="3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required by the FCC's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a tradition from the earliest days of amateur ra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can aid you in resolving interference complai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an be a source of great enjoyment when reviewed in later yea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05557243-828A-489A-A547-CD2A254AB4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2D10 Which of the following is a good reason to keep a log of your station's activities?</a:t>
            </a:r>
            <a:endParaRPr b="1" lang="en-US" sz="3000" spc="-1" strike="noStrike">
              <a:solidFill>
                <a:srgbClr val="ffff00"/>
              </a:solidFill>
              <a:latin typeface="Tahoma"/>
            </a:endParaRPr>
          </a:p>
        </p:txBody>
      </p:sp>
      <p:sp>
        <p:nvSpPr>
          <p:cNvPr id="3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required by the FCC's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a tradition from the earliest days of amateur radio</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can aid you in resolving interference complain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an be a source of great enjoyment when reviewed in later yea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ocedures</a:t>
            </a:r>
          </a:p>
        </p:txBody>
      </p:sp>
      <p:sp>
        <p:nvSpPr>
          <p:cNvPr id="5" name="PlaceHolder 4"/>
          <p:cNvSpPr>
            <a:spLocks noGrp="1"/>
          </p:cNvSpPr>
          <p:nvPr>
            <p:ph type="sldNum" idx="2"/>
          </p:nvPr>
        </p:nvSpPr>
        <p:spPr/>
        <p:txBody>
          <a:bodyPr/>
          <a:p>
            <a:fld id="{64EC16A7-7FE9-4449-B9EB-6C385074F9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43:23Z</dcterms:modified>
  <cp:revision>1</cp:revision>
  <dc:subject/>
  <dc:title>G2 -- OPERATING PROCEDURES [6 Exam Questions -- 6 Groups]</dc:title>
</cp:coreProperties>
</file>