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9F48-D236-4C53-A811-9C19DB10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id map is courtesy Icom America and is downloadable from their web site at http://www.icomameric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letter designator followed by a number ranging from 1 to 100 representing 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° latitude x 2° longitude square area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The earth is divided in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° Latitude x 10° Longitude squares starting on the date line at the south pole and going North and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Each square is given a two letter designator labeled East and North starting with AA and Ending with R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An – In are West of GMT, Jn – Rn are east of G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nA – n I are South of the equator, nJ – nR are North of the equ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Each square is further divided into 100 1°x2° squares and given a number starting in the lower left corner of the square and are labeled up and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Seattle is in CN-87, Los Angles DM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ahoma"/>
              </a:rPr>
              <a:t>Spokane is in DN-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5253-B5CD-431E-A6B8-639B8F165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D893-D031-4E3A-8DDD-CE5CBDCC0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2789-BD4B-4101-8931-79A542645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9168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336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9168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336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FE96-5CEF-4A53-9642-621B376AF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D7093-0EA5-4759-955D-5CE5E27E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36B8F-9FD2-484A-8ECE-267AB059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F999B-54B0-4BE7-8FB8-0D2A3D2A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A4341-2C72-45C7-A16E-6946C222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21F64-7E61-45B0-9250-E50574C8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88FD5-82BE-464F-95D3-CB3D038A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19FAD-0F41-46D4-AC05-88134545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5DDC-D59E-4641-88E7-B9FA8A9A2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FA903-D1BB-49A2-9D3B-E9BBCD51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D26EE-E937-45ED-B633-EE78FBDF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398B6-75D2-4613-9BB4-29C590F2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1E5AA-D0EE-49DB-92DF-E230E7C9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09168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83360" y="251460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09168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83360" y="4664160"/>
            <a:ext cx="2944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9C358-0B2B-41D6-A220-29FF6EB4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984E5-E7E5-48F9-B703-6A003B03B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0ED53-5546-4FD1-AC68-116A71065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E0F8-5BE6-4D96-B8C3-FA328E7FF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4F68-C210-44F7-80C0-EACBF812D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71D8-DBF1-4A91-9CC8-04D42BC70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760" y="466416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B703D-0ADC-42A7-98DF-F6CA3A5AE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2514600"/>
            <a:ext cx="446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4664160"/>
            <a:ext cx="9144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8A49-6D24-40A9-84A6-50F89EDFC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5867280" y="64771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body"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-45396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2" marL="1258920" indent="-22860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3" marL="1601640" indent="-228600"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4" marL="2743200" indent="-4618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5" marL="2743200" indent="-4618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6" marL="2743200" indent="-461880">
              <a:spcBef>
                <a:spcPts val="6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411480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D6A5-51E5-4D9B-B44D-5A09C4A0EC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3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713F-65C4-40AE-8225-1CA2A013C1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  –  Special Operations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2 exam questions – 2 groups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7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ting in the field, radio direction finding, radio control, contests, special event s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7B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tellite operation, Doppler shift, satellite sub bands, LEO,  orbit calculation, split frequency operation, operating protocols, AMSAT, ISS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902FE-F54B-4E5D-99E5-27983F8BF1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05 What is a method used to locate sources of noise interference or jamming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ho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ppler ra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io direction fi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ase lo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C399-DEB0-4366-8810-31F651E907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05 What is a method used to locate sources of noise interference or jamming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ho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ppler ra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Radio direction finding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ase lock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91EB0-1427-4650-A395-AA6817090D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06 Which of these items would be the most useful for a hidden transmitter hunt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noculars and a comp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directional anten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alibrated noise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ibrated SWR 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042B-2970-43E1-BB91-5A33B897FB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06 Which of these items would be the most useful for a hidden transmitter hunt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noculars and a comp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directional antenna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alibrated noise bri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ibrated SWR 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148D-F6BD-47B5-B588-9E77B0967A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07 What is a popular operating activity that involves contacting as many stations as possible during a specified period of tim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 service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ulated emergency exerci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6F62-8DD0-4795-B01D-A89DC835E9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07 What is a popular operating activity that involves contacting as many stations as possible during a specified period of tim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ontesting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 service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ulated emergency exerci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8BFC-6B6A-43DA-8A28-306D9B325B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09 What is a grid locator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etter-number designator assigned to a geographic 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azimuth and elev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UTC 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4 digits that follow your ZIP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9367-6DA8-4155-BF13-AA803935EC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Maindenhead Grids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3193" t="1820" r="5320" b="25026"/>
          <a:stretch/>
        </p:blipFill>
        <p:spPr>
          <a:xfrm>
            <a:off x="990720" y="1066680"/>
            <a:ext cx="7238880" cy="4797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90720" y="58672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letters and two numbers define an area 1° latitude x 2° longitude anywhere in the world.  Seattle is CN87, Portland CN8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0DEA-A40D-4157-8BCD-C5DDADEEA6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09 What is a grid locator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letter-number designator assigned to a geographic location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azimuth and elev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UTC l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4 digits that follow your ZIP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66F1-573B-4711-A19A-C2F2DF6199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10 What is a special event station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ation that sends out birthday gr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ation that operates only on holi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mporary station that operates in conjunction with an  activity of special signific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ation that broadcasts special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2425-A159-4287-9F8F-CF3F17B3B9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01 What is a good thing to have when operating a hand-held transceiver away from hom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election of spare pa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rogramming cable to load new chann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or more fully charged spare battery pa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dummy lo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5B14-E627-4C36-B0FF-E0310A0D37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10 What is a special event station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ation that sends out birthday gr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ation that operates only on holi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temporary station that operates in conjunction with an  activity of special significanc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tation that broadcasts special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A554-58D2-4935-B4F7-ACE1EDA8F9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11 What is the maximum power allowed when transmitting telecommand signals to radio controlled model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0 milliwat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 wa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5 wat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00 wat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2C77-242C-419A-B91C-2D28916661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11 What is the maximum power allowed when transmitting telecommand signals to radio controlled model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0 milliwat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1 watt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5 wat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00 wat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606D7-4EC8-483F-BD5B-E482FFC148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12 What is the station identification requirement when sending commands to a radio control model using amateur frequenc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ice identification must be transmitted every 10 minu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se code ID must be sent once per h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abel indicating the licensee's call sign and address must be affixed to the transmi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no station identification requirement for this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FC4AD-32B7-48DB-A591-57B29D0E9F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12 What is the station identification requirement when sending commands to a radio control model using amateur frequenc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ice identification must be transmitted every 10 minu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se code ID must be sent once per ho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label indicating the licensee's call sign and address must be affixed to the transmitter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no station identification requirement for this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66E6-1882-4EBE-9845-C9D331C96B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01 What class of license is required to use amateur satellit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Extra class licensees can use amateur radio satell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or higher class licensees who have a satellite operator cert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persons who are AMSAT members and who have paid their d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amateur whose license allows them to transmit on the satellite uplink frequ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D991-15BC-4BDB-9A94-D7BF54A8D7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B01 What class of license is required to use amateur satellit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Extra class licensees can use amateur radio satell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 or higher class licensees who have a satellite operator certif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persons who are AMSAT members and who have paid their d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ny amateur whose license allows them to transmit on the satellite uplink frequency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2B010-5FA5-4B9B-A247-A59CAC0784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02 How much power should you use to transmit when using an amateur satellit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ximum power of your transmi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inimum amount of power needed to complete the cont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more than half the rating of your linear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ver more than 1 wa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8F4C-F2C8-4727-A8DD-9349977673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B02 How much power should you use to transmit when using an amateur satellit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ximum power of your transmi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e minimum amount of power needed to complete the contact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more than half the rating of your linear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ver more than 1 wa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4EBB6-ADFD-47C5-93CF-DDAD0E4C3F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03 What is something you can do when using an amateur radio satellit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n to the Space Shut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global positioning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autopatch c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k to amateur radio operators in oth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DC6C-E959-4B13-885C-DE80F6E3C9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01 What is a good thing to have when operating a hand-held transceiver away from hom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election of spare pa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rogramming cable to load new chann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One or more fully charged spare battery pack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dummy lo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84F6-83D2-411D-A100-36EDB831E5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B03 What is something you can do when using an amateur radio satellit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n to the Space Shutt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 global positioning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autopatch c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alk to amateur radio operators in other countries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ABD3-3B64-42D9-8E6D-9662F19604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04 Who may make contact with an astronaut on the International Space Station using amateur radio frequenc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members of amateur radio clubs at NASA 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amateur with a Technician or higher class lice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the astronaut's family members who are h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not talk to the ISS on amateur radio frequ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C63C-38AB-43A0-A14A-117651FBAE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Susan J. Helms, KC7NHZ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Flight Engineer - ISS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67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5B51-B2EE-4162-89C1-62B037391AE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B04 Who may make contact with an astronaut on the International Space Station using amateur radio frequenci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members of amateur radio clubs at NASA 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ny amateur with a Technician or higher class licens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the astronaut's family members who are h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not talk to the ISS on amateur radio frequ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5E9E-8809-48C3-83C5-85B9D6CC3D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05 What is a satellite beacon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imary transmit antenna on the satell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indicator light that that shows where to point your anten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flective surface on the satell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ignal that contains information about a satell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AA7A-232E-476C-9DAB-1046DECF77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7B05 What is a satellite beacon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imary transmit antenna on the satell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indicator light that that shows where to point your anten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flective surface on the satell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signal that contains information about a satellit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345E-6DFC-47D8-9131-414F34AB99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06 What should you use to determine when you can access an amateur satellit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PS rece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eld strength 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lesc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atellite tracking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4DBF-534B-433D-B3DB-E2629F3E86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7B06 What should you use to determine when you can access an amateur satellit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GPS rece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eld strength 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lesc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D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satellite tracking program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8E21B-55F3-4809-B175-B510CC3D16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07 What is Doppler shift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hange in the satellite orb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mode where the satellite receives signals on one band and  transmits on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hange in signal frequency caused by motion through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pecial digital communications mode for some satell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E107-32AF-4759-B670-99F69263D2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7B07 What is Doppler shift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hange in the satellite orb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mode where the satellite receives signals on one band and  transmits on ano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change in signal frequency caused by motion through spac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pecial digital communications mode for some satell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7AED-77CB-4A91-8112-F95513D54B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02 Which of these items would probably not be very useful to include in an emergency response kit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xternal antenna and several feet of connecting c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1500 watt output linear amplif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able and clips for connecting your transceiver to an external batt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isting of repeater frequencies and nets in your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B4DC0-A9A1-479B-AE40-3A4EC9610F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08 What is the name of the group that coordinates the building and/or  launch of the largest number of amateur radio satellit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S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C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A294-09EB-41DD-86B5-90F64FCE91D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7B08 What is the name of the group that coordinates the building and/or  launch of the largest number of amateur radio satellites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MSAT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C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D1B5-C28D-469C-A549-CD5253F8BB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09 What is a satellite sub-band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pecial frequency for talking to submar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requency range limited to Extra Class licens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ortion of a band where satellite operations are permit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bsolete term that has no mea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1363-09FF-4A66-A7E9-FF664C51C89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7B09 What is a satellite sub-band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pecial frequency for talking to submar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requency range limited to Extra Class licens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portion of a band where satellite operations are permitted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obsolete term that has no mea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E20C-DC73-4657-A267-286F34B1782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10 What is the satellite sub-band on 70-CM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20 to 450 M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5 to 438 M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40 to 450 M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2 to 433 M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93E1-08F7-48B7-85A7-394ECA0D952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7B10 What is the satellite sub-band on 70-CM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20 to 450 M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435 to 438 MHz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40 to 450 M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2 to 433 M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4B02-B795-43F5-955C-A4448836E43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B11 What do the initials LEO tell you about an amateur satellit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tellite battery is in Low Energy Operation m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tellite is performing a Lunar Ejection Orbit maneu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tellite is in a Low Earth Orb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tellite uses Light Emitting Op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42B7-B5C5-480D-904B-814EC86B9F3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7B11 What do the initials LEO tell you about an amateur satellit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tellite battery is in Low Energy Operation m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tellite is performing a Lunar Ejection Orbit maneu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The satellite is in a Low Earth Orbit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atellite uses Light Emitting Op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FA78-25AE-4DBE-ABF7-EF0686AC398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02 Which of these items would probably not be very useful to include in an emergency response kit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xternal antenna and several feet of connecting c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1500 watt output linear amplifier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able and clips for connecting your transceiver to an external batt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isting of repeater frequencies and nets in your ar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EB66-1966-4FA5-A1C0-84F16699C2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03 How can you make the signal from a hand-held radio stronger when operating in the field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itch to VFO m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an external antenna instead of the rubber-duck anten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 so there is a metal building between you and other s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ak as loudly as you 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29FF-9A74-4146-AF7F-8C01DAFF3A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03 How can you make the signal from a hand-held radio stronger when operating in the field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witch to VFO m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B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Use an external antenna instead of the rubber-duck antenna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 so there is a metal building between you and other s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ak as loudly as you 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B51E-2993-4588-A8B1-018C0A275D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T7A04 What would be a good thing to have when operating from a location that includes lots of crowd nois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ortable bullho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ncrypted ra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mbination headset and microph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ulse noise blan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BC4B-D6A3-4FD9-AF9C-01C9845B09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7A04 What would be a good thing to have when operating from a location that includes lots of crowd noise?</a:t>
            </a:r>
            <a:endParaRPr b="1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ortable bullho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ncrypted ra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C.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A combination headset and microphone</a:t>
            </a:r>
            <a:endParaRPr b="1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ulse noise blan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SPM-400A Medium Duty Boom Mics"/>
          <p:cNvPicPr/>
          <p:nvPr/>
        </p:nvPicPr>
        <p:blipFill>
          <a:blip r:embed="rId1"/>
          <a:stretch/>
        </p:blipFill>
        <p:spPr>
          <a:xfrm>
            <a:off x="6858000" y="3962520"/>
            <a:ext cx="1649520" cy="24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ecial Ope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3B8E-3422-4F13-95C4-394D856D5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y Lewis</cp:lastModifiedBy>
  <dcterms:modified xsi:type="dcterms:W3CDTF">2006-09-18T20:48:11Z</dcterms:modified>
  <cp:revision>1</cp:revision>
  <dc:subject/>
  <dc:title>T7  –  Special Operations 2 exam questions – 2 groups</dc:title>
</cp:coreProperties>
</file>