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move the slide</a:t>
            </a:r>
            <a:endParaRPr b="1" lang="en-US" sz="3000" spc="-1" strike="noStrike">
              <a:solidFill>
                <a:srgbClr val="ffff00"/>
              </a:solidFill>
              <a:latin typeface="Tahoma"/>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A5167-F667-4133-87EE-6AF577316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3 - GENERAL CLASS as released by the Question Pool Committee of the National Conference of Volunteer Examiner Coordinators December 1, 20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contained within this pool must be used in all General class examinations beginning July 1, 2004, and is intended to be used up through June 30, 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 emissions (solar flux) and particulate emissions from the sun have an enormous effect on radio propagation.  RF emissions including X-ray and ultraviolet arrive at the earth in only 8 minutes.  Particulate emissions including Coronal Mass Ejections (CMEs) arrive in 20-40 hours.  The earth’s magnetic field captures much of this radiation near the poles and generally has an adverse effect on propagation at higher latitudes (nearer the poles).  Lower frequencies are impacted by higher energy levels first and a sudden increase in activity will generally destroy propagation on the lower bands (increase the LUF) and often improve it at higher frequencies (increase the MUF).</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points are the D, E and F layers.  The F layer splits and becomes F1 and F2 with the additional energy from the daytime sun.  The D and E layers disappear at night without the sun’s energy.  The D layer absorbs most RF power, particularly at low frequencies.  The other layers will reflect RF energy.  The higher the layer, the further the contact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gation conditions are a balance between the D layer absorption of lower frequencies and the reflection of the higher frequencies by the upper layers.  As more of the sun’s energy (primarily electromagnetic and particle emissions) strikes the ionosphere, all the layers grown in size and density.  The D layer will absorb more low frequency RF and the upper layers will reflect more high frequency RF.  This creates a window of frequencies above the Lowest Usable Frequency (LUF) and Maximum Usable Frequency (MUF) that will work for long distance commun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spots provide huge amounts of energy to reflect radio waves in the ionosphere and are especially important in the upper bands.  Sunspots occur in 11 cycles of high and low activit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altitude and angle of reflection varies with frequency.  Generally the higher frequencies will be reflected at higher altitudes and at shallower angles.  If the frequency is high enough, it won’t be reflected enough to arrive back on the surface.  The highest frequency that can be reflected is the “critical frequency” and generally the Maximum Usable Frequency (MU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angle if the wave is too steep, it will continue into space.  The steepest angle that will be reflected back to the surface is the “critical ang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C696E6-02E3-4080-936A-1D1A91B1A9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5"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6"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A6A01E-9128-4089-A84F-5FE3D93C30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8"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0"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1"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CC4539-A738-4CED-8FFD-4097126C57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43"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4"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5"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6"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7"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8"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F9F07B-1586-4990-BCB4-340A50CE67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4FCCF9-14D8-4A26-AADB-BF53154CCE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3"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CFF906-C4A6-4F30-BF64-ACBFB132B7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0C9E03-DDD2-46E1-9800-0133F84BE9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8"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537DDE-C03F-4463-B701-46C06E772A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6E04A2-B4EA-4FD3-A1D9-A60DF6C3BC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F34369-473E-4286-8A3C-669AF4D25E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2"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3"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4"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02B151-51CF-474C-A749-76561E85F6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4"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AB2DAC-1842-423D-A03D-85C23D43E3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6"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7"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8"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5D38C8-08D1-437A-8EA6-0BD3CB6EAE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0"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1"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2"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5CD588-33CD-4406-909C-E620CAEA49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4"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5"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CAACC7-C87E-478D-B79D-EAA7FF93E8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7"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9"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0"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B611A6-37E5-4AEF-B7AE-1B83D8C227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92"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3"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4"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5"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6"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7"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581A7B-E698-46A9-8442-82086D698D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C20B0C-9353-4AEC-AA67-12C4D5012D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19"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3302BB-E5D8-46D4-89D9-58CC684EAE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E2E8C5-96F3-4947-8889-39385507D5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0722C9-43C5-4D7B-820E-880C32996D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3"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4"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5"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2C56E5-32F2-40F8-AD74-9421A11661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9"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494EE3-EAB9-4120-AEC0-92ACF8BA6E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1"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2"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3"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A3A1D3-A17B-4841-BBCA-B6074DAF33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grpSp>
          <p:nvGrpSpPr>
            <p:cNvPr id="1" name=""/>
            <p:cNvGrpSpPr/>
            <p:nvPr/>
          </p:nvGrpSpPr>
          <p:grpSpPr>
            <a:xfrm>
              <a:off x="2743200" y="3540240"/>
              <a:ext cx="6392880" cy="3309840"/>
              <a:chOff x="2743200" y="3540240"/>
              <a:chExt cx="6392880" cy="3309840"/>
            </a:xfrm>
          </p:grpSpPr>
          <p:sp>
            <p:nvSpPr>
              <p:cNvPr id="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edit the title text format</a:t>
            </a:r>
            <a:endParaRPr b="1" lang="en-US" sz="3000" spc="-1" strike="noStrike">
              <a:solidFill>
                <a:srgbClr val="ffff00"/>
              </a:solidFill>
              <a:latin typeface="Tahoma"/>
            </a:endParaRPr>
          </a:p>
        </p:txBody>
      </p:sp>
      <p:sp>
        <p:nvSpPr>
          <p:cNvPr id="10" name="PlaceHolder 2"/>
          <p:cNvSpPr>
            <a:spLocks noGrp="1"/>
          </p:cNvSpPr>
          <p:nvPr>
            <p:ph type="ftr" idx="1"/>
          </p:nvPr>
        </p:nvSpPr>
        <p:spPr>
          <a:xfrm>
            <a:off x="5867280" y="6477120"/>
            <a:ext cx="327672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1" name="PlaceHolder 3"/>
          <p:cNvSpPr>
            <a:spLocks noGrp="1"/>
          </p:cNvSpPr>
          <p:nvPr>
            <p:ph type="body"/>
          </p:nvPr>
        </p:nvSpPr>
        <p:spPr>
          <a:xfrm>
            <a:off x="0" y="2514600"/>
            <a:ext cx="914400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lick to edit the outline text format</a:t>
            </a:r>
            <a:endParaRPr b="1" lang="en-US" sz="2600" spc="-1" strike="noStrike">
              <a:solidFill>
                <a:srgbClr val="ffff00"/>
              </a:solidFill>
              <a:latin typeface="Tahoma"/>
            </a:endParaRPr>
          </a:p>
          <a:p>
            <a:pPr lvl="1" marL="915840" indent="-45396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cond Outline Level</a:t>
            </a:r>
            <a:endParaRPr b="1" lang="en-US" sz="2600" spc="-1" strike="noStrike">
              <a:solidFill>
                <a:srgbClr val="ffff00"/>
              </a:solidFill>
              <a:latin typeface="Tahoma"/>
            </a:endParaRPr>
          </a:p>
          <a:p>
            <a:pPr lvl="2" marL="1258920" indent="-228600">
              <a:spcBef>
                <a:spcPts val="64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hird Outline Level</a:t>
            </a:r>
            <a:endParaRPr b="1" lang="en-US" sz="2600" spc="-1" strike="noStrike">
              <a:solidFill>
                <a:srgbClr val="ffff00"/>
              </a:solidFill>
              <a:latin typeface="Tahoma"/>
            </a:endParaRPr>
          </a:p>
          <a:p>
            <a:pPr lvl="3" marL="1601640" indent="-22860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ourth Outline Level</a:t>
            </a:r>
            <a:endParaRPr b="1" lang="en-US" sz="2600" spc="-1" strike="noStrike">
              <a:solidFill>
                <a:srgbClr val="ffff00"/>
              </a:solidFill>
              <a:latin typeface="Tahoma"/>
            </a:endParaRPr>
          </a:p>
          <a:p>
            <a:pPr lvl="4" marL="2743200" indent="-461880">
              <a:spcBef>
                <a:spcPts val="64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ifth Outline Level</a:t>
            </a:r>
            <a:endParaRPr b="1" lang="en-US" sz="2600" spc="-1" strike="noStrike">
              <a:solidFill>
                <a:srgbClr val="ffff00"/>
              </a:solidFill>
              <a:latin typeface="Tahoma"/>
            </a:endParaRPr>
          </a:p>
          <a:p>
            <a:pPr lvl="5"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ixth Outline Level</a:t>
            </a:r>
            <a:endParaRPr b="1" lang="en-US" sz="2600" spc="-1" strike="noStrike">
              <a:solidFill>
                <a:srgbClr val="ffff00"/>
              </a:solidFill>
              <a:latin typeface="Tahoma"/>
            </a:endParaRPr>
          </a:p>
          <a:p>
            <a:pPr lvl="6"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venth Outline Level</a:t>
            </a:r>
            <a:endParaRPr b="1" lang="en-US" sz="2600" spc="-1" strike="noStrike">
              <a:solidFill>
                <a:srgbClr val="ffff00"/>
              </a:solidFill>
              <a:latin typeface="Tahoma"/>
            </a:endParaRPr>
          </a:p>
        </p:txBody>
      </p:sp>
      <p:sp>
        <p:nvSpPr>
          <p:cNvPr id="12" name="PlaceHolder 4"/>
          <p:cNvSpPr>
            <a:spLocks noGrp="1"/>
          </p:cNvSpPr>
          <p:nvPr>
            <p:ph type="sldNum" idx="2"/>
          </p:nvPr>
        </p:nvSpPr>
        <p:spPr>
          <a:xfrm>
            <a:off x="4114800" y="6552720"/>
            <a:ext cx="9144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FD42E-D139-4415-81E5-13F2BDA292B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9" name=""/>
          <p:cNvGrpSpPr/>
          <p:nvPr/>
        </p:nvGrpSpPr>
        <p:grpSpPr>
          <a:xfrm>
            <a:off x="0" y="0"/>
            <a:ext cx="9140760" cy="6850080"/>
            <a:chOff x="0" y="0"/>
            <a:chExt cx="9140760" cy="6850080"/>
          </a:xfrm>
        </p:grpSpPr>
        <p:grpSp>
          <p:nvGrpSpPr>
            <p:cNvPr id="50" name=""/>
            <p:cNvGrpSpPr/>
            <p:nvPr/>
          </p:nvGrpSpPr>
          <p:grpSpPr>
            <a:xfrm>
              <a:off x="2743200" y="3540240"/>
              <a:ext cx="6392880" cy="3309840"/>
              <a:chOff x="2743200" y="3540240"/>
              <a:chExt cx="6392880" cy="3309840"/>
            </a:xfrm>
          </p:grpSpPr>
          <p:sp>
            <p:nvSpPr>
              <p:cNvPr id="51"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00"/>
                </a:solidFill>
                <a:latin typeface="Tahoma"/>
              </a:rPr>
              <a:t>Click to edit the title text format</a:t>
            </a:r>
            <a:endParaRPr b="1" lang="en-US" sz="4300" spc="-1" strike="noStrike">
              <a:solidFill>
                <a:srgbClr val="ffff00"/>
              </a:solidFill>
              <a:latin typeface="Tahoma"/>
            </a:endParaRPr>
          </a:p>
        </p:txBody>
      </p:sp>
      <p:sp>
        <p:nvSpPr>
          <p:cNvPr id="59" name="PlaceHolder 2"/>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0" name="PlaceHolder 3"/>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1" name="PlaceHolder 4"/>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C450-8D70-44D4-AF53-CB420C4BA59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 -- RADIO WAVE PROPAGATION</a:t>
            </a:r>
            <a:br>
              <a:rPr sz="3000"/>
            </a:br>
            <a:r>
              <a:rPr b="1" lang="en-US" sz="3000" spc="-1" strike="noStrike">
                <a:solidFill>
                  <a:srgbClr val="ffff00"/>
                </a:solidFill>
                <a:latin typeface="Tahoma"/>
              </a:rPr>
              <a:t>[3 Exam Questions -- 3 Groups]</a:t>
            </a:r>
            <a:endParaRPr b="1" lang="en-US" sz="3000" spc="-1" strike="noStrike">
              <a:solidFill>
                <a:srgbClr val="ffff00"/>
              </a:solidFill>
              <a:latin typeface="Tahoma"/>
            </a:endParaRPr>
          </a:p>
        </p:txBody>
      </p:sp>
      <p:sp>
        <p:nvSpPr>
          <p:cNvPr id="10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3A  Ionospheric disturbances; sunspots and solar radiation</a:t>
            </a:r>
            <a:endParaRPr b="0" lang="en-US" sz="2400" spc="-1" strike="noStrike">
              <a:solidFill>
                <a:srgbClr val="ffffff"/>
              </a:solidFill>
              <a:latin typeface="Tahoma"/>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3B  Maximum usable frequency; propagation "hops"</a:t>
            </a:r>
            <a:endParaRPr b="0" lang="en-US" sz="2400" spc="-1" strike="noStrike">
              <a:solidFill>
                <a:srgbClr val="ffffff"/>
              </a:solidFill>
              <a:latin typeface="Tahoma"/>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3C  Height of ionospheric regions; critical angle and frequency; HF scat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4B478971-6B6B-450C-BA63-C47767438A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A04 What is solar flux?</a:t>
            </a:r>
            <a:endParaRPr b="1" lang="en-US" sz="3000" spc="-1" strike="noStrike">
              <a:solidFill>
                <a:srgbClr val="ffff00"/>
              </a:solidFill>
              <a:latin typeface="Tahoma"/>
            </a:endParaRPr>
          </a:p>
        </p:txBody>
      </p:sp>
      <p:sp>
        <p:nvSpPr>
          <p:cNvPr id="12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density of the sun's magnetic fiel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 radio energy emitted by the su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number of sunspots on the side of the sun facing the eart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measure of the tilt of the earth's ionosphere on the side toward the su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A9B51DED-FFB9-46B0-B2F7-283270ECA3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A05 What is the solar-flux index?</a:t>
            </a:r>
            <a:endParaRPr b="1" lang="en-US" sz="3000" spc="-1" strike="noStrike">
              <a:solidFill>
                <a:srgbClr val="ffff00"/>
              </a:solidFill>
              <a:latin typeface="Tahoma"/>
            </a:endParaRPr>
          </a:p>
        </p:txBody>
      </p:sp>
      <p:sp>
        <p:nvSpPr>
          <p:cNvPr id="12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measure of solar activity that is taken annual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measure of solar activity that compares daily readings with results from the last six month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other name for the American sunspot numb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measure of solar activity that is taken at a specific frequ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B330B8AE-BD49-4819-9E61-B22D69E554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A05 What is the solar-flux index?</a:t>
            </a:r>
            <a:endParaRPr b="1" lang="en-US" sz="3000" spc="-1" strike="noStrike">
              <a:solidFill>
                <a:srgbClr val="ffff00"/>
              </a:solidFill>
              <a:latin typeface="Tahoma"/>
            </a:endParaRPr>
          </a:p>
        </p:txBody>
      </p:sp>
      <p:sp>
        <p:nvSpPr>
          <p:cNvPr id="12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measure of solar activity that is taken annual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measure of solar activity that compares daily readings with results from the last six month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other name for the American sunspot numb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 measure of solar activity that is taken at a specific frequency</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7B1728C5-E8A0-4232-B2E6-2AE2248CE4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A06 What is a geomagnetic disturbance?</a:t>
            </a:r>
            <a:endParaRPr b="1" lang="en-US" sz="3000" spc="-1" strike="noStrike">
              <a:solidFill>
                <a:srgbClr val="ffff00"/>
              </a:solidFill>
              <a:latin typeface="Tahoma"/>
            </a:endParaRPr>
          </a:p>
        </p:txBody>
      </p:sp>
      <p:sp>
        <p:nvSpPr>
          <p:cNvPr id="13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sudden drop in the solar-flux index</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shifting of the earth's magnetic po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ipples in the ionosphe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dramatic change in the earth's magnetic field over a short period of tim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C4807044-19AE-44D1-9EF8-296A62B80C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A06 What is a geomagnetic disturbance?</a:t>
            </a:r>
            <a:endParaRPr b="1" lang="en-US" sz="3000" spc="-1" strike="noStrike">
              <a:solidFill>
                <a:srgbClr val="ffff00"/>
              </a:solidFill>
              <a:latin typeface="Tahoma"/>
            </a:endParaRPr>
          </a:p>
        </p:txBody>
      </p:sp>
      <p:sp>
        <p:nvSpPr>
          <p:cNvPr id="13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sudden drop in the solar-flux index</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shifting of the earth's magnetic po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ipples in the ionospher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 dramatic change in the earth's magnetic field over a short period of time</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33D76FA6-A7CF-413D-9E88-CC21A307FB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A07 At which latitudes are propagation paths more sensitive to geomagnetic disturbances?</a:t>
            </a:r>
            <a:endParaRPr b="1" lang="en-US" sz="3000" spc="-1" strike="noStrike">
              <a:solidFill>
                <a:srgbClr val="ffff00"/>
              </a:solidFill>
              <a:latin typeface="Tahoma"/>
            </a:endParaRPr>
          </a:p>
        </p:txBody>
      </p:sp>
      <p:sp>
        <p:nvSpPr>
          <p:cNvPr id="13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ose greater than 45 degrees latitud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ose between 5 and 45 degrees latitud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ose near the equ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paths are affected equall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57F35668-58E8-4A13-AE6D-8C8386CE90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A07 At which latitudes are propagation paths more sensitive to geomagnetic disturbances?</a:t>
            </a:r>
            <a:endParaRPr b="1" lang="en-US" sz="3000" spc="-1" strike="noStrike">
              <a:solidFill>
                <a:srgbClr val="ffff00"/>
              </a:solidFill>
              <a:latin typeface="Tahoma"/>
            </a:endParaRPr>
          </a:p>
        </p:txBody>
      </p:sp>
      <p:sp>
        <p:nvSpPr>
          <p:cNvPr id="13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ose greater than 45 degrees latitud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ose between 5 and 45 degrees latitud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ose near the equ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paths are affected equall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F271AC5C-58F3-49BF-A731-EECD948BEF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A08 What can be the effect of a major geomagnetic storm on radio-wave propagation?</a:t>
            </a:r>
            <a:endParaRPr b="1" lang="en-US" sz="3000" spc="-1" strike="noStrike">
              <a:solidFill>
                <a:srgbClr val="ffff00"/>
              </a:solidFill>
              <a:latin typeface="Tahoma"/>
            </a:endParaRPr>
          </a:p>
        </p:txBody>
      </p:sp>
      <p:sp>
        <p:nvSpPr>
          <p:cNvPr id="13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mproved high-latitude HF propag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egraded high-latitude HF propag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mproved ground-wave propag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mproved chances of UHF duct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E7DDBAED-29E7-4CEC-900C-FA55107259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A08 What can be the effect of a major geomagnetic storm on radio-wave propagation?</a:t>
            </a:r>
            <a:endParaRPr b="1" lang="en-US" sz="3000" spc="-1" strike="noStrike">
              <a:solidFill>
                <a:srgbClr val="ffff00"/>
              </a:solidFill>
              <a:latin typeface="Tahoma"/>
            </a:endParaRPr>
          </a:p>
        </p:txBody>
      </p:sp>
      <p:sp>
        <p:nvSpPr>
          <p:cNvPr id="14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mproved high-latitude HF propag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Degraded high-latitude HF propag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mproved ground-wave propag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mproved chances of UHF duct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EAC3BD88-4BB4-454A-BDD2-5F6E43096F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83944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Sunspots</a:t>
            </a:r>
            <a:endParaRPr b="1" lang="en-US" sz="3000" spc="-1" strike="noStrike">
              <a:solidFill>
                <a:srgbClr val="ffff00"/>
              </a:solidFill>
              <a:latin typeface="Tahoma"/>
            </a:endParaRPr>
          </a:p>
        </p:txBody>
      </p:sp>
      <p:sp>
        <p:nvSpPr>
          <p:cNvPr id="143" name="PlaceHolder 2"/>
          <p:cNvSpPr>
            <a:spLocks noGrp="1"/>
          </p:cNvSpPr>
          <p:nvPr>
            <p:ph/>
          </p:nvPr>
        </p:nvSpPr>
        <p:spPr>
          <a:xfrm>
            <a:off x="762120" y="3885840"/>
            <a:ext cx="7772400" cy="25290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unspots peak during 11-year cycles</a:t>
            </a:r>
            <a:endParaRPr b="1" lang="en-US" sz="2800" spc="-1" strike="noStrike">
              <a:solidFill>
                <a:srgbClr val="ffff00"/>
              </a:solidFill>
              <a:latin typeface="Tahoma"/>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he higher the sunspot count, the more the atmosphere is ionized</a:t>
            </a:r>
            <a:endParaRPr b="1" lang="en-US" sz="2800" spc="-1" strike="noStrike">
              <a:solidFill>
                <a:srgbClr val="ffff00"/>
              </a:solidFill>
              <a:latin typeface="Tahoma"/>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hus, higher sunspot counts support a higher Maximum Usable Frequency (MUF)</a:t>
            </a:r>
            <a:endParaRPr b="1" lang="en-US" sz="2800" spc="-1" strike="noStrike">
              <a:solidFill>
                <a:srgbClr val="ffff00"/>
              </a:solidFill>
              <a:latin typeface="Tahoma"/>
            </a:endParaRPr>
          </a:p>
        </p:txBody>
      </p:sp>
      <p:pic>
        <p:nvPicPr>
          <p:cNvPr id="144" name="" descr=""/>
          <p:cNvPicPr/>
          <p:nvPr/>
        </p:nvPicPr>
        <p:blipFill>
          <a:blip r:embed="rId1"/>
          <a:stretch/>
        </p:blipFill>
        <p:spPr>
          <a:xfrm>
            <a:off x="838080" y="1828800"/>
            <a:ext cx="7610760" cy="1781280"/>
          </a:xfrm>
          <a:prstGeom prst="rect">
            <a:avLst/>
          </a:prstGeom>
          <a:ln w="0">
            <a:noFill/>
          </a:ln>
          <a:effectLst>
            <a:outerShdw dist="107932" dir="2700000" blurRad="0" rotWithShape="0">
              <a:srgbClr val="000514">
                <a:alpha val="50000"/>
              </a:srgbClr>
            </a:outerShdw>
          </a:effectLst>
        </p:spPr>
      </p:pic>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EC973440-A214-4DEC-8CAE-846F916AE1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0"/>
            <a:ext cx="883944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Ionospheric Protection</a:t>
            </a:r>
            <a:endParaRPr b="1" lang="en-US" sz="3000" spc="-1" strike="noStrike">
              <a:solidFill>
                <a:srgbClr val="ffff00"/>
              </a:solidFill>
              <a:latin typeface="Tahoma"/>
            </a:endParaRPr>
          </a:p>
        </p:txBody>
      </p:sp>
      <p:pic>
        <p:nvPicPr>
          <p:cNvPr id="108" name="" descr=""/>
          <p:cNvPicPr/>
          <p:nvPr/>
        </p:nvPicPr>
        <p:blipFill>
          <a:blip r:embed="rId1"/>
          <a:stretch/>
        </p:blipFill>
        <p:spPr>
          <a:xfrm>
            <a:off x="228600" y="1752480"/>
            <a:ext cx="8739360" cy="3679920"/>
          </a:xfrm>
          <a:prstGeom prst="rect">
            <a:avLst/>
          </a:prstGeom>
          <a:ln w="0">
            <a:noFill/>
          </a:ln>
          <a:effectLst>
            <a:outerShdw dist="107932" dir="2700000" blurRad="0" rotWithShape="0">
              <a:srgbClr val="000514">
                <a:alpha val="50000"/>
              </a:srgbClr>
            </a:outerShdw>
          </a:effectLst>
        </p:spPr>
      </p:pic>
      <p:sp>
        <p:nvSpPr>
          <p:cNvPr id="109" name=""/>
          <p:cNvSpPr/>
          <p:nvPr/>
        </p:nvSpPr>
        <p:spPr>
          <a:xfrm>
            <a:off x="304920" y="5638680"/>
            <a:ext cx="85341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ionosphere and magnetosphere protect us from harmful radiation from the sun</a:t>
            </a: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Radio Wave Propagation</a:t>
            </a:r>
          </a:p>
        </p:txBody>
      </p:sp>
      <p:sp>
        <p:nvSpPr>
          <p:cNvPr id="4" name="PlaceHolder 3"/>
          <p:cNvSpPr>
            <a:spLocks noGrp="1"/>
          </p:cNvSpPr>
          <p:nvPr>
            <p:ph type="sldNum" idx="2"/>
          </p:nvPr>
        </p:nvSpPr>
        <p:spPr/>
        <p:txBody>
          <a:bodyPr/>
          <a:p>
            <a:fld id="{616D21D6-EF2B-441E-9C6B-834E45B86C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A09 When sunspot numbers are high, what is the effect on radio communications?</a:t>
            </a:r>
            <a:endParaRPr b="1" lang="en-US" sz="3000" spc="-1" strike="noStrike">
              <a:solidFill>
                <a:srgbClr val="ffff00"/>
              </a:solidFill>
              <a:latin typeface="Tahoma"/>
            </a:endParaRPr>
          </a:p>
        </p:txBody>
      </p:sp>
      <p:sp>
        <p:nvSpPr>
          <p:cNvPr id="14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High-frequency radio signals are absorb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requencies above 300 MHz become usable for long-distance communic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Long-distance communication in the upper HF and lower VHF range is enhanc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High-frequency radio signals become weak and distort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F7BA1D39-4B13-4696-9D58-9D71E0E772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A09 When sunspot numbers are high, what is the effect on radio communications?</a:t>
            </a:r>
            <a:endParaRPr b="1" lang="en-US" sz="3000" spc="-1" strike="noStrike">
              <a:solidFill>
                <a:srgbClr val="ffff00"/>
              </a:solidFill>
              <a:latin typeface="Tahoma"/>
            </a:endParaRPr>
          </a:p>
        </p:txBody>
      </p:sp>
      <p:sp>
        <p:nvSpPr>
          <p:cNvPr id="14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High-frequency radio signals are absorb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requencies above 300 MHz become usable for long-distance communic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Long-distance communication in the upper HF and lower VHF range is enhance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High-frequency radio signals become weak and distort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D345B86D-668D-442A-98CD-D070327F30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A10 What is the sunspot number?</a:t>
            </a:r>
            <a:endParaRPr b="1" lang="en-US" sz="3000" spc="-1" strike="noStrike">
              <a:solidFill>
                <a:srgbClr val="ffff00"/>
              </a:solidFill>
              <a:latin typeface="Tahoma"/>
            </a:endParaRPr>
          </a:p>
        </p:txBody>
      </p:sp>
      <p:sp>
        <p:nvSpPr>
          <p:cNvPr id="15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daily index of sunspot activ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number of sunspots observed during one solar ro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number of sunspots observed during a sunspot cyc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number of sunspots observed averaged over a seven day perio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5352597A-8E4C-4F15-9BC9-F505935BCB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A10 What is the sunspot number?</a:t>
            </a:r>
            <a:endParaRPr b="1" lang="en-US" sz="3000" spc="-1" strike="noStrike">
              <a:solidFill>
                <a:srgbClr val="ffff00"/>
              </a:solidFill>
              <a:latin typeface="Tahoma"/>
            </a:endParaRPr>
          </a:p>
        </p:txBody>
      </p:sp>
      <p:sp>
        <p:nvSpPr>
          <p:cNvPr id="15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 daily index of sunspot activit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number of sunspots observed during one solar ro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number of sunspots observed during a sunspot cyc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number of sunspots observed averaged over a seven day perio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34BF5612-0C37-44CF-848B-5F20C89836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A11 What is the sunspot cycle?</a:t>
            </a:r>
            <a:endParaRPr b="1" lang="en-US" sz="3000" spc="-1" strike="noStrike">
              <a:solidFill>
                <a:srgbClr val="ffff00"/>
              </a:solidFill>
              <a:latin typeface="Tahoma"/>
            </a:endParaRPr>
          </a:p>
        </p:txBody>
      </p:sp>
      <p:sp>
        <p:nvSpPr>
          <p:cNvPr id="15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9- to 11-year periods when sunspots move from the sun's pole to its equatorial reg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9- to 11-year periods when sunspots cause coronal holes to appea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approximately 11-year variation in the sunspot numb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approximately 11-year periods when sunspots combine to form fla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B11F8BF2-054B-4870-9F5E-572A98F0B5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A11 What is the sunspot cycle?</a:t>
            </a:r>
            <a:endParaRPr b="1" lang="en-US" sz="3000" spc="-1" strike="noStrike">
              <a:solidFill>
                <a:srgbClr val="ffff00"/>
              </a:solidFill>
              <a:latin typeface="Tahoma"/>
            </a:endParaRPr>
          </a:p>
        </p:txBody>
      </p:sp>
      <p:sp>
        <p:nvSpPr>
          <p:cNvPr id="1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9- to 11-year periods when sunspots move from the sun's pole to its equatorial reg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9- to 11-year periods when sunspots cause coronal holes to appea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approximately 11-year variation in the sunspot numb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approximately 11-year periods when sunspots combine to form fla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94590655-312A-4790-87F3-D0D5928DAA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A12 What is the K-index?</a:t>
            </a:r>
            <a:endParaRPr b="1" lang="en-US" sz="3000" spc="-1" strike="noStrike">
              <a:solidFill>
                <a:srgbClr val="ffff00"/>
              </a:solidFill>
              <a:latin typeface="Tahoma"/>
            </a:endParaRPr>
          </a:p>
        </p:txBody>
      </p:sp>
      <p:sp>
        <p:nvSpPr>
          <p:cNvPr id="1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linear index of solar activ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measure of geomagnetic stabil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 index of solar flux measured at Boulder, Colorad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daily value measured on a scale from 0 to 400 to express the range of disturbance of the geomagnetic fiel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7BADFBC4-2DD7-4F72-A7CB-2E9BBFFD75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A12 What is the K-index?</a:t>
            </a:r>
            <a:endParaRPr b="1" lang="en-US" sz="3000" spc="-1" strike="noStrike">
              <a:solidFill>
                <a:srgbClr val="ffff00"/>
              </a:solidFill>
              <a:latin typeface="Tahoma"/>
            </a:endParaRPr>
          </a:p>
        </p:txBody>
      </p:sp>
      <p:sp>
        <p:nvSpPr>
          <p:cNvPr id="16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linear index of solar activit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A measure of geomagnetic stabilit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 index of solar flux measured at Boulder, Colorad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daily value measured on a scale from 0 to 400 to express the range of disturbance of the geomagnetic fiel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6A393630-C999-4EAC-9972-4F33D565DB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A13 What is the A-index?</a:t>
            </a:r>
            <a:endParaRPr b="1" lang="en-US" sz="3000" spc="-1" strike="noStrike">
              <a:solidFill>
                <a:srgbClr val="ffff00"/>
              </a:solidFill>
              <a:latin typeface="Tahoma"/>
            </a:endParaRPr>
          </a:p>
        </p:txBody>
      </p:sp>
      <p:sp>
        <p:nvSpPr>
          <p:cNvPr id="16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monthly linear index of solar activ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 weekly index of solar flux measured at Boulder, Colorad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daily value measured on a scale from 0 to 400 to express the range of disturbance of the geomagnetic fiel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 index used by NOAA to correlate the visual color wavelengths seen with Aurora Borealis (Northern Ligh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CE685CA8-9EB3-4322-A404-3BE24E2BEC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A13 What is the A-index?</a:t>
            </a:r>
            <a:endParaRPr b="1" lang="en-US" sz="3000" spc="-1" strike="noStrike">
              <a:solidFill>
                <a:srgbClr val="ffff00"/>
              </a:solidFill>
              <a:latin typeface="Tahoma"/>
            </a:endParaRPr>
          </a:p>
        </p:txBody>
      </p:sp>
      <p:sp>
        <p:nvSpPr>
          <p:cNvPr id="16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monthly linear index of solar activ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 weekly index of solar flux measured at Boulder, Colorado</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 daily value measured on a scale from 0 to 400 to express the range of disturbance of the geomagnetic fiel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 index used by NOAA to correlate the visual color wavelengths seen with Aurora Borealis (Northern Ligh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C2C07780-D63D-40A8-A048-490975FE4C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A01 What can be done at an amateur station to continue communications during a sudden ionospheric disturbance?</a:t>
            </a:r>
            <a:endParaRPr b="1" lang="en-US" sz="3000" spc="-1" strike="noStrike">
              <a:solidFill>
                <a:srgbClr val="ffff00"/>
              </a:solidFill>
              <a:latin typeface="Tahoma"/>
            </a:endParaRPr>
          </a:p>
        </p:txBody>
      </p:sp>
      <p:sp>
        <p:nvSpPr>
          <p:cNvPr id="11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ry a higher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ry the other side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ry a different antenna polariz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ry a different frequency shif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20AA7C58-70CD-446D-A7DE-F7B5988C8B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A14 How does solar coronal hole activity affect radio communications?</a:t>
            </a:r>
            <a:endParaRPr b="1" lang="en-US" sz="3000" spc="-1" strike="noStrike">
              <a:solidFill>
                <a:srgbClr val="ffff00"/>
              </a:solidFill>
              <a:latin typeface="Tahoma"/>
            </a:endParaRPr>
          </a:p>
        </p:txBody>
      </p:sp>
      <p:sp>
        <p:nvSpPr>
          <p:cNvPr id="1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activity emits charged particles that improve HF communi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activity emits charged particles that improve VHF/UHF duct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activity emits charged particles that usually disrupt HF communi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activity emits charged particles, but they never reach Earth's magnetospher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6F5436A0-521B-4211-BF34-22A7169A6D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A14 How does solar coronal hole activity affect radio communications?</a:t>
            </a:r>
            <a:endParaRPr b="1" lang="en-US" sz="3000" spc="-1" strike="noStrike">
              <a:solidFill>
                <a:srgbClr val="ffff00"/>
              </a:solidFill>
              <a:latin typeface="Tahoma"/>
            </a:endParaRPr>
          </a:p>
        </p:txBody>
      </p:sp>
      <p:sp>
        <p:nvSpPr>
          <p:cNvPr id="16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activity emits charged particles that improve HF communi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activity emits charged particles that improve VHF/UHF ducting</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activity emits charged particles that usually disrupt HF communication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activity emits charged particles, but they never reach Earth's magnetospher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44847635-2581-4B3E-8A0D-7728DC0891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A15 How long does it take charged particles from coronal mass ejections (CMEs) to affect radio-wave propagation on the earth?</a:t>
            </a:r>
            <a:endParaRPr b="1" lang="en-US" sz="3000" spc="-1" strike="noStrike">
              <a:solidFill>
                <a:srgbClr val="ffff00"/>
              </a:solidFill>
              <a:latin typeface="Tahoma"/>
            </a:endParaRPr>
          </a:p>
        </p:txBody>
      </p:sp>
      <p:sp>
        <p:nvSpPr>
          <p:cNvPr id="17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lmost instantaneous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bout 5 minu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bout 8 minu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0 to 40 hour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003713A2-064B-42D6-BC58-4224642C89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A15 How long does it take charged particles from coronal mass ejections (CMEs) to affect radio-wave propagation on the earth?</a:t>
            </a:r>
            <a:endParaRPr b="1" lang="en-US" sz="3000" spc="-1" strike="noStrike">
              <a:solidFill>
                <a:srgbClr val="ffff00"/>
              </a:solidFill>
              <a:latin typeface="Tahoma"/>
            </a:endParaRPr>
          </a:p>
        </p:txBody>
      </p:sp>
      <p:sp>
        <p:nvSpPr>
          <p:cNvPr id="17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lmost instantaneous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bout 5 minu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bout 8 minut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20 to 40 hour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CDE0FA2F-B532-4231-901A-66F4CDEB0C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A16 What might result during periods of high geomagnetic activity?</a:t>
            </a:r>
            <a:endParaRPr b="1" lang="en-US" sz="3000" spc="-1" strike="noStrike">
              <a:solidFill>
                <a:srgbClr val="ffff00"/>
              </a:solidFill>
              <a:latin typeface="Tahoma"/>
            </a:endParaRPr>
          </a:p>
        </p:txBody>
      </p:sp>
      <p:sp>
        <p:nvSpPr>
          <p:cNvPr id="17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visible auror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Excellent high-frequency radio condi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oor 6-meter condi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layer absorp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A41B59FE-3694-4EDB-A52A-6271882DE7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A16 What might result during periods of high geomagnetic activity?</a:t>
            </a:r>
            <a:endParaRPr b="1" lang="en-US" sz="3000" spc="-1" strike="noStrike">
              <a:solidFill>
                <a:srgbClr val="ffff00"/>
              </a:solidFill>
              <a:latin typeface="Tahoma"/>
            </a:endParaRPr>
          </a:p>
        </p:txBody>
      </p:sp>
      <p:sp>
        <p:nvSpPr>
          <p:cNvPr id="17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 visible aurora</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Excellent high-frequency radio condi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oor 6-meter condi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layer absorp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56086FB8-E4A6-4A59-8992-E72CF12AE0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0"/>
            <a:ext cx="883944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Ionospheric Layers</a:t>
            </a:r>
            <a:endParaRPr b="1" lang="en-US" sz="3000" spc="-1" strike="noStrike">
              <a:solidFill>
                <a:srgbClr val="ffff00"/>
              </a:solidFill>
              <a:latin typeface="Tahoma"/>
            </a:endParaRPr>
          </a:p>
        </p:txBody>
      </p:sp>
      <p:pic>
        <p:nvPicPr>
          <p:cNvPr id="178" name="" descr=""/>
          <p:cNvPicPr/>
          <p:nvPr/>
        </p:nvPicPr>
        <p:blipFill>
          <a:blip r:embed="rId1"/>
          <a:srcRect l="2652" t="0" r="4396" b="7141"/>
          <a:stretch/>
        </p:blipFill>
        <p:spPr>
          <a:xfrm>
            <a:off x="1066680" y="1143000"/>
            <a:ext cx="7086600" cy="5402160"/>
          </a:xfrm>
          <a:prstGeom prst="rect">
            <a:avLst/>
          </a:prstGeom>
          <a:ln w="0">
            <a:noFill/>
          </a:ln>
        </p:spPr>
      </p:pic>
      <p:sp>
        <p:nvSpPr>
          <p:cNvPr id="3" name="PlaceHolder 2"/>
          <p:cNvSpPr>
            <a:spLocks noGrp="1"/>
          </p:cNvSpPr>
          <p:nvPr>
            <p:ph type="ftr" idx="1"/>
          </p:nvPr>
        </p:nvSpPr>
        <p:spPr/>
        <p:txBody>
          <a:bodyPr/>
          <a:p>
            <a:r>
              <a:t>Radio Wave Propagation</a:t>
            </a:r>
          </a:p>
        </p:txBody>
      </p:sp>
      <p:sp>
        <p:nvSpPr>
          <p:cNvPr id="4" name="PlaceHolder 3"/>
          <p:cNvSpPr>
            <a:spLocks noGrp="1"/>
          </p:cNvSpPr>
          <p:nvPr>
            <p:ph type="sldNum" idx="2"/>
          </p:nvPr>
        </p:nvSpPr>
        <p:spPr/>
        <p:txBody>
          <a:bodyPr/>
          <a:p>
            <a:fld id="{8605CEB4-6D33-4958-8648-DF9DA9EBAD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360"/>
            <a:ext cx="8839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Critical Angle</a:t>
            </a:r>
            <a:endParaRPr b="1" lang="en-US" sz="3000" spc="-1" strike="noStrike">
              <a:solidFill>
                <a:srgbClr val="ffff00"/>
              </a:solidFill>
              <a:latin typeface="Tahoma"/>
            </a:endParaRPr>
          </a:p>
        </p:txBody>
      </p:sp>
      <p:pic>
        <p:nvPicPr>
          <p:cNvPr id="180" name="" descr=""/>
          <p:cNvPicPr/>
          <p:nvPr/>
        </p:nvPicPr>
        <p:blipFill>
          <a:blip r:embed="rId1"/>
          <a:srcRect l="0" t="0" r="5404" b="6416"/>
          <a:stretch/>
        </p:blipFill>
        <p:spPr>
          <a:xfrm>
            <a:off x="380880" y="1600200"/>
            <a:ext cx="8382240" cy="4226040"/>
          </a:xfrm>
          <a:prstGeom prst="rect">
            <a:avLst/>
          </a:prstGeom>
          <a:ln w="0">
            <a:noFill/>
          </a:ln>
        </p:spPr>
      </p:pic>
      <p:sp>
        <p:nvSpPr>
          <p:cNvPr id="3" name="PlaceHolder 2"/>
          <p:cNvSpPr>
            <a:spLocks noGrp="1"/>
          </p:cNvSpPr>
          <p:nvPr>
            <p:ph type="ftr" idx="1"/>
          </p:nvPr>
        </p:nvSpPr>
        <p:spPr/>
        <p:txBody>
          <a:bodyPr/>
          <a:p>
            <a:r>
              <a:t>Radio Wave Propagation</a:t>
            </a:r>
          </a:p>
        </p:txBody>
      </p:sp>
      <p:sp>
        <p:nvSpPr>
          <p:cNvPr id="4" name="PlaceHolder 3"/>
          <p:cNvSpPr>
            <a:spLocks noGrp="1"/>
          </p:cNvSpPr>
          <p:nvPr>
            <p:ph type="sldNum" idx="2"/>
          </p:nvPr>
        </p:nvSpPr>
        <p:spPr/>
        <p:txBody>
          <a:bodyPr/>
          <a:p>
            <a:fld id="{047CA36F-9DA5-48A6-A761-B730E0655D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B01 If the maximum usable frequency (MUF) on the path from Minnesota to France is 24 MHz, which band should offer the best chance for a successful contact?</a:t>
            </a:r>
            <a:endParaRPr b="1" lang="en-US" sz="3000" spc="-1" strike="noStrike">
              <a:solidFill>
                <a:srgbClr val="ffff00"/>
              </a:solidFill>
              <a:latin typeface="Tahoma"/>
            </a:endParaRPr>
          </a:p>
        </p:txBody>
      </p:sp>
      <p:sp>
        <p:nvSpPr>
          <p:cNvPr id="18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0 me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5 me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0 me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40 meter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B919748F-ACEA-4739-9ED6-855D3FDDB8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B01 If the maximum usable frequency (MUF) on the path from Minnesota to France is 24 MHz, which band should offer the best chance for a successful contact?</a:t>
            </a:r>
            <a:endParaRPr b="1" lang="en-US" sz="3000" spc="-1" strike="noStrike">
              <a:solidFill>
                <a:srgbClr val="ffff00"/>
              </a:solidFill>
              <a:latin typeface="Tahoma"/>
            </a:endParaRPr>
          </a:p>
        </p:txBody>
      </p:sp>
      <p:sp>
        <p:nvSpPr>
          <p:cNvPr id="18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0 meter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5 meter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0 me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40 meter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289AD283-1411-4664-805C-4C1669B22C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A01 What can be done at an amateur station to continue communications during a sudden ionospheric disturbance?</a:t>
            </a:r>
            <a:endParaRPr b="1" lang="en-US" sz="3000" spc="-1" strike="noStrike">
              <a:solidFill>
                <a:srgbClr val="ffff00"/>
              </a:solidFill>
              <a:latin typeface="Tahoma"/>
            </a:endParaRPr>
          </a:p>
        </p:txBody>
      </p:sp>
      <p:sp>
        <p:nvSpPr>
          <p:cNvPr id="11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ry a higher frequenc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ry the other side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ry a different antenna polariz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ry a different frequency shif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052942E1-AAE5-4E95-BFDA-4ED4F3C826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B02 If the maximum usable frequency (MUF) on the path from Ohio to Germany is 17 MHz, which band should offer the best chance for a successful contact?</a:t>
            </a:r>
            <a:endParaRPr b="1" lang="en-US" sz="3000" spc="-1" strike="noStrike">
              <a:solidFill>
                <a:srgbClr val="ffff00"/>
              </a:solidFill>
              <a:latin typeface="Tahoma"/>
            </a:endParaRPr>
          </a:p>
        </p:txBody>
      </p:sp>
      <p:sp>
        <p:nvSpPr>
          <p:cNvPr id="18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80 me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40 me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0 me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 meter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279791E6-7680-43CB-A686-8F3BF579E7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B02 If the maximum usable frequency (MUF) on the path from Ohio to Germany is 17 MHz, which band should offer the best chance for a successful contact?</a:t>
            </a:r>
            <a:endParaRPr b="1" lang="en-US" sz="3000" spc="-1" strike="noStrike">
              <a:solidFill>
                <a:srgbClr val="ffff00"/>
              </a:solidFill>
              <a:latin typeface="Tahoma"/>
            </a:endParaRPr>
          </a:p>
        </p:txBody>
      </p:sp>
      <p:sp>
        <p:nvSpPr>
          <p:cNvPr id="18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80 me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40 meter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20 meter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 meter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C241A279-435D-4FBC-B6E0-0322F35B73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B03 If the HF radio-wave propagation (skip) is generally good on the 24-MHz and 28-MHz bands for several days, when might you expect a similar condition to occur?</a:t>
            </a:r>
            <a:endParaRPr b="1" lang="en-US" sz="3000" spc="-1" strike="noStrike">
              <a:solidFill>
                <a:srgbClr val="ffff00"/>
              </a:solidFill>
              <a:latin typeface="Tahoma"/>
            </a:endParaRPr>
          </a:p>
        </p:txBody>
      </p:sp>
      <p:sp>
        <p:nvSpPr>
          <p:cNvPr id="19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7 days la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4 days la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8 days la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90 days la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9BCBC0CA-DEEF-44C0-8717-5354962613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B03 If the HF radio-wave propagation (skip) is generally good on the 24-MHz and 28-MHz bands for several days, when might you expect a similar condition to occur?</a:t>
            </a:r>
            <a:endParaRPr b="1" lang="en-US" sz="3000" spc="-1" strike="noStrike">
              <a:solidFill>
                <a:srgbClr val="ffff00"/>
              </a:solidFill>
              <a:latin typeface="Tahoma"/>
            </a:endParaRPr>
          </a:p>
        </p:txBody>
      </p:sp>
      <p:sp>
        <p:nvSpPr>
          <p:cNvPr id="19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7 days la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4 days lat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28 days lat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90 days la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D9435768-C308-4990-9D1A-4383AB144E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B04 What is one way to determine if the maximum usable frequency (MUF) is high enough to support 28-MHz propagation between your station and western Europe?</a:t>
            </a:r>
            <a:endParaRPr b="1" lang="en-US" sz="3000" spc="-1" strike="noStrike">
              <a:solidFill>
                <a:srgbClr val="ffff00"/>
              </a:solidFill>
              <a:latin typeface="Tahoma"/>
            </a:endParaRPr>
          </a:p>
        </p:txBody>
      </p:sp>
      <p:sp>
        <p:nvSpPr>
          <p:cNvPr id="19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isten for signals on a 10-meter beacon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isten for signals on a 20-meter beacon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Listen for signals on a 39-meter broadcast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Listen for WWVH time signals on 20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9C167954-BDD0-4614-8D45-CA51C422AC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B04 What is one way to determine if the maximum usable frequency (MUF) is high enough to support 28-MHz propagation between your station and western Europe?</a:t>
            </a:r>
            <a:endParaRPr b="1" lang="en-US" sz="3000" spc="-1" strike="noStrike">
              <a:solidFill>
                <a:srgbClr val="ffff00"/>
              </a:solidFill>
              <a:latin typeface="Tahoma"/>
            </a:endParaRPr>
          </a:p>
        </p:txBody>
      </p:sp>
      <p:sp>
        <p:nvSpPr>
          <p:cNvPr id="19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Listen for signals on a 10-meter beacon frequenc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isten for signals on a 20-meter beacon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Listen for signals on a 39-meter broadcast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Listen for WWVH time signals on 20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8131E4CF-FB6A-46CC-A313-93660DD4C6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B05 What usually happens to radio waves with frequencies below the maximum usable frequency (MUF) when they are sent into the ionosphere?</a:t>
            </a:r>
            <a:endParaRPr b="1" lang="en-US" sz="3000" spc="-1" strike="noStrike">
              <a:solidFill>
                <a:srgbClr val="ffff00"/>
              </a:solidFill>
              <a:latin typeface="Tahoma"/>
            </a:endParaRPr>
          </a:p>
        </p:txBody>
      </p:sp>
      <p:sp>
        <p:nvSpPr>
          <p:cNvPr id="19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y are bent back to the eart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y pass through the ionosphe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are completely absorbed by the ionosphe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y are bent and trapped in the ionosphere to circle the Earth</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384EAC02-CF10-4F27-90F4-6ACF863C37F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B05 What usually happens to radio waves with frequencies below the maximum usable frequency (MUF) when they are sent into the ionosphere?</a:t>
            </a:r>
            <a:endParaRPr b="1" lang="en-US" sz="3000" spc="-1" strike="noStrike">
              <a:solidFill>
                <a:srgbClr val="ffff00"/>
              </a:solidFill>
              <a:latin typeface="Tahoma"/>
            </a:endParaRPr>
          </a:p>
        </p:txBody>
      </p:sp>
      <p:sp>
        <p:nvSpPr>
          <p:cNvPr id="20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y are bent back to the earth</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y pass through the ionosphe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are completely absorbed by the ionosphe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y are bent and trapped in the ionosphere to circle the Earth</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303BCF50-1E21-4D60-84E5-F9F2B16609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B06 Where would you tune to hear beacons that would help you determine propagation conditions on the 20-meter band?</a:t>
            </a:r>
            <a:endParaRPr b="1" lang="en-US" sz="3000" spc="-1" strike="noStrike">
              <a:solidFill>
                <a:srgbClr val="ffff00"/>
              </a:solidFill>
              <a:latin typeface="Tahoma"/>
            </a:endParaRPr>
          </a:p>
        </p:txBody>
      </p:sp>
      <p:sp>
        <p:nvSpPr>
          <p:cNvPr id="20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8.2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1.1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4.1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8.1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A8CF36CD-ED5E-42AD-BB10-95553B8372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B06 Where would you tune to hear beacons that would help you determine propagation conditions on the 20-meter band?</a:t>
            </a:r>
            <a:endParaRPr b="1" lang="en-US" sz="3000" spc="-1" strike="noStrike">
              <a:solidFill>
                <a:srgbClr val="ffff00"/>
              </a:solidFill>
              <a:latin typeface="Tahoma"/>
            </a:endParaRPr>
          </a:p>
        </p:txBody>
      </p:sp>
      <p:sp>
        <p:nvSpPr>
          <p:cNvPr id="20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8.2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1.1 M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14.1 M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8.1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C3EF2499-14A0-4B64-A7C6-775748993C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A02 What effect does a sudden ionospheric disturbance have on the day-time ionospheric propagation of HF radio waves?</a:t>
            </a:r>
            <a:endParaRPr b="1" lang="en-US" sz="3000" spc="-1" strike="noStrike">
              <a:solidFill>
                <a:srgbClr val="ffff00"/>
              </a:solidFill>
              <a:latin typeface="Tahoma"/>
            </a:endParaRPr>
          </a:p>
        </p:txBody>
      </p:sp>
      <p:sp>
        <p:nvSpPr>
          <p:cNvPr id="11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disrupts higher-latitude paths more than lower-latitude path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disrupts signals on lower frequencies more than those on higher frequenc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disrupts communications via satellite more than direct communi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ne, only areas on the night side of the earth are affect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E5B52212-6B3B-4AAB-AE21-66AD581138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B07 During periods of low solar activity, which frequencies are the least reliable for long-distance communication?</a:t>
            </a:r>
            <a:endParaRPr b="1" lang="en-US" sz="3000" spc="-1" strike="noStrike">
              <a:solidFill>
                <a:srgbClr val="ffff00"/>
              </a:solidFill>
              <a:latin typeface="Tahoma"/>
            </a:endParaRPr>
          </a:p>
        </p:txBody>
      </p:sp>
      <p:sp>
        <p:nvSpPr>
          <p:cNvPr id="20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requencies below 3.5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requencies near 3.5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requencies on or above 1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requencies above 20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32D7E265-9A64-4E91-82DC-D1AE103984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B07 During periods of low solar activity, which frequencies are the least reliable for long-distance communication?</a:t>
            </a:r>
            <a:endParaRPr b="1" lang="en-US" sz="3000" spc="-1" strike="noStrike">
              <a:solidFill>
                <a:srgbClr val="ffff00"/>
              </a:solidFill>
              <a:latin typeface="Tahoma"/>
            </a:endParaRPr>
          </a:p>
        </p:txBody>
      </p:sp>
      <p:sp>
        <p:nvSpPr>
          <p:cNvPr id="20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requencies below 3.5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requencies near 3.5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requencies on or above 10 M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Frequencies above 20 MHz</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32A18FB0-70D5-4996-901A-B3D72B8231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B08 At what point in the solar cycle does the 20-meter band usually support worldwide propagation during daylight hours?</a:t>
            </a:r>
            <a:endParaRPr b="1" lang="en-US" sz="3000" spc="-1" strike="noStrike">
              <a:solidFill>
                <a:srgbClr val="ffff00"/>
              </a:solidFill>
              <a:latin typeface="Tahoma"/>
            </a:endParaRPr>
          </a:p>
        </p:txBody>
      </p:sp>
      <p:sp>
        <p:nvSpPr>
          <p:cNvPr id="21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t the summer solst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at the maximum point of the solar cyc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at the minimum point of the solar cyc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t any point in the solar cycl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4DE5EEC1-B807-47DF-92B0-E6222E4D41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B08 At what point in the solar cycle does the 20-meter band usually support worldwide propagation during daylight hours?</a:t>
            </a:r>
            <a:endParaRPr b="1" lang="en-US" sz="3000" spc="-1" strike="noStrike">
              <a:solidFill>
                <a:srgbClr val="ffff00"/>
              </a:solidFill>
              <a:latin typeface="Tahoma"/>
            </a:endParaRPr>
          </a:p>
        </p:txBody>
      </p:sp>
      <p:sp>
        <p:nvSpPr>
          <p:cNvPr id="2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t the summer solst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at the maximum point of the solar cyc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at the minimum point of the solar cycl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t any point in the solar cycle</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7AE4D0C3-3206-461D-A087-C90E9C1E77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B09 What is the maximum distance along the Earth's surface that is normally covered in one hop using the F2 region?</a:t>
            </a:r>
            <a:endParaRPr b="1" lang="en-US" sz="3000" spc="-1" strike="noStrike">
              <a:solidFill>
                <a:srgbClr val="ffff00"/>
              </a:solidFill>
              <a:latin typeface="Tahoma"/>
            </a:endParaRPr>
          </a:p>
        </p:txBody>
      </p:sp>
      <p:sp>
        <p:nvSpPr>
          <p:cNvPr id="2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80 mi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200 mi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500 mi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ne; the F2 region does not support radio-wave propag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517991E6-7020-4290-8C40-5B7826591D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B09 What is the maximum distance along the Earth's surface that is normally covered in one hop using the F2 region?</a:t>
            </a:r>
            <a:endParaRPr b="1" lang="en-US" sz="3000" spc="-1" strike="noStrike">
              <a:solidFill>
                <a:srgbClr val="ffff00"/>
              </a:solidFill>
              <a:latin typeface="Tahoma"/>
            </a:endParaRPr>
          </a:p>
        </p:txBody>
      </p:sp>
      <p:sp>
        <p:nvSpPr>
          <p:cNvPr id="2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80 mi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200 mil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2500 mil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ne; the F2 region does not support radio-wave propag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E4F34129-D294-4B59-8AF8-E2D8C93E53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B10 What is the maximum distance along the Earth's surface that is normally covered in one hop using the E region?</a:t>
            </a:r>
            <a:endParaRPr b="1" lang="en-US" sz="3000" spc="-1" strike="noStrike">
              <a:solidFill>
                <a:srgbClr val="ffff00"/>
              </a:solidFill>
              <a:latin typeface="Tahoma"/>
            </a:endParaRPr>
          </a:p>
        </p:txBody>
      </p:sp>
      <p:sp>
        <p:nvSpPr>
          <p:cNvPr id="21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80 mi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200 mi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500 mi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ne of these choices is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5462E63B-DB6A-4E8A-B433-FA0DD8A83D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B10 What is the maximum distance along the Earth's surface that is normally covered in one hop using the E region?</a:t>
            </a:r>
            <a:endParaRPr b="1" lang="en-US" sz="3000" spc="-1" strike="noStrike">
              <a:solidFill>
                <a:srgbClr val="ffff00"/>
              </a:solidFill>
              <a:latin typeface="Tahoma"/>
            </a:endParaRPr>
          </a:p>
        </p:txBody>
      </p:sp>
      <p:sp>
        <p:nvSpPr>
          <p:cNvPr id="2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80 mil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200 mil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500 mi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ne of these choices is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457BD1E3-3203-491E-BE32-0AAF1A884B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B11 What happens to HF propagation when the lowest usable frequency (LUF) exceeds the maximum usable frequency (MUF)?</a:t>
            </a:r>
            <a:endParaRPr b="1" lang="en-US" sz="3000" spc="-1" strike="noStrike">
              <a:solidFill>
                <a:srgbClr val="ffff00"/>
              </a:solidFill>
              <a:latin typeface="Tahoma"/>
            </a:endParaRPr>
          </a:p>
        </p:txBody>
      </p:sp>
      <p:sp>
        <p:nvSpPr>
          <p:cNvPr id="2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6000"/>
          </a:bodyPr>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 HF radio frequency will support communications along an ionospheric signal path</a:t>
            </a:r>
            <a:endParaRPr b="0" lang="en-US" sz="2400" spc="-1" strike="noStrike">
              <a:solidFill>
                <a:srgbClr val="ffffff"/>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lowest usable frequency can never exceed the maximum usable frequency</a:t>
            </a:r>
            <a:endParaRPr b="0" lang="en-US" sz="2400" spc="-1" strike="noStrike">
              <a:solidFill>
                <a:srgbClr val="ffffff"/>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ionospheric absorption of HF radio signals increases by 3 dB along every signal path</a:t>
            </a:r>
            <a:endParaRPr b="0" lang="en-US" sz="2400" spc="-1" strike="noStrike">
              <a:solidFill>
                <a:srgbClr val="ffffff"/>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ionospheric propagation paths are still usable, but the signal-to-noise ratio decreas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2F3256FF-CA25-4523-A789-C4A9435BD7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B11 What happens to HF propagation when the lowest usable frequency (LUF) exceeds the maximum usable frequency (MUF)?</a:t>
            </a:r>
            <a:endParaRPr b="1" lang="en-US" sz="3000" spc="-1" strike="noStrike">
              <a:solidFill>
                <a:srgbClr val="ffff00"/>
              </a:solidFill>
              <a:latin typeface="Tahoma"/>
            </a:endParaRPr>
          </a:p>
        </p:txBody>
      </p:sp>
      <p:sp>
        <p:nvSpPr>
          <p:cNvPr id="22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6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No HF radio frequency will support communications along an ionospheric signal path</a:t>
            </a:r>
            <a:endParaRPr b="1" lang="en-US" sz="2600" spc="-1" strike="noStrike">
              <a:solidFill>
                <a:srgbClr val="ffff00"/>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lowest usable frequency can never exceed the maximum usable frequency</a:t>
            </a:r>
            <a:endParaRPr b="0" lang="en-US" sz="2400" spc="-1" strike="noStrike">
              <a:solidFill>
                <a:srgbClr val="ffffff"/>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ionospheric absorption of HF radio signals increases by 3 dB along every signal path</a:t>
            </a:r>
            <a:endParaRPr b="0" lang="en-US" sz="2400" spc="-1" strike="noStrike">
              <a:solidFill>
                <a:srgbClr val="ffffff"/>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ionospheric propagation paths are still usable, but the signal-to-noise ratio decreas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BD726307-3F0D-4AC4-9D3E-3995AA9F27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A02 What effect does a sudden ionospheric disturbance have on the day-time ionospheric propagation of HF radio waves?</a:t>
            </a:r>
            <a:endParaRPr b="1" lang="en-US" sz="3000" spc="-1" strike="noStrike">
              <a:solidFill>
                <a:srgbClr val="ffff00"/>
              </a:solidFill>
              <a:latin typeface="Tahoma"/>
            </a:endParaRPr>
          </a:p>
        </p:txBody>
      </p:sp>
      <p:sp>
        <p:nvSpPr>
          <p:cNvPr id="11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disrupts higher-latitude paths more than lower-latitude path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It disrupts signals on lower frequencies more than those on higher frequenci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disrupts communications via satellite more than direct communi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ne, only areas on the night side of the earth are affect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0814CC24-099F-41C3-8172-7FCD5F27F7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B12 What factors affect the maximum usable frequency (MUF)?</a:t>
            </a:r>
            <a:endParaRPr b="1" lang="en-US" sz="3000" spc="-1" strike="noStrike">
              <a:solidFill>
                <a:srgbClr val="ffff00"/>
              </a:solidFill>
              <a:latin typeface="Tahoma"/>
            </a:endParaRPr>
          </a:p>
        </p:txBody>
      </p:sp>
      <p:sp>
        <p:nvSpPr>
          <p:cNvPr id="2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ath distance and lo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ime of day and seas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olar radiation and ionospheric disturbanc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4C1DECF6-ED12-432E-BDA7-DEF531B1EA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B12 What factors affect the maximum usable frequency (MUF)?</a:t>
            </a:r>
            <a:endParaRPr b="1" lang="en-US" sz="3000" spc="-1" strike="noStrike">
              <a:solidFill>
                <a:srgbClr val="ffff00"/>
              </a:solidFill>
              <a:latin typeface="Tahoma"/>
            </a:endParaRPr>
          </a:p>
        </p:txBody>
      </p:sp>
      <p:sp>
        <p:nvSpPr>
          <p:cNvPr id="2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ath distance and lo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ime of day and seas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olar radiation and ionospheric disturbanc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choice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0826F402-D026-4A5B-BE76-0812D8ECE5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B13 How might a skywave signal sound if it arrives at your receiver by both short path and long path propagation?</a:t>
            </a:r>
            <a:endParaRPr b="1" lang="en-US" sz="3000" spc="-1" strike="noStrike">
              <a:solidFill>
                <a:srgbClr val="ffff00"/>
              </a:solidFill>
              <a:latin typeface="Tahoma"/>
            </a:endParaRPr>
          </a:p>
        </p:txBody>
      </p:sp>
      <p:sp>
        <p:nvSpPr>
          <p:cNvPr id="23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eriodic fading every 10 secon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ignal strength increased by 3 dB</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ignal strength decreased by 3 dB</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well-defined echo can be hear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32E8BDC6-3BD7-4A6B-8693-D00E023154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B13 How might a skywave signal sound if it arrives at your receiver by both short path and long path propagation?</a:t>
            </a:r>
            <a:endParaRPr b="1" lang="en-US" sz="3000" spc="-1" strike="noStrike">
              <a:solidFill>
                <a:srgbClr val="ffff00"/>
              </a:solidFill>
              <a:latin typeface="Tahoma"/>
            </a:endParaRPr>
          </a:p>
        </p:txBody>
      </p:sp>
      <p:sp>
        <p:nvSpPr>
          <p:cNvPr id="23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eriodic fading every 10 secon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ignal strength increased by 3 dB</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ignal strength decreased by 3 dB</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 well-defined echo can be heard</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E3576FB5-37C2-4ECF-BD9C-BB93E6A88C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B14 A short distance hop on 10 meters might indicate what conditions on 6 meters?</a:t>
            </a:r>
            <a:endParaRPr b="1" lang="en-US" sz="3000" spc="-1" strike="noStrike">
              <a:solidFill>
                <a:srgbClr val="ffff00"/>
              </a:solidFill>
              <a:latin typeface="Tahoma"/>
            </a:endParaRPr>
          </a:p>
        </p:txBody>
      </p:sp>
      <p:sp>
        <p:nvSpPr>
          <p:cNvPr id="23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MUF exceeds 5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bsolutely no chance of a skywave 6-meter band open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6-meter ground waves will diminis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meter propagation has no bearing on possible 6-meter propag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B21DBC23-4F07-47F5-8106-D8AD5EC7E3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B14 A short distance hop on 10 meters might indicate what conditions on 6 meters?</a:t>
            </a:r>
            <a:endParaRPr b="1" lang="en-US" sz="3000" spc="-1" strike="noStrike">
              <a:solidFill>
                <a:srgbClr val="ffff00"/>
              </a:solidFill>
              <a:latin typeface="Tahoma"/>
            </a:endParaRPr>
          </a:p>
        </p:txBody>
      </p:sp>
      <p:sp>
        <p:nvSpPr>
          <p:cNvPr id="2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 MUF exceeds 50 M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bsolutely no chance of a skywave 6-meter band open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6-meter ground waves will diminis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meter propagation has no bearing on possible 6-meter propag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8B2C5A40-8592-41B9-A603-A34D7928CD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C01 What is the average height of maximum ionization of the E region?</a:t>
            </a:r>
            <a:endParaRPr b="1" lang="en-US" sz="3000" spc="-1" strike="noStrike">
              <a:solidFill>
                <a:srgbClr val="ffff00"/>
              </a:solidFill>
              <a:latin typeface="Tahoma"/>
            </a:endParaRPr>
          </a:p>
        </p:txBody>
      </p:sp>
      <p:sp>
        <p:nvSpPr>
          <p:cNvPr id="2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45 mi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70 mi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00 mi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200 mil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F63CEADB-B4D7-4DDC-8FC9-A741E4B7A2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C01 What is the average height of maximum ionization of the E region?</a:t>
            </a:r>
            <a:endParaRPr b="1" lang="en-US" sz="3000" spc="-1" strike="noStrike">
              <a:solidFill>
                <a:srgbClr val="ffff00"/>
              </a:solidFill>
              <a:latin typeface="Tahoma"/>
            </a:endParaRPr>
          </a:p>
        </p:txBody>
      </p:sp>
      <p:sp>
        <p:nvSpPr>
          <p:cNvPr id="24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45 mil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70 mil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00 mi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200 mil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823D43DC-3B87-4D08-8C57-C70FEDA46D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C02 When can the F2 region be expected to reach its maximum height at your location?</a:t>
            </a:r>
            <a:endParaRPr b="1" lang="en-US" sz="3000" spc="-1" strike="noStrike">
              <a:solidFill>
                <a:srgbClr val="ffff00"/>
              </a:solidFill>
              <a:latin typeface="Tahoma"/>
            </a:endParaRPr>
          </a:p>
        </p:txBody>
      </p:sp>
      <p:sp>
        <p:nvSpPr>
          <p:cNvPr id="24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t noon during the summ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t midnight during the summ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t dusk in the spring and fal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t noon during the win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E633A105-2C6C-4E31-832F-26243B3E64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C02 When can the F2 region be expected to reach its maximum height at your location?</a:t>
            </a:r>
            <a:endParaRPr b="1" lang="en-US" sz="3000" spc="-1" strike="noStrike">
              <a:solidFill>
                <a:srgbClr val="ffff00"/>
              </a:solidFill>
              <a:latin typeface="Tahoma"/>
            </a:endParaRPr>
          </a:p>
        </p:txBody>
      </p:sp>
      <p:sp>
        <p:nvSpPr>
          <p:cNvPr id="24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t noon during the summ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t midnight during the summ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t dusk in the spring and fal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t noon during the win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BC64DF17-5FC9-4271-A24B-769ADFCEFE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A03 How long does it take the increased ultraviolet and X-ray radiation from solar flares to affect radio-wave propagation on the earth?</a:t>
            </a:r>
            <a:endParaRPr b="1" lang="en-US" sz="3000" spc="-1" strike="noStrike">
              <a:solidFill>
                <a:srgbClr val="ffff00"/>
              </a:solidFill>
              <a:latin typeface="Tahoma"/>
            </a:endParaRPr>
          </a:p>
        </p:txBody>
      </p:sp>
      <p:sp>
        <p:nvSpPr>
          <p:cNvPr id="11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effect is almost instantaneou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5 minu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8 minu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0 to 40 hour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BF2247A5-672F-4AD8-A1CC-8FF08106DD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C03 Why is the F2 region mainly responsible for the longest-distance radio-wave propagation?</a:t>
            </a:r>
            <a:endParaRPr b="1" lang="en-US" sz="3000" spc="-1" strike="noStrike">
              <a:solidFill>
                <a:srgbClr val="ffff00"/>
              </a:solidFill>
              <a:latin typeface="Tahoma"/>
            </a:endParaRPr>
          </a:p>
        </p:txBody>
      </p:sp>
      <p:sp>
        <p:nvSpPr>
          <p:cNvPr id="24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ecause it exists only at nigh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ecause it is the lowest ionospheric reg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cause it is the highest ionospheric reg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ecause it does not absorb radio waves as much as other ionospheric reg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A3769092-B66B-462F-AE66-BBE1E1722F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C03 Why is the F2 region mainly responsible for the longest-distance radio-wave propagation?</a:t>
            </a:r>
            <a:endParaRPr b="1" lang="en-US" sz="3000" spc="-1" strike="noStrike">
              <a:solidFill>
                <a:srgbClr val="ffff00"/>
              </a:solidFill>
              <a:latin typeface="Tahoma"/>
            </a:endParaRPr>
          </a:p>
        </p:txBody>
      </p:sp>
      <p:sp>
        <p:nvSpPr>
          <p:cNvPr id="24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ecause it exists only at nigh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ecause it is the lowest ionospheric reg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Because it is the highest ionospheric reg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ecause it does not absorb radio waves as much as other ionospheric reg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663D1DA9-8DA1-4370-B371-FA0D121A3F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C04 What is the "critical angle" as used in radio-wave propagation?</a:t>
            </a:r>
            <a:endParaRPr b="1" lang="en-US" sz="3000" spc="-1" strike="noStrike">
              <a:solidFill>
                <a:srgbClr val="ffff00"/>
              </a:solidFill>
              <a:latin typeface="Tahoma"/>
            </a:endParaRPr>
          </a:p>
        </p:txBody>
      </p:sp>
      <p:sp>
        <p:nvSpPr>
          <p:cNvPr id="25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lowest takeoff angle that will return a radio wave to the earth under specific ionospheric condi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compass direction of a distant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compass direction opposite that of a distant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highest takeoff angle that will return a radio wave to the earth under specific ionospheric condi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2953AB83-A314-459C-B42E-A3242CF455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C04 What is the "critical angle" as used in radio-wave propagation?</a:t>
            </a:r>
            <a:endParaRPr b="1" lang="en-US" sz="3000" spc="-1" strike="noStrike">
              <a:solidFill>
                <a:srgbClr val="ffff00"/>
              </a:solidFill>
              <a:latin typeface="Tahoma"/>
            </a:endParaRPr>
          </a:p>
        </p:txBody>
      </p:sp>
      <p:sp>
        <p:nvSpPr>
          <p:cNvPr id="25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lowest takeoff angle that will return a radio wave to the earth under specific ionospheric condi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compass direction of a distant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compass direction opposite that of a distant st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 highest takeoff angle that will return a radio wave to the earth under specific ionospheric condition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50DB06F5-2815-482E-8A86-F847529E52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C05 What is the main reason the 160-, 80- and 40-meter amateur bands tend to be useful only for short-distance communications during daylight hours?</a:t>
            </a:r>
            <a:endParaRPr b="1" lang="en-US" sz="3000" spc="-1" strike="noStrike">
              <a:solidFill>
                <a:srgbClr val="ffff00"/>
              </a:solidFill>
              <a:latin typeface="Tahoma"/>
            </a:endParaRPr>
          </a:p>
        </p:txBody>
      </p:sp>
      <p:sp>
        <p:nvSpPr>
          <p:cNvPr id="25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ecause of a lack of activ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ecause of auroral propag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cause of D-region absorp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ecause of magnetic flux</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6A780F35-902D-4942-8180-35DA9F1FBE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C05 What is the main reason the 160-, 80- and 40-meter amateur bands tend to be useful only for short-distance communications during daylight hours?</a:t>
            </a:r>
            <a:endParaRPr b="1" lang="en-US" sz="3000" spc="-1" strike="noStrike">
              <a:solidFill>
                <a:srgbClr val="ffff00"/>
              </a:solidFill>
              <a:latin typeface="Tahoma"/>
            </a:endParaRPr>
          </a:p>
        </p:txBody>
      </p:sp>
      <p:sp>
        <p:nvSpPr>
          <p:cNvPr id="2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ecause of a lack of activ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ecause of auroral propag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Because of D-region absorp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ecause of magnetic flux</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C4DAB532-40FA-40E8-B8D3-127C8CC027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C06 What is a characteristic of HF scatter signals?</a:t>
            </a:r>
            <a:endParaRPr b="1" lang="en-US" sz="3000" spc="-1" strike="noStrike">
              <a:solidFill>
                <a:srgbClr val="ffff00"/>
              </a:solidFill>
              <a:latin typeface="Tahoma"/>
            </a:endParaRPr>
          </a:p>
        </p:txBody>
      </p:sp>
      <p:sp>
        <p:nvSpPr>
          <p:cNvPr id="2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High intelligibil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wavering s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versed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versed sideban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20662297-DEC7-4574-885E-6876ADFD27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C06 What is a characteristic of HF scatter signals?</a:t>
            </a:r>
            <a:endParaRPr b="1" lang="en-US" sz="3000" spc="-1" strike="noStrike">
              <a:solidFill>
                <a:srgbClr val="ffff00"/>
              </a:solidFill>
              <a:latin typeface="Tahoma"/>
            </a:endParaRPr>
          </a:p>
        </p:txBody>
      </p:sp>
      <p:sp>
        <p:nvSpPr>
          <p:cNvPr id="26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High intelligibilit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A wavering soun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versed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versed sideban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C1F046F8-6F4A-4C92-A710-B1B6C152A3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C07 What makes HF scatter signals often sound distorted?</a:t>
            </a:r>
            <a:endParaRPr b="1" lang="en-US" sz="3000" spc="-1" strike="noStrike">
              <a:solidFill>
                <a:srgbClr val="ffff00"/>
              </a:solidFill>
              <a:latin typeface="Tahoma"/>
            </a:endParaRPr>
          </a:p>
        </p:txBody>
      </p:sp>
      <p:sp>
        <p:nvSpPr>
          <p:cNvPr id="26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uroral activity and changes in the earth's magnetic fiel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ropagation through ground waves that absorb much of the sign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state of the E-region at the point of refrac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Energy scattered into the skip zone through several radio-wave path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62B13945-683B-4C35-B694-E8219493E0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C07 What makes HF scatter signals often sound distorted?</a:t>
            </a:r>
            <a:endParaRPr b="1" lang="en-US" sz="3000" spc="-1" strike="noStrike">
              <a:solidFill>
                <a:srgbClr val="ffff00"/>
              </a:solidFill>
              <a:latin typeface="Tahoma"/>
            </a:endParaRPr>
          </a:p>
        </p:txBody>
      </p:sp>
      <p:sp>
        <p:nvSpPr>
          <p:cNvPr id="26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uroral activity and changes in the earth's magnetic fiel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ropagation through ground waves that absorb much of the sign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state of the E-region at the point of refrac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Energy scattered into the skip zone through several radio-wave path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8FD2830C-79F1-43C3-B9C5-F32AF674BD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A03 How long does it take the increased ultraviolet and X-ray radiation from solar flares to affect radio-wave propagation on the earth?</a:t>
            </a:r>
            <a:endParaRPr b="1" lang="en-US" sz="3000" spc="-1" strike="noStrike">
              <a:solidFill>
                <a:srgbClr val="ffff00"/>
              </a:solidFill>
              <a:latin typeface="Tahoma"/>
            </a:endParaRPr>
          </a:p>
        </p:txBody>
      </p:sp>
      <p:sp>
        <p:nvSpPr>
          <p:cNvPr id="12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effect is almost instantaneou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5 minut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8 minut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0 to 40 hour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D3269D3A-3FB1-42C5-8380-3357014E81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C08 Why are HF scatter signals usually weak?</a:t>
            </a:r>
            <a:endParaRPr b="1" lang="en-US" sz="3000" spc="-1" strike="noStrike">
              <a:solidFill>
                <a:srgbClr val="ffff00"/>
              </a:solidFill>
              <a:latin typeface="Tahoma"/>
            </a:endParaRPr>
          </a:p>
        </p:txBody>
      </p:sp>
      <p:sp>
        <p:nvSpPr>
          <p:cNvPr id="2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part of the signal energy is propagated into the skip zo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uroral activity absorbs most of the signal energ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ropagation through ground waves absorbs most of the signal energ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F region of the ionosphere absorbs most of the signal energ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749383AB-9758-46D8-AB4C-47AA8D87A4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C08 Why are HF scatter signals usually weak?</a:t>
            </a:r>
            <a:endParaRPr b="1" lang="en-US" sz="3000" spc="-1" strike="noStrike">
              <a:solidFill>
                <a:srgbClr val="ffff00"/>
              </a:solidFill>
              <a:latin typeface="Tahoma"/>
            </a:endParaRPr>
          </a:p>
        </p:txBody>
      </p:sp>
      <p:sp>
        <p:nvSpPr>
          <p:cNvPr id="26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 part of the signal energy is propagated into the skip zon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uroral activity absorbs most of the signal energ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ropagation through ground waves absorbs most of the signal energ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F region of the ionosphere absorbs most of the signal energ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A8473A6A-970D-48D2-8343-8E0DA6EA0C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C09 What type of radio-wave propagation allows a signal to be detected at a distance too far for ground-wave propagation but too near for normal sky-wave propagation?</a:t>
            </a:r>
            <a:endParaRPr b="1" lang="en-US" sz="3000" spc="-1" strike="noStrike">
              <a:solidFill>
                <a:srgbClr val="ffff00"/>
              </a:solidFill>
              <a:latin typeface="Tahoma"/>
            </a:endParaRPr>
          </a:p>
        </p:txBody>
      </p:sp>
      <p:sp>
        <p:nvSpPr>
          <p:cNvPr id="27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Ground wav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ca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poradic-E ski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hort-path skip</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AD9571EE-81A9-45C9-A7ED-58A95EC5B7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C09 What type of radio-wave propagation allows a signal to be detected at a distance too far for ground-wave propagation but too near for normal sky-wave propagation?</a:t>
            </a:r>
            <a:endParaRPr b="1" lang="en-US" sz="3000" spc="-1" strike="noStrike">
              <a:solidFill>
                <a:srgbClr val="ffff00"/>
              </a:solidFill>
              <a:latin typeface="Tahoma"/>
            </a:endParaRPr>
          </a:p>
        </p:txBody>
      </p:sp>
      <p:sp>
        <p:nvSpPr>
          <p:cNvPr id="27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Ground wav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Scatt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poradic-E ski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hort-path skip</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8A3DF2CD-3F92-4F64-A25B-999BDAC4AC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C10 When does scatter propagation on the HF bands most often occur?</a:t>
            </a:r>
            <a:endParaRPr b="1" lang="en-US" sz="3000" spc="-1" strike="noStrike">
              <a:solidFill>
                <a:srgbClr val="ffff00"/>
              </a:solidFill>
              <a:latin typeface="Tahoma"/>
            </a:endParaRPr>
          </a:p>
        </p:txBody>
      </p:sp>
      <p:sp>
        <p:nvSpPr>
          <p:cNvPr id="27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hen the sunspot cycle is at a minimum and D-region absorption is hig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t nigh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hen the F1 and F2 regions are combin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hen communicating on frequencies above the maximum usable frequency (MUF)</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4C93E74F-C833-4322-8CED-8D074CB130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C10 When does scatter propagation on the HF bands most often occur?</a:t>
            </a:r>
            <a:endParaRPr b="1" lang="en-US" sz="3000" spc="-1" strike="noStrike">
              <a:solidFill>
                <a:srgbClr val="ffff00"/>
              </a:solidFill>
              <a:latin typeface="Tahoma"/>
            </a:endParaRPr>
          </a:p>
        </p:txBody>
      </p:sp>
      <p:sp>
        <p:nvSpPr>
          <p:cNvPr id="27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hen the sunspot cycle is at a minimum and D-region absorption is hig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t nigh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hen the F1 and F2 regions are combine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When communicating on frequencies above the maximum usable frequency (MUF)</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2B023FD6-3024-4E13-BCC4-43592384A5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C11 Which is true about ionospheric absorption near the maximum usable frequency (MUF)?</a:t>
            </a:r>
            <a:endParaRPr b="1" lang="en-US" sz="3000" spc="-1" strike="noStrike">
              <a:solidFill>
                <a:srgbClr val="ffff00"/>
              </a:solidFill>
              <a:latin typeface="Tahoma"/>
            </a:endParaRPr>
          </a:p>
        </p:txBody>
      </p:sp>
      <p:sp>
        <p:nvSpPr>
          <p:cNvPr id="27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bsorption will be minimu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bsorption is independent of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bsorption approaches maximu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re is no correlation between MUF and absorp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55493BCE-C566-4C20-91A6-67A52D726A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C11 Which is true about ionospheric absorption near the maximum usable frequency (MUF)?</a:t>
            </a:r>
            <a:endParaRPr b="1" lang="en-US" sz="3000" spc="-1" strike="noStrike">
              <a:solidFill>
                <a:srgbClr val="ffff00"/>
              </a:solidFill>
              <a:latin typeface="Tahoma"/>
            </a:endParaRPr>
          </a:p>
        </p:txBody>
      </p:sp>
      <p:sp>
        <p:nvSpPr>
          <p:cNvPr id="28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bsorption will be minimum</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bsorption is independent of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bsorption approaches maximu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re is no correlation between MUF and absorp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48717F75-AF3E-4BA9-A0BA-8252DE8C26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C12 Daylight fading on the 40-meter band is associated most with which ionospheric layer?</a:t>
            </a:r>
            <a:endParaRPr b="1" lang="en-US" sz="3000" spc="-1" strike="noStrike">
              <a:solidFill>
                <a:srgbClr val="ffff00"/>
              </a:solidFill>
              <a:latin typeface="Tahoma"/>
            </a:endParaRPr>
          </a:p>
        </p:txBody>
      </p:sp>
      <p:sp>
        <p:nvSpPr>
          <p:cNvPr id="28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F2 lay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F1 lay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E lay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D lay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F2E2103B-512B-4B62-AF5F-B6EEC50736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3C12 Daylight fading on the 40-meter band is associated most with which ionospheric layer?</a:t>
            </a:r>
            <a:endParaRPr b="1" lang="en-US" sz="3000" spc="-1" strike="noStrike">
              <a:solidFill>
                <a:srgbClr val="ffff00"/>
              </a:solidFill>
              <a:latin typeface="Tahoma"/>
            </a:endParaRPr>
          </a:p>
        </p:txBody>
      </p:sp>
      <p:sp>
        <p:nvSpPr>
          <p:cNvPr id="28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F2 lay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F1 lay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E lay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 D layer</a:t>
            </a:r>
            <a:endParaRPr b="1" lang="en-US" sz="2600" spc="-1" strike="noStrike">
              <a:solidFill>
                <a:srgbClr val="ffff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F67B9304-5F25-448B-9EC2-5C5011188F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3A04 What is solar flux?</a:t>
            </a:r>
            <a:endParaRPr b="1" lang="en-US" sz="3000" spc="-1" strike="noStrike">
              <a:solidFill>
                <a:srgbClr val="ffff00"/>
              </a:solidFill>
              <a:latin typeface="Tahoma"/>
            </a:endParaRPr>
          </a:p>
        </p:txBody>
      </p:sp>
      <p:sp>
        <p:nvSpPr>
          <p:cNvPr id="12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density of the sun's magnetic fiel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adio energy emitted by the su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number of sunspots on the side of the sun facing the eart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measure of the tilt of the earth's ionosphere on the side toward the su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 Propagation</a:t>
            </a:r>
          </a:p>
        </p:txBody>
      </p:sp>
      <p:sp>
        <p:nvSpPr>
          <p:cNvPr id="5" name="PlaceHolder 4"/>
          <p:cNvSpPr>
            <a:spLocks noGrp="1"/>
          </p:cNvSpPr>
          <p:nvPr>
            <p:ph type="sldNum" idx="2"/>
          </p:nvPr>
        </p:nvSpPr>
        <p:spPr/>
        <p:txBody>
          <a:bodyPr/>
          <a:p>
            <a:fld id="{CA7B1229-91F2-4029-857D-C6FA3910A9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ry Lewis</cp:lastModifiedBy>
  <dcterms:modified xsi:type="dcterms:W3CDTF">2006-09-19T00:45:48Z</dcterms:modified>
  <cp:revision>1</cp:revision>
  <dc:subject/>
  <dc:title>G3 -- RADIO WAVE PROPAGATION [3 Exam Questions -- 3 Groups]</dc:title>
</cp:coreProperties>
</file>