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C22F-4533-4DA2-A2F2-55FB1A05A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3 - GENERAL CLASS as released by the Question Pool Committee of the National Conference of Volunteer Examiner Coordinators December 1,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contained within this pool must be used in all General class examinations beginning July 1, 2004, and is intended to be used up through June 30, 2007.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an Amplitude Modulated (AM) or Sideband (SSB) signal varies with the amplitude (volume) of the modulating signal.  The signal quality is best and power maximized when modulation is 100% - no more no less.  Speech processors in most new rigs compress the voice dynamic range so modulation can stay closer to 100% all the time.  If it over modulates, the signal will be “clipped” or “flat topped” and can cause “splatter” on adjacent frequencies.  Looking for a slight deflection on your ALC meter when transmitting during modulation pea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m signal consists of a carrier and two identical but inverted sidebands.  If the carrier is suppressed, full power can be delivered to both sidebands.  Since the sidebands are identical, if one is eliminated entirely, more power is available to the other with a dramatic decrease in bandwidth.  SSB is a very efficient for of communications considering both power and spectrum us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BF31FE-6B2F-4925-8E3E-3620986A1B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45673F-0898-404F-B1ED-B9D3B067FF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44AF4C-A849-4B07-8CE4-47CDC81A1C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3DA0BC-7951-49EE-941A-3F18AD4E5E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F6EC4A-3A68-436F-B691-3F75CF351C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86F91-1253-4CCB-ADA6-2C72F4792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44E046-45BF-40A8-9081-FBEFF7C58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A862BA-BA4D-494F-90BD-0451AFF77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6F2682-EA46-4F90-BB8D-56238F420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0011A9-6EFB-4394-89BF-DDB2F8FA6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961EB-2C5D-4237-965F-CCBD518A7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96CAE6-5FDD-4939-B305-4D872205B2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68FF7-69B7-4B14-A523-CC844EAF47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7E9DF-7A04-40C3-9367-64D190ED2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F1C466-B0AD-4D9E-9F1A-BC49413A4F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E9DD46-F357-4682-8422-0521879C78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B49A82-ADE0-4B84-947D-3DFC47FDD2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985826-FEAE-4797-A78B-C306FAE01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6F28D4-9F52-475A-880B-3E81A4F86D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5AF7BB-7680-4E57-810B-7181970D7C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57BA77-23AF-4D98-B80E-694977B926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18C56E-5570-42A7-817F-F39A15F4A0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A9A416-8360-4AAF-B853-B04443FF57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1C3DB3-69E6-4E50-8FE1-6595727C2C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FF1F-264B-47D0-9130-283E7F1D06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0295-752E-4410-82B3-F8C24A503C4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 -- SIGNALS AND EMISSIONS</a:t>
            </a:r>
            <a:br>
              <a:rPr sz="3000"/>
            </a:br>
            <a:r>
              <a:rPr b="1" lang="en-US" sz="3000" spc="-1" strike="noStrike">
                <a:solidFill>
                  <a:srgbClr val="ffff00"/>
                </a:solidFill>
                <a:latin typeface="Tahoma"/>
              </a:rPr>
              <a:t>[2 Exam Questions -- 2 Groups]</a:t>
            </a:r>
            <a:endParaRPr b="1" lang="en-US" sz="3000" spc="-1" strike="noStrike">
              <a:solidFill>
                <a:srgbClr val="ffff00"/>
              </a:solidFill>
              <a:latin typeface="Tahoma"/>
            </a:endParaRPr>
          </a:p>
        </p:txBody>
      </p:sp>
      <p:sp>
        <p:nvSpPr>
          <p:cNvPr id="106" name="PlaceHolder 2"/>
          <p:cNvSpPr>
            <a:spLocks noGrp="1"/>
          </p:cNvSpPr>
          <p:nvPr>
            <p:ph/>
          </p:nvPr>
        </p:nvSpPr>
        <p:spPr>
          <a:xfrm>
            <a:off x="-360" y="2514600"/>
            <a:ext cx="8915400" cy="4114800"/>
          </a:xfrm>
          <a:prstGeom prst="rect">
            <a:avLst/>
          </a:prstGeom>
          <a:noFill/>
          <a:ln w="0">
            <a:noFill/>
          </a:ln>
        </p:spPr>
        <p:txBody>
          <a:bodyPr lIns="90000" rIns="90000" tIns="46800" bIns="46800" anchor="t">
            <a:normAutofit/>
          </a:bodyPr>
          <a:p>
            <a:pPr lvl="1" marL="119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8A  Signal information; AM; FM; single and double sideband and carrier; bandwidth; modulation envelope; deviation; overmodulation</a:t>
            </a:r>
            <a:endParaRPr b="0" lang="en-US" sz="2400" spc="-1" strike="noStrike">
              <a:solidFill>
                <a:srgbClr val="ffffff"/>
              </a:solidFill>
              <a:latin typeface="Tahoma"/>
            </a:endParaRPr>
          </a:p>
          <a:p>
            <a:pPr lvl="1" marL="1197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8B  Frequency mixing; multiplication; bandwidths; HF data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736725BC-D468-489A-901B-606AA8FFFD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04 What emission is produced by a reactance modulator connected to an RF power amplifier?</a:t>
            </a:r>
            <a:endParaRPr b="1" lang="en-US" sz="3000" spc="-1" strike="noStrike">
              <a:solidFill>
                <a:srgbClr val="ffff00"/>
              </a:solidFill>
              <a:latin typeface="Tahoma"/>
            </a:endParaRPr>
          </a:p>
        </p:txBody>
      </p:sp>
      <p:sp>
        <p:nvSpPr>
          <p:cNvPr id="1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ultiplex modul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Phase modul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ulse modul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7BB69DB9-BBD5-4EAE-A397-98C00F80D7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05 In what emission type does the instantaneous amplitude (envelope) of the RF signal vary in accordance with the modulating audio?</a:t>
            </a:r>
            <a:endParaRPr b="1" lang="en-US" sz="3000" spc="-1" strike="noStrike">
              <a:solidFill>
                <a:srgbClr val="ffff00"/>
              </a:solidFill>
              <a:latin typeface="Tahoma"/>
            </a:endParaRPr>
          </a:p>
        </p:txBody>
      </p:sp>
      <p:sp>
        <p:nvSpPr>
          <p:cNvPr id="1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shift key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uls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equency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plitude modul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73A0697D-693F-4A0B-AD02-2E3037883A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05 In what emission type does the instantaneous amplitude (envelope) of the RF signal vary in accordance with the modulating audio?</a:t>
            </a:r>
            <a:endParaRPr b="1" lang="en-US" sz="3000" spc="-1" strike="noStrike">
              <a:solidFill>
                <a:srgbClr val="ffff00"/>
              </a:solidFill>
              <a:latin typeface="Tahoma"/>
            </a:endParaRPr>
          </a:p>
        </p:txBody>
      </p:sp>
      <p:sp>
        <p:nvSpPr>
          <p:cNvPr id="1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shift key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uls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equency modul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mplitude modula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E2D38697-77D4-45CE-96A1-EF3E3E5038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07 What is one advantage of carrier suppression in a double-sideband phone transmission?</a:t>
            </a:r>
            <a:endParaRPr b="1" lang="en-US" sz="3000" spc="-1" strike="noStrike">
              <a:solidFill>
                <a:srgbClr val="ffff00"/>
              </a:solidFill>
              <a:latin typeface="Tahoma"/>
            </a:endParaRPr>
          </a:p>
        </p:txBody>
      </p:sp>
      <p:sp>
        <p:nvSpPr>
          <p:cNvPr id="1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half the bandwidth is required for the same information cont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Greater modulation percentage is obtainable with lower distor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ore power can be put into the side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impler equipment can be used to receive a double-sideband suppressed-carrier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D25AFA0C-5396-4980-8EA7-452F197298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07 What is one advantage of carrier suppression in a double-sideband phone transmission?</a:t>
            </a:r>
            <a:endParaRPr b="1" lang="en-US" sz="3000" spc="-1" strike="noStrike">
              <a:solidFill>
                <a:srgbClr val="ffff00"/>
              </a:solidFill>
              <a:latin typeface="Tahoma"/>
            </a:endParaRPr>
          </a:p>
        </p:txBody>
      </p:sp>
      <p:sp>
        <p:nvSpPr>
          <p:cNvPr id="1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half the bandwidth is required for the same information cont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Greater modulation percentage is obtainable with lower distor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More power can be put into the sideband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impler equipment can be used to receive a double-sideband suppressed-carrier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A8479FF0-A43F-4035-9B89-7AF42535F9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08 Which popular phone emission uses the narrowest frequency bandwidth?</a:t>
            </a:r>
            <a:endParaRPr b="1" lang="en-US" sz="3000" spc="-1" strike="noStrike">
              <a:solidFill>
                <a:srgbClr val="ffff00"/>
              </a:solidFill>
              <a:latin typeface="Tahoma"/>
            </a:endParaRPr>
          </a:p>
        </p:txBody>
      </p:sp>
      <p:sp>
        <p:nvSpPr>
          <p:cNvPr id="1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ngle-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ouble-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hase-modul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requency-modula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D9E6D690-41AC-4333-B759-D2C3B010C4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08 Which popular phone emission uses the narrowest frequency bandwidth?</a:t>
            </a:r>
            <a:endParaRPr b="1" lang="en-US" sz="3000" spc="-1" strike="noStrike">
              <a:solidFill>
                <a:srgbClr val="ffff00"/>
              </a:solidFill>
              <a:latin typeface="Tahoma"/>
            </a:endParaRPr>
          </a:p>
        </p:txBody>
      </p:sp>
      <p:sp>
        <p:nvSpPr>
          <p:cNvPr id="1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Single-sideba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ouble-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hase-modul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requency-modula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D2882B21-89F3-44C5-B0DF-2FFB6771DD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09 What happens to the signal of an overmodulated single-sideband or double-sideband phone transmitter?</a:t>
            </a:r>
            <a:endParaRPr b="1" lang="en-US" sz="3000" spc="-1" strike="noStrike">
              <a:solidFill>
                <a:srgbClr val="ffff00"/>
              </a:solidFill>
              <a:latin typeface="Tahoma"/>
            </a:endParaRPr>
          </a:p>
        </p:txBody>
      </p:sp>
      <p:sp>
        <p:nvSpPr>
          <p:cNvPr id="1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becomes louder with no other effec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occupies less bandwidth with poor high-frequency respo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has higher fidelity and improved signal-to-noise rat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becomes distorted and occupies more bandwidt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835E12EA-B58F-4570-9522-B9D2AD3FEF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09 What happens to the signal of an overmodulated single-sideband or double-sideband phone transmitter?</a:t>
            </a:r>
            <a:endParaRPr b="1" lang="en-US" sz="3000" spc="-1" strike="noStrike">
              <a:solidFill>
                <a:srgbClr val="ffff00"/>
              </a:solidFill>
              <a:latin typeface="Tahoma"/>
            </a:endParaRPr>
          </a:p>
        </p:txBody>
      </p:sp>
      <p:sp>
        <p:nvSpPr>
          <p:cNvPr id="1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becomes louder with no other effec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occupies less bandwidth with poor high-frequency respo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has higher fidelity and improved signal-to-noise ratio</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t becomes distorted and occupies more bandwidth</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F24A1768-EFA7-45C2-AEBB-FEAC25A4F1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10 How should the microphone gain control be adjusted on a single-sideband phone transmitter?</a:t>
            </a:r>
            <a:endParaRPr b="1" lang="en-US" sz="3000" spc="-1" strike="noStrike">
              <a:solidFill>
                <a:srgbClr val="ffff00"/>
              </a:solidFill>
              <a:latin typeface="Tahoma"/>
            </a:endParaRPr>
          </a:p>
        </p:txBody>
      </p:sp>
      <p:sp>
        <p:nvSpPr>
          <p:cNvPr id="1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or full deflection of the ALC meter on modulation peak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or slight movement of the ALC meter on modulation peak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or 100% frequency deviation on modulation peak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or a dip in plate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2B2C282A-E5F5-4A0A-984A-1974D60CB2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M and SSB Signals</a:t>
            </a:r>
            <a:endParaRPr b="1" lang="en-US" sz="3000" spc="-1" strike="noStrike">
              <a:solidFill>
                <a:srgbClr val="ffff00"/>
              </a:solidFill>
              <a:latin typeface="Tahoma"/>
            </a:endParaRPr>
          </a:p>
        </p:txBody>
      </p:sp>
      <p:pic>
        <p:nvPicPr>
          <p:cNvPr id="108" name="" descr=""/>
          <p:cNvPicPr/>
          <p:nvPr/>
        </p:nvPicPr>
        <p:blipFill>
          <a:blip r:embed="rId1"/>
          <a:srcRect l="1516" t="3002" r="4549" b="5413"/>
          <a:stretch/>
        </p:blipFill>
        <p:spPr>
          <a:xfrm>
            <a:off x="1447920" y="1371600"/>
            <a:ext cx="6248160" cy="4940280"/>
          </a:xfrm>
          <a:prstGeom prst="rect">
            <a:avLst/>
          </a:prstGeom>
          <a:ln w="0">
            <a:noFill/>
          </a:ln>
        </p:spPr>
      </p:pic>
      <p:sp>
        <p:nvSpPr>
          <p:cNvPr id="3" name="PlaceHolder 2"/>
          <p:cNvSpPr>
            <a:spLocks noGrp="1"/>
          </p:cNvSpPr>
          <p:nvPr>
            <p:ph type="ftr" idx="1"/>
          </p:nvPr>
        </p:nvSpPr>
        <p:spPr/>
        <p:txBody>
          <a:bodyPr/>
          <a:p>
            <a:r>
              <a:t>Signals and Emissions</a:t>
            </a:r>
          </a:p>
        </p:txBody>
      </p:sp>
      <p:sp>
        <p:nvSpPr>
          <p:cNvPr id="4" name="PlaceHolder 3"/>
          <p:cNvSpPr>
            <a:spLocks noGrp="1"/>
          </p:cNvSpPr>
          <p:nvPr>
            <p:ph type="sldNum" idx="2"/>
          </p:nvPr>
        </p:nvSpPr>
        <p:spPr/>
        <p:txBody>
          <a:bodyPr/>
          <a:p>
            <a:fld id="{41438A3A-BADD-4392-862A-B9F02888B9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10 How should the microphone gain control be adjusted on a single-sideband phone transmitter?</a:t>
            </a:r>
            <a:endParaRPr b="1" lang="en-US" sz="3000" spc="-1" strike="noStrike">
              <a:solidFill>
                <a:srgbClr val="ffff00"/>
              </a:solidFill>
              <a:latin typeface="Tahoma"/>
            </a:endParaRPr>
          </a:p>
        </p:txBody>
      </p:sp>
      <p:sp>
        <p:nvSpPr>
          <p:cNvPr id="1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or full deflection of the ALC meter on modulation peak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For slight movement of the ALC meter on modulation peak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or 100% frequency deviation on modulation peak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or a dip in plate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C37A82BB-8F46-4E39-8CBD-7616293669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11 What is meant by flattopping in a single-sideband phone transmission?</a:t>
            </a:r>
            <a:endParaRPr b="1" lang="en-US" sz="3000" spc="-1" strike="noStrike">
              <a:solidFill>
                <a:srgbClr val="ffff00"/>
              </a:solidFill>
              <a:latin typeface="Tahoma"/>
            </a:endParaRPr>
          </a:p>
        </p:txBody>
      </p:sp>
      <p:sp>
        <p:nvSpPr>
          <p:cNvPr id="1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gnal distortion caused by insufficient collector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ransmitter's automatic level control is properly adjus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ignal distortion caused by excessive dri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transmitter's carrier is properly suppres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BB17A754-7D16-442E-BCF3-3B390FC098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11 What is meant by flattopping in a single-sideband phone transmission?</a:t>
            </a:r>
            <a:endParaRPr b="1" lang="en-US" sz="3000" spc="-1" strike="noStrike">
              <a:solidFill>
                <a:srgbClr val="ffff00"/>
              </a:solidFill>
              <a:latin typeface="Tahoma"/>
            </a:endParaRPr>
          </a:p>
        </p:txBody>
      </p:sp>
      <p:sp>
        <p:nvSpPr>
          <p:cNvPr id="1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gnal distortion caused by insufficient collector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ransmitter's automatic level control is properly adjust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ignal distortion caused by excessive driv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transmitter's carrier is properly suppres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0DE44C0C-B5C0-49D8-966E-71128D22E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12 What happens to the RF carrier signal when a modulating audio signal is applied to an FM transmitter?</a:t>
            </a:r>
            <a:endParaRPr b="1" lang="en-US" sz="3000" spc="-1" strike="noStrike">
              <a:solidFill>
                <a:srgbClr val="ffff00"/>
              </a:solidFill>
              <a:latin typeface="Tahoma"/>
            </a:endParaRPr>
          </a:p>
        </p:txBody>
      </p:sp>
      <p:sp>
        <p:nvSpPr>
          <p:cNvPr id="1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carrier frequency changes proportionally to the instantaneous amplitude of the modulating signal</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carrier frequency changes proportionally to the amplitude and frequency of the modulating signal</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carrier amplitude changes proportionally to the instantaneous frequency of the modulating signal</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carrier phase changes proportionally to the instantaneous amplitude of the modulating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4B9B505E-9C53-4637-BB77-6BE3295B0C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12 What happens to the RF carrier signal when a modulating audio signal is applied to an FM transmitter?</a:t>
            </a:r>
            <a:endParaRPr b="1" lang="en-US" sz="3000" spc="-1" strike="noStrike">
              <a:solidFill>
                <a:srgbClr val="ffff00"/>
              </a:solidFill>
              <a:latin typeface="Tahoma"/>
            </a:endParaRPr>
          </a:p>
        </p:txBody>
      </p:sp>
      <p:sp>
        <p:nvSpPr>
          <p:cNvPr id="1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carrier frequency changes proportionally to the instantaneous amplitude of the modulating signal</a:t>
            </a:r>
            <a:endParaRPr b="1" lang="en-US" sz="2600" spc="-1" strike="noStrike">
              <a:solidFill>
                <a:srgbClr val="ffff00"/>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carrier frequency changes proportionally to the amplitude and frequency of the modulating signal</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carrier amplitude changes proportionally to the instantaneous frequency of the modulating signal</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carrier phase changes proportionally to the instantaneous amplitude of the modulating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01D726FB-23A5-4340-9C94-2AA527591F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13 What signal(s) would be found at the output of a properly adjusted balanced modulator?</a:t>
            </a:r>
            <a:endParaRPr b="1" lang="en-US" sz="3000" spc="-1" strike="noStrike">
              <a:solidFill>
                <a:srgbClr val="ffff00"/>
              </a:solidFill>
              <a:latin typeface="Tahoma"/>
            </a:endParaRPr>
          </a:p>
        </p:txBody>
      </p:sp>
      <p:sp>
        <p:nvSpPr>
          <p:cNvPr id="1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oth upper and lower side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ither upper or lower sideband, but not bo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oth upper and lower sidebands and the carr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odulating signal and the unmodulated carr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721ED205-672A-4E16-AA41-34C1539ACC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13 What signal(s) would be found at the output of a properly adjusted balanced modulator?</a:t>
            </a:r>
            <a:endParaRPr b="1" lang="en-US" sz="3000" spc="-1" strike="noStrike">
              <a:solidFill>
                <a:srgbClr val="ffff00"/>
              </a:solidFill>
              <a:latin typeface="Tahoma"/>
            </a:endParaRPr>
          </a:p>
        </p:txBody>
      </p:sp>
      <p:sp>
        <p:nvSpPr>
          <p:cNvPr id="1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Both upper and lower sideband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ither upper or lower sideband, but not bo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oth upper and lower sidebands and the carr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odulating signal and the unmodulated carr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EE2FED0D-DAAB-4106-95D0-D6E9A230D5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01 What receiver stage combines a 14.25-MHz input signal with a 13.795-MHz oscillator signal to produce a 455-kHz intermediate frequency (IF) signal?</a:t>
            </a:r>
            <a:endParaRPr b="1" lang="en-US" sz="3000" spc="-1" strike="noStrike">
              <a:solidFill>
                <a:srgbClr val="ffff00"/>
              </a:solidFill>
              <a:latin typeface="Tahoma"/>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ix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F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F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ultipl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14F62EB4-DFD4-42EB-AF6D-6C56DD314E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01 What receiver stage combines a 14.25-MHz input signal with a 13.795-MHz oscillator signal to produce a 455-kHz intermediate frequency (IF) signal?</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Mix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F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F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ultipl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8E390A05-F28D-4D30-B807-E130159A77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02 If a receiver mixes a 13.800-MHz VFO with a 14.255-MHz received signal to produce a 455-kHz intermediate frequency (IF) signal, what type of interference will a 13.345-MHz signal produce in the receiver?</a:t>
            </a:r>
            <a:endParaRPr b="1" lang="en-US" sz="3000" spc="-1" strike="noStrike">
              <a:solidFill>
                <a:srgbClr val="ffff00"/>
              </a:solidFill>
              <a:latin typeface="Tahoma"/>
            </a:endParaRPr>
          </a:p>
        </p:txBody>
      </p:sp>
      <p:sp>
        <p:nvSpPr>
          <p:cNvPr id="162"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cal oscill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mage respo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xer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mediate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9B51AD13-589C-462B-BEF1-4723574758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01 What type of modulation system changes the amplitude of an RF wave for the purpose of conveying information?</a:t>
            </a:r>
            <a:endParaRPr b="1" lang="en-US" sz="3000" spc="-1" strike="noStrike">
              <a:solidFill>
                <a:srgbClr val="ffff00"/>
              </a:solidFill>
              <a:latin typeface="Tahoma"/>
            </a:endParaRPr>
          </a:p>
        </p:txBody>
      </p:sp>
      <p:sp>
        <p:nvSpPr>
          <p:cNvPr id="1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has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rectification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plitude modul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16A51546-C443-4810-AA7C-BFBA9B39B6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02 If a receiver mixes a 13.800-MHz VFO with a 14.255-MHz received signal to produce a 455-kHz intermediate frequency (IF) signal, what type of interference will a 13.345-MHz signal produce in the receiver?</a:t>
            </a:r>
            <a:endParaRPr b="1" lang="en-US" sz="3000" spc="-1" strike="noStrike">
              <a:solidFill>
                <a:srgbClr val="ffff00"/>
              </a:solidFill>
              <a:latin typeface="Tahoma"/>
            </a:endParaRPr>
          </a:p>
        </p:txBody>
      </p:sp>
      <p:sp>
        <p:nvSpPr>
          <p:cNvPr id="164"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cal oscilla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mage respons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xer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mediate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E7F8C266-1CD3-46D2-B2FF-EB495FFC71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03 What stage in a transmitter would change a 5.3-MHz input signal to 14.3 MHz?</a:t>
            </a:r>
            <a:endParaRPr b="1" lang="en-US" sz="3000" spc="-1" strike="noStrike">
              <a:solidFill>
                <a:srgbClr val="ffff00"/>
              </a:solidFill>
              <a:latin typeface="Tahoma"/>
            </a:endParaRPr>
          </a:p>
        </p:txBody>
      </p:sp>
      <p:sp>
        <p:nvSpPr>
          <p:cNvPr id="1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ix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beat frequency oscill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frequency multipl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linear transl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EEDC1CB7-1013-4B84-8112-95A5553A80A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03 What stage in a transmitter would change a 5.3-MHz input signal to 14.3 MHz?</a:t>
            </a:r>
            <a:endParaRPr b="1" lang="en-US" sz="3000" spc="-1" strike="noStrike">
              <a:solidFill>
                <a:srgbClr val="ffff00"/>
              </a:solidFill>
              <a:latin typeface="Tahoma"/>
            </a:endParaRPr>
          </a:p>
        </p:txBody>
      </p:sp>
      <p:sp>
        <p:nvSpPr>
          <p:cNvPr id="1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mix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beat frequency oscill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frequency multipl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linear transl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89C5562F-1093-428E-899F-A307701563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04 What is the name of the stage in a VHF FM transmitter that selects a harmonic of an HF signal to reach the desired operating frequency?</a:t>
            </a:r>
            <a:endParaRPr b="1" lang="en-US" sz="3000" spc="-1" strike="noStrike">
              <a:solidFill>
                <a:srgbClr val="ffff00"/>
              </a:solidFill>
              <a:latin typeface="Tahoma"/>
            </a:endParaRPr>
          </a:p>
        </p:txBody>
      </p:sp>
      <p:sp>
        <p:nvSpPr>
          <p:cNvPr id="1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ix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actance modul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reemphasis networ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ultipl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BAF1C248-0951-45E9-868B-5EF1293583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04 What is the name of the stage in a VHF FM transmitter that selects a harmonic of an HF signal to reach the desired operating frequency?</a:t>
            </a:r>
            <a:endParaRPr b="1" lang="en-US" sz="3000" spc="-1" strike="noStrike">
              <a:solidFill>
                <a:srgbClr val="ffff00"/>
              </a:solidFill>
              <a:latin typeface="Tahoma"/>
            </a:endParaRPr>
          </a:p>
        </p:txBody>
      </p:sp>
      <p:sp>
        <p:nvSpPr>
          <p:cNvPr id="1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ix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actance modul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reemphasis network</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Multipli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7AA66B62-4308-40CD-9F88-AC8AD1347B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05 Why isn't frequency modulated (FM) phone used below 29.5 MHz?</a:t>
            </a:r>
            <a:endParaRPr b="1" lang="en-US" sz="3000" spc="-1" strike="noStrike">
              <a:solidFill>
                <a:srgbClr val="ffff00"/>
              </a:solidFill>
              <a:latin typeface="Tahoma"/>
            </a:endParaRPr>
          </a:p>
        </p:txBody>
      </p:sp>
      <p:sp>
        <p:nvSpPr>
          <p:cNvPr id="1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transmitter efficiency for this mode is lo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armonics could not be attenuated to practical leve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bandwidth would exceed FCC lim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requency stability would not be adequat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3718CF7B-DA50-44C9-A345-A06ADC6434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05 Why isn't frequency modulated (FM) phone used below 29.5 MHz?</a:t>
            </a:r>
            <a:endParaRPr b="1" lang="en-US" sz="3000" spc="-1" strike="noStrike">
              <a:solidFill>
                <a:srgbClr val="ffff00"/>
              </a:solidFill>
              <a:latin typeface="Tahoma"/>
            </a:endParaRPr>
          </a:p>
        </p:txBody>
      </p:sp>
      <p:sp>
        <p:nvSpPr>
          <p:cNvPr id="1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transmitter efficiency for this mode is lo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armonics could not be attenuated to practical level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bandwidth would exceed FCC limi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requency stability would not be adequat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EDB1473A-AD67-45D0-B06B-E31C16CC1E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06 What is the total bandwidth of an FM-phone transmission having a 5-kHz deviation and a 3-kHz modulating frequency?</a:t>
            </a:r>
            <a:endParaRPr b="1" lang="en-US" sz="3000" spc="-1" strike="noStrike">
              <a:solidFill>
                <a:srgbClr val="ffff00"/>
              </a:solidFill>
              <a:latin typeface="Tahoma"/>
            </a:endParaRPr>
          </a:p>
        </p:txBody>
      </p:sp>
      <p:sp>
        <p:nvSpPr>
          <p:cNvPr id="1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8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6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68B494E1-D160-4EB5-B752-9905353DBE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06 What is the total bandwidth of an FM-phone transmission having a 5-kHz deviation and a 3-kHz modulating frequency?</a:t>
            </a:r>
            <a:endParaRPr b="1" lang="en-US" sz="3000" spc="-1" strike="noStrike">
              <a:solidFill>
                <a:srgbClr val="ffff00"/>
              </a:solidFill>
              <a:latin typeface="Tahoma"/>
            </a:endParaRPr>
          </a:p>
        </p:txBody>
      </p:sp>
      <p:sp>
        <p:nvSpPr>
          <p:cNvPr id="1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8 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16 k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42490331-9024-44BC-9C7A-68DC46E638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07 What is the frequency deviation for a 12.21-MHz reactance-modulated oscillator in a 5-kHz deviation, 146.52-MHz FM-phone transmitter?</a:t>
            </a:r>
            <a:endParaRPr b="1" lang="en-US" sz="3000" spc="-1" strike="noStrike">
              <a:solidFill>
                <a:srgbClr val="ffff00"/>
              </a:solidFill>
              <a:latin typeface="Tahoma"/>
            </a:endParaRPr>
          </a:p>
        </p:txBody>
      </p:sp>
      <p:sp>
        <p:nvSpPr>
          <p:cNvPr id="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1.67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416.7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D35E9451-CB1A-4800-BE11-F3F5F98506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01 What type of modulation system changes the amplitude of an RF wave for the purpose of conveying information?</a:t>
            </a:r>
            <a:endParaRPr b="1" lang="en-US" sz="3000" spc="-1" strike="noStrike">
              <a:solidFill>
                <a:srgbClr val="ffff00"/>
              </a:solidFill>
              <a:latin typeface="Tahoma"/>
            </a:endParaRPr>
          </a:p>
        </p:txBody>
      </p:sp>
      <p:sp>
        <p:nvSpPr>
          <p:cNvPr id="1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has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rectification modul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mplitude modula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18BE9A0F-9E6B-49D5-922A-8836045EE4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07 What is the frequency deviation for a 12.21-MHz reactance-modulated oscillator in a 5-kHz deviation, 146.52-MHz FM-phone transmitter?</a:t>
            </a:r>
            <a:endParaRPr b="1" lang="en-US" sz="3000" spc="-1" strike="noStrike">
              <a:solidFill>
                <a:srgbClr val="ffff00"/>
              </a:solidFill>
              <a:latin typeface="Tahoma"/>
            </a:endParaRPr>
          </a:p>
        </p:txBody>
      </p:sp>
      <p:sp>
        <p:nvSpPr>
          <p:cNvPr id="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1.67 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416.7 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F88E2EB4-0DB5-4498-8A81-24940E33CF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08 How is frequency shift related to keying speed in an FSK signal?</a:t>
            </a:r>
            <a:endParaRPr b="1" lang="en-US" sz="3000" spc="-1" strike="noStrike">
              <a:solidFill>
                <a:srgbClr val="ffff00"/>
              </a:solidFill>
              <a:latin typeface="Tahoma"/>
            </a:endParaRPr>
          </a:p>
        </p:txBody>
      </p:sp>
      <p:sp>
        <p:nvSpPr>
          <p:cNvPr id="1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frequency shift in hertz must be at least four times the keying speed in WP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requency shift must not exceed 15 Hz per WPM of keying spe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reater keying speeds require greater frequency shif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Greater keying speeds require smaller frequency shif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87FDF1D2-BBAD-46B1-961B-E3BB0BDB81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08 How is frequency shift related to keying speed in an FSK signal?</a:t>
            </a:r>
            <a:endParaRPr b="1" lang="en-US" sz="3000" spc="-1" strike="noStrike">
              <a:solidFill>
                <a:srgbClr val="ffff00"/>
              </a:solidFill>
              <a:latin typeface="Tahoma"/>
            </a:endParaRPr>
          </a:p>
        </p:txBody>
      </p:sp>
      <p:sp>
        <p:nvSpPr>
          <p:cNvPr id="1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frequency shift in hertz must be at least four times the keying speed in WP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requency shift must not exceed 15 Hz per WPM of keying spe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Greater keying speeds require greater frequency shif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Greater keying speeds require smaller frequency shif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25100345-1E36-4307-B2D2-BB3DC38099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09 What do RTTY, Morse code, PSK31 and packet communications have in common?</a:t>
            </a:r>
            <a:endParaRPr b="1" lang="en-US" sz="3000" spc="-1" strike="noStrike">
              <a:solidFill>
                <a:srgbClr val="ffff00"/>
              </a:solidFill>
              <a:latin typeface="Tahoma"/>
            </a:endParaRPr>
          </a:p>
        </p:txBody>
      </p:sp>
      <p:sp>
        <p:nvSpPr>
          <p:cNvPr id="1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multipath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are digital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are analog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are only for emergency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431EE84E-8573-409E-B56F-6A0491D2AD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09 What do RTTY, Morse code, PSK31 and packet communications have in common?</a:t>
            </a:r>
            <a:endParaRPr b="1" lang="en-US" sz="3000" spc="-1" strike="noStrike">
              <a:solidFill>
                <a:srgbClr val="ffff00"/>
              </a:solidFill>
              <a:latin typeface="Tahoma"/>
            </a:endParaRPr>
          </a:p>
        </p:txBody>
      </p:sp>
      <p:sp>
        <p:nvSpPr>
          <p:cNvPr id="1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multipath communica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y are digital communicat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are analog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are only for emergency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4EF1BEDF-39B4-4180-800A-2BABD15ED7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10 When sending data modes, why is it important to know the duty cycle of the mode you are using?</a:t>
            </a:r>
            <a:endParaRPr b="1" lang="en-US" sz="3000" spc="-1" strike="noStrike">
              <a:solidFill>
                <a:srgbClr val="ffff00"/>
              </a:solidFill>
              <a:latin typeface="Tahoma"/>
            </a:endParaRPr>
          </a:p>
        </p:txBody>
      </p:sp>
      <p:sp>
        <p:nvSpPr>
          <p:cNvPr id="1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connectors, feed line or antenna may be rated for intermittent amateur ser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prevent damage to your transmitter's final output stage due to its inability to dissipate excess hea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prevent blowing your power supply's fuse due to its inability to dissipate excess hea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7575B307-549B-49FB-9F19-E24074261E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10 When sending data modes, why is it important to know the duty cycle of the mode you are using?</a:t>
            </a:r>
            <a:endParaRPr b="1" lang="en-US" sz="3000" spc="-1" strike="noStrike">
              <a:solidFill>
                <a:srgbClr val="ffff00"/>
              </a:solidFill>
              <a:latin typeface="Tahoma"/>
            </a:endParaRPr>
          </a:p>
        </p:txBody>
      </p:sp>
      <p:sp>
        <p:nvSpPr>
          <p:cNvPr id="1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connectors, feed line or antenna may be rated for intermittent amateur servi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o prevent damage to your transmitter's final output stage due to its inability to dissipate excess hea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prevent blowing your power supply's fuse due to its inability to dissipate excess hea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789BA4CD-0558-4923-8808-2AC541C9B2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11 In what segment of the 20-meter band are most PSK31 operations found?</a:t>
            </a:r>
            <a:endParaRPr b="1" lang="en-US" sz="3000" spc="-1" strike="noStrike">
              <a:solidFill>
                <a:srgbClr val="ffff00"/>
              </a:solidFill>
              <a:latin typeface="Tahoma"/>
            </a:endParaRPr>
          </a:p>
        </p:txBody>
      </p:sp>
      <p:sp>
        <p:nvSpPr>
          <p:cNvPr id="1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the bottom of the slow-scan TV segment, near 14.23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the top of the SSB phone segment, near 14.3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 the middle of the CW segment, near 14.10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low the RTTY segment, near 14.07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A23E06D2-BA3D-4B78-9DDE-8F59D3A18B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11 In what segment of the 20-meter band are most PSK31 operations found?</a:t>
            </a:r>
            <a:endParaRPr b="1" lang="en-US" sz="3000" spc="-1" strike="noStrike">
              <a:solidFill>
                <a:srgbClr val="ffff00"/>
              </a:solidFill>
              <a:latin typeface="Tahoma"/>
            </a:endParaRPr>
          </a:p>
        </p:txBody>
      </p:sp>
      <p:sp>
        <p:nvSpPr>
          <p:cNvPr id="2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the bottom of the slow-scan TV segment, near 14.23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the top of the SSB phone segment, near 14.3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 the middle of the CW segment, near 14.100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Below the RTTY segment, near 14.070 M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E0D86DDB-1605-43F6-987E-A4C151A908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12 What is the maximum bandwidth permitted by FCC rules for amateur radio stations when operating on USB frequencies in the 60-meter band?</a:t>
            </a:r>
            <a:endParaRPr b="1" lang="en-US" sz="3000" spc="-1" strike="noStrike">
              <a:solidFill>
                <a:srgbClr val="ffff00"/>
              </a:solidFill>
              <a:latin typeface="Tahoma"/>
            </a:endParaRPr>
          </a:p>
        </p:txBody>
      </p:sp>
      <p:sp>
        <p:nvSpPr>
          <p:cNvPr id="2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8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6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8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71363F81-6F14-4040-BF19-CE8BC9A1E0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02 What type of modulation system changes the phase of an RF wave for the purpose of conveying information?</a:t>
            </a:r>
            <a:endParaRPr b="1" lang="en-US" sz="3000" spc="-1" strike="noStrike">
              <a:solidFill>
                <a:srgbClr val="ffff00"/>
              </a:solidFill>
              <a:latin typeface="Tahoma"/>
            </a:endParaRPr>
          </a:p>
        </p:txBody>
      </p:sp>
      <p:sp>
        <p:nvSpPr>
          <p:cNvPr id="1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uls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has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hase-rectification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plitude modul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116E0574-9947-4492-BF9D-E3F82BFDEE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12 What is the maximum bandwidth permitted by FCC rules for amateur radio stations when operating on USB frequencies in the 60-meter band?</a:t>
            </a:r>
            <a:endParaRPr b="1" lang="en-US" sz="3000" spc="-1" strike="noStrike">
              <a:solidFill>
                <a:srgbClr val="ffff00"/>
              </a:solidFill>
              <a:latin typeface="Tahoma"/>
            </a:endParaRPr>
          </a:p>
        </p:txBody>
      </p:sp>
      <p:sp>
        <p:nvSpPr>
          <p:cNvPr id="2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8 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6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8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FEAE659E-3AEB-4A99-A6CE-6F0ED365BF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B13 What is another term for the mixing of two RF signals?</a:t>
            </a:r>
            <a:endParaRPr b="1" lang="en-US" sz="3000" spc="-1" strike="noStrike">
              <a:solidFill>
                <a:srgbClr val="ffff00"/>
              </a:solidFill>
              <a:latin typeface="Tahoma"/>
            </a:endParaRPr>
          </a:p>
        </p:txBody>
      </p:sp>
      <p:sp>
        <p:nvSpPr>
          <p:cNvPr id="2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eterodyn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ynthesiz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ncel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ultiply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B341536C-A47D-4F97-B644-C4AD412E16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B13 What is another term for the mixing of two RF signals?</a:t>
            </a:r>
            <a:endParaRPr b="1" lang="en-US" sz="3000" spc="-1" strike="noStrike">
              <a:solidFill>
                <a:srgbClr val="ffff00"/>
              </a:solidFill>
              <a:latin typeface="Tahoma"/>
            </a:endParaRPr>
          </a:p>
        </p:txBody>
      </p:sp>
      <p:sp>
        <p:nvSpPr>
          <p:cNvPr id="2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Heterodyn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ynthesiz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ncel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ultiply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52FD6F5D-FC2C-4F35-B922-3B53EE776AA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02 What type of modulation system changes the phase of an RF wave for the purpose of conveying information?</a:t>
            </a:r>
            <a:endParaRPr b="1" lang="en-US" sz="3000" spc="-1" strike="noStrike">
              <a:solidFill>
                <a:srgbClr val="ffff00"/>
              </a:solidFill>
              <a:latin typeface="Tahoma"/>
            </a:endParaRPr>
          </a:p>
        </p:txBody>
      </p:sp>
      <p:sp>
        <p:nvSpPr>
          <p:cNvPr id="1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ulse modul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Phase modul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hase-rectification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plitude modul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53E93DEB-1A5B-485F-AFB4-C8B290522B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03 What type of modulation system changes the frequency of an RF wave for the purpose of conveying information?</a:t>
            </a:r>
            <a:endParaRPr b="1" lang="en-US" sz="3000" spc="-1" strike="noStrike">
              <a:solidFill>
                <a:srgbClr val="ffff00"/>
              </a:solidFill>
              <a:latin typeface="Tahoma"/>
            </a:endParaRPr>
          </a:p>
        </p:txBody>
      </p:sp>
      <p:sp>
        <p:nvSpPr>
          <p:cNvPr id="1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hase-rectification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y-rectification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requency modul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0438013C-AFF6-474B-85BD-259EE3C27C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8A03 What type of modulation system changes the frequency of an RF wave for the purpose of conveying information?</a:t>
            </a:r>
            <a:endParaRPr b="1" lang="en-US" sz="3000" spc="-1" strike="noStrike">
              <a:solidFill>
                <a:srgbClr val="ffff00"/>
              </a:solidFill>
              <a:latin typeface="Tahoma"/>
            </a:endParaRPr>
          </a:p>
        </p:txBody>
      </p:sp>
      <p:sp>
        <p:nvSpPr>
          <p:cNvPr id="1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hase-rectification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y-rectification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modul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Frequency modula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130DE6C4-B038-4F5D-AE2D-56924AC289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8A04 What emission is produced by a reactance modulator connected to an RF power amplifier?</a:t>
            </a:r>
            <a:endParaRPr b="1" lang="en-US" sz="3000" spc="-1" strike="noStrike">
              <a:solidFill>
                <a:srgbClr val="ffff00"/>
              </a:solidFill>
              <a:latin typeface="Tahoma"/>
            </a:endParaRPr>
          </a:p>
        </p:txBody>
      </p:sp>
      <p:sp>
        <p:nvSpPr>
          <p:cNvPr id="1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ultiplex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has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ulse modul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ignals and Emissions</a:t>
            </a:r>
          </a:p>
        </p:txBody>
      </p:sp>
      <p:sp>
        <p:nvSpPr>
          <p:cNvPr id="5" name="PlaceHolder 4"/>
          <p:cNvSpPr>
            <a:spLocks noGrp="1"/>
          </p:cNvSpPr>
          <p:nvPr>
            <p:ph type="sldNum" idx="2"/>
          </p:nvPr>
        </p:nvSpPr>
        <p:spPr/>
        <p:txBody>
          <a:bodyPr/>
          <a:p>
            <a:fld id="{687A2435-290B-4A6B-A0F8-3F538E1536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9T00:51:44Z</dcterms:modified>
  <cp:revision>1</cp:revision>
  <dc:subject/>
  <dc:title>G8 -- SIGNALS AND EMISSIONS [2 Exam Questions -- 2 Groups]</dc:title>
</cp:coreProperties>
</file>