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37FC-6498-4F1E-A9DF-69A637D00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wire-wound resistors.  They have better power handling capabilities than other types of resistors.  All resistors have published tolerances.  As their temperature changes, their resistance changes.  The amount they change can be anticipated using their Temperature Coefficient (less than or equal to 100 parts per million/degree Celsius abov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 voltage on the primary windings of the transformer (Ep) create a magnetic field that is converted to an AC voltage on the secondary windings (Es).  Since the diode will only pass current one direction, it cuts off half (180 degrees) of every AC cycle.  This method is a very simple way to supply DC power but most electronic devices can’t handle the voltage swings.  It is commonly used in car battery char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be possible to place a large electrolytic capacitor parallel to the load to eliminate the large voltage swings and smaller disc or tantalum capacitor to smooth the remaining ripple.  Suppressor capacitors can also be places across the transformers secondary windings to absorb voltage trans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diode is chosen, it must be able to handle the current required at the load and the Peak Inverse Voltage (PIV) rating must be higher than the peak voltage it will be exposed to in the circu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6FF2C2-8D5C-429A-A5AF-2604E49A45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B82CD-DFB5-4276-AEDB-662B9D02A8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2B24FE-CBCB-4858-A359-343B67D75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F0BB7D-897C-467E-9AFC-91881F4DE8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0F454A-36E3-4028-A64F-0401CEE7C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DDC21B-4D55-4BB0-95C4-DC59FA71D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D8D58-B2BF-435D-8617-2AC195796C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F98004-50A5-45CA-B4A1-C0E8BE7E9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C73A9-C6D4-42D6-8FD9-2FEC69E98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E2E814-2990-42EA-BFD7-850D61E99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E8311-ACB2-4F4B-95E5-D0331E0C8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43442E-9944-4367-9C7A-CEBE66D55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E2F5A-2C62-4E6E-B8E6-5BDCDE262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56A90-D64B-4E55-8529-B0B2B1F66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E5839-9F85-471D-BB9D-5823B6D3C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1E565D-9A46-4AAE-8104-11BA264E07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BE7F1B-C3CC-4106-BF80-A0AF623585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98DD91-18FB-4A3F-8582-56B02D858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95C5DE-81F6-40F0-9251-93F38B80FC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2D7A8D-860F-401F-866B-24B9480D0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3E7884-2A47-4F2A-91B5-F929D7398B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48DE7-F89D-49EF-AD84-1237CF436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DCA484-6060-44E6-93E4-56D6389B5F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C836D-C283-4943-B1CE-89E3372173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769F-D07F-4DC8-A081-45339DE02B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8ACB-8F4E-4FFE-86C4-DD139423820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 -- CIRCUIT COMPONENTS</a:t>
            </a:r>
            <a:br>
              <a:rPr sz="3000"/>
            </a:br>
            <a:r>
              <a:rPr b="1" lang="en-US" sz="3000" spc="-1" strike="noStrike">
                <a:solidFill>
                  <a:srgbClr val="ffff00"/>
                </a:solidFill>
                <a:latin typeface="Tahoma"/>
              </a:rPr>
              <a:t>[1 exam question -- 1 group]</a:t>
            </a:r>
            <a:endParaRPr b="1" lang="en-US" sz="3000" spc="-1" strike="noStrike">
              <a:solidFill>
                <a:srgbClr val="ffff00"/>
              </a:solidFill>
              <a:latin typeface="Tahoma"/>
            </a:endParaRPr>
          </a:p>
        </p:txBody>
      </p:sp>
      <p:sp>
        <p:nvSpPr>
          <p:cNvPr id="106" name="PlaceHolder 2"/>
          <p:cNvSpPr>
            <a:spLocks noGrp="1"/>
          </p:cNvSpPr>
          <p:nvPr>
            <p:ph/>
          </p:nvPr>
        </p:nvSpPr>
        <p:spPr>
          <a:xfrm>
            <a:off x="-360" y="2514600"/>
            <a:ext cx="8991720" cy="4114800"/>
          </a:xfrm>
          <a:prstGeom prst="rect">
            <a:avLst/>
          </a:prstGeom>
          <a:noFill/>
          <a:ln w="0">
            <a:noFill/>
          </a:ln>
        </p:spPr>
        <p:txBody>
          <a:bodyPr lIns="90000" rIns="90000" tIns="46800" bIns="46800" anchor="t">
            <a:normAutofit/>
          </a:bodyPr>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6A  Resistors; capacitors; inductors; rectifiers and transistors; et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6908D704-70B2-4701-B2E1-8F6467944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4 Where is the source of energy connected in a transformer?</a:t>
            </a:r>
            <a:endParaRPr b="1" lang="en-US" sz="3000" spc="-1" strike="noStrike">
              <a:solidFill>
                <a:srgbClr val="ffff00"/>
              </a:solidFill>
              <a:latin typeface="Tahoma"/>
            </a:endParaRPr>
          </a:p>
        </p:txBody>
      </p:sp>
      <p:sp>
        <p:nvSpPr>
          <p:cNvPr id="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the secondary win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the primary win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the co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the pla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45643B53-A1E5-4A30-B745-143780BC57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4 Where is the source of energy connected in a transformer?</a:t>
            </a:r>
            <a:endParaRPr b="1" lang="en-US" sz="3000" spc="-1" strike="noStrike">
              <a:solidFill>
                <a:srgbClr val="ffff00"/>
              </a:solidFill>
              <a:latin typeface="Tahoma"/>
            </a:endParaRPr>
          </a:p>
        </p:txBody>
      </p:sp>
      <p:sp>
        <p:nvSpPr>
          <p:cNvPr id="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the secondary wind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the primary wind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the co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the pla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57ECAA99-EC9C-479F-B66E-830EE8915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5 If no load is attached to the secondary winding of a transformer, what is current in the primary winding called?</a:t>
            </a:r>
            <a:endParaRPr b="1" lang="en-US" sz="3000" spc="-1" strike="noStrike">
              <a:solidFill>
                <a:srgbClr val="ffff00"/>
              </a:solidFill>
              <a:latin typeface="Tahoma"/>
            </a:endParaRPr>
          </a:p>
        </p:txBody>
      </p:sp>
      <p:sp>
        <p:nvSpPr>
          <p:cNvPr id="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gnetizing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rec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citation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bilizing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B234ED84-A677-4208-9218-A4D702689B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5 If no load is attached to the secondary winding of a transformer, what is current in the primary winding called?</a:t>
            </a:r>
            <a:endParaRPr b="1" lang="en-US" sz="3000" spc="-1" strike="noStrike">
              <a:solidFill>
                <a:srgbClr val="ffff00"/>
              </a:solidFill>
              <a:latin typeface="Tahoma"/>
            </a:endParaRPr>
          </a:p>
        </p:txBody>
      </p:sp>
      <p:sp>
        <p:nvSpPr>
          <p:cNvPr id="1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Magnetizing curr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rec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citation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bilizing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8C3BCE19-DEAD-4B7E-9937-F27877E0A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6 What is the peak-inverse-voltage rating of a power-supply rectifier?</a:t>
            </a:r>
            <a:endParaRPr b="1" lang="en-US" sz="3000" spc="-1" strike="noStrike">
              <a:solidFill>
                <a:srgbClr val="ffff00"/>
              </a:solidFill>
              <a:latin typeface="Tahoma"/>
            </a:endParaRPr>
          </a:p>
        </p:txBody>
      </p:sp>
      <p:sp>
        <p:nvSpPr>
          <p:cNvPr id="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transient voltage the rectifier will handle in the conducting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 times the AC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maximum voltage the rectifier will handle in the non-conducting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8 times the AC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BEBEBAE8-2D39-4767-8E32-B9AD15EBA2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6 What is the peak-inverse-voltage rating of a power-supply rectifier?</a:t>
            </a:r>
            <a:endParaRPr b="1" lang="en-US" sz="3000" spc="-1" strike="noStrike">
              <a:solidFill>
                <a:srgbClr val="ffff00"/>
              </a:solidFill>
              <a:latin typeface="Tahoma"/>
            </a:endParaRPr>
          </a:p>
        </p:txBody>
      </p:sp>
      <p:sp>
        <p:nvSpPr>
          <p:cNvPr id="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transient voltage the rectifier will handle in the conducting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 times the AC frequ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maximum voltage the rectifier will handle in the non-conducting direc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8 times the AC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E1C77FF5-00C5-4053-8C49-25FC8BD2A4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7 What are the two major ratings that must not be exceeded for silicon-diode rectifiers used in power-supply circuits?</a:t>
            </a:r>
            <a:endParaRPr b="1" lang="en-US" sz="3000" spc="-1" strike="noStrike">
              <a:solidFill>
                <a:srgbClr val="ffff00"/>
              </a:solidFill>
              <a:latin typeface="Tahoma"/>
            </a:endParaRPr>
          </a:p>
        </p:txBody>
      </p:sp>
      <p:sp>
        <p:nvSpPr>
          <p:cNvPr id="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eak inverse voltage; average forward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verage power; average 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pacitive reactance; avalanche 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eak load impedance; peak volt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F19DFC3F-C570-440B-922A-B36565ABE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7 What are the two major ratings that must not be exceeded for silicon-diode rectifiers used in power-supply circuits?</a:t>
            </a:r>
            <a:endParaRPr b="1" lang="en-US" sz="3000" spc="-1" strike="noStrike">
              <a:solidFill>
                <a:srgbClr val="ffff00"/>
              </a:solidFill>
              <a:latin typeface="Tahoma"/>
            </a:endParaRPr>
          </a:p>
        </p:txBody>
      </p:sp>
      <p:sp>
        <p:nvSpPr>
          <p:cNvPr id="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Peak inverse voltage; average forward curr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verage power; average 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pacitive reactance; avalanche 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eak load impedance; peak volt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3812081B-F6B6-4AD0-BBD8-2E0776F98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8 What is the output waveform of an unfiltered full-wave rectifier connected to a resistive load?</a:t>
            </a:r>
            <a:endParaRPr b="1" lang="en-US" sz="3000" spc="-1" strike="noStrike">
              <a:solidFill>
                <a:srgbClr val="ffff00"/>
              </a:solidFill>
              <a:latin typeface="Tahoma"/>
            </a:endParaRPr>
          </a:p>
        </p:txBody>
      </p:sp>
      <p:sp>
        <p:nvSpPr>
          <p:cNvPr id="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eries of pulses at twice the frequency of the AC in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eries of pulses at the same frequency as the AC in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ine wave at half the frequency of the AC in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teady DC volt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69A1AB59-27EF-409A-83B3-10ACA7E5F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8 What is the output waveform of an unfiltered full-wave rectifier connected to a resistive load?</a:t>
            </a:r>
            <a:endParaRPr b="1" lang="en-US" sz="3000" spc="-1" strike="noStrike">
              <a:solidFill>
                <a:srgbClr val="ffff00"/>
              </a:solidFill>
              <a:latin typeface="Tahoma"/>
            </a:endParaRPr>
          </a:p>
        </p:txBody>
      </p:sp>
      <p:sp>
        <p:nvSpPr>
          <p:cNvPr id="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series of pulses at twice the frequency of the AC in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eries of pulses at the same frequency as the AC in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ine wave at half the frequency of the AC in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teady DC volt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A1465F61-97F8-4577-88C2-1848345840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Resistor Ratings</a:t>
            </a:r>
            <a:endParaRPr b="1" lang="en-US" sz="3000" spc="-1" strike="noStrike">
              <a:solidFill>
                <a:srgbClr val="ffff00"/>
              </a:solidFill>
              <a:latin typeface="Tahoma"/>
            </a:endParaRPr>
          </a:p>
        </p:txBody>
      </p:sp>
      <p:pic>
        <p:nvPicPr>
          <p:cNvPr id="108" name="" descr=""/>
          <p:cNvPicPr/>
          <p:nvPr/>
        </p:nvPicPr>
        <p:blipFill>
          <a:blip r:embed="rId1"/>
          <a:stretch/>
        </p:blipFill>
        <p:spPr>
          <a:xfrm>
            <a:off x="380880" y="1600200"/>
            <a:ext cx="5943600" cy="2987640"/>
          </a:xfrm>
          <a:prstGeom prst="rect">
            <a:avLst/>
          </a:prstGeom>
          <a:ln w="0">
            <a:noFill/>
          </a:ln>
        </p:spPr>
      </p:pic>
      <p:pic>
        <p:nvPicPr>
          <p:cNvPr id="109" name="" descr=""/>
          <p:cNvPicPr/>
          <p:nvPr/>
        </p:nvPicPr>
        <p:blipFill>
          <a:blip r:embed="rId2"/>
          <a:stretch/>
        </p:blipFill>
        <p:spPr>
          <a:xfrm>
            <a:off x="4191120" y="3559320"/>
            <a:ext cx="4572000" cy="2582640"/>
          </a:xfrm>
          <a:prstGeom prst="rect">
            <a:avLst/>
          </a:prstGeom>
          <a:ln w="0">
            <a:noFill/>
          </a:ln>
        </p:spPr>
      </p:pic>
      <p:sp>
        <p:nvSpPr>
          <p:cNvPr id="3" name="PlaceHolder 2"/>
          <p:cNvSpPr>
            <a:spLocks noGrp="1"/>
          </p:cNvSpPr>
          <p:nvPr>
            <p:ph type="ftr" idx="1"/>
          </p:nvPr>
        </p:nvSpPr>
        <p:spPr/>
        <p:txBody>
          <a:bodyPr/>
          <a:p>
            <a:r>
              <a:t>Circuit Components</a:t>
            </a:r>
          </a:p>
        </p:txBody>
      </p:sp>
      <p:sp>
        <p:nvSpPr>
          <p:cNvPr id="4" name="PlaceHolder 3"/>
          <p:cNvSpPr>
            <a:spLocks noGrp="1"/>
          </p:cNvSpPr>
          <p:nvPr>
            <p:ph type="sldNum" idx="2"/>
          </p:nvPr>
        </p:nvSpPr>
        <p:spPr/>
        <p:txBody>
          <a:bodyPr/>
          <a:p>
            <a:fld id="{93F3E6CC-E045-497A-B545-E56ADA183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9 A half-wave rectifier conducts during how many degrees of each cycle?</a:t>
            </a:r>
            <a:endParaRPr b="1" lang="en-US" sz="3000" spc="-1" strike="noStrike">
              <a:solidFill>
                <a:srgbClr val="ffff00"/>
              </a:solidFill>
              <a:latin typeface="Tahoma"/>
            </a:endParaRPr>
          </a:p>
        </p:txBody>
      </p:sp>
      <p:sp>
        <p:nvSpPr>
          <p:cNvPr id="1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9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7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60 degre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CFCE86FD-53FD-4DA0-8926-75EE0B8B93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9 A half-wave rectifier conducts during how many degrees of each cycle?</a:t>
            </a:r>
            <a:endParaRPr b="1" lang="en-US" sz="3000" spc="-1" strike="noStrike">
              <a:solidFill>
                <a:srgbClr val="ffff00"/>
              </a:solidFill>
              <a:latin typeface="Tahoma"/>
            </a:endParaRPr>
          </a:p>
        </p:txBody>
      </p:sp>
      <p:sp>
        <p:nvSpPr>
          <p:cNvPr id="1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90 degre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80 degre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7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60 degre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669C31F7-5C8C-453B-BA62-32456C2AFD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10 A full-wave rectifier conducts during how many degrees of each cycle?</a:t>
            </a:r>
            <a:endParaRPr b="1" lang="en-US" sz="3000" spc="-1" strike="noStrike">
              <a:solidFill>
                <a:srgbClr val="ffff00"/>
              </a:solidFill>
              <a:latin typeface="Tahoma"/>
            </a:endParaRPr>
          </a:p>
        </p:txBody>
      </p:sp>
      <p:sp>
        <p:nvSpPr>
          <p:cNvPr id="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9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7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60 degre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DE1BB2B3-794A-4520-B80B-ACBA901D63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10 A full-wave rectifier conducts during how many degrees of each cycle?</a:t>
            </a:r>
            <a:endParaRPr b="1" lang="en-US" sz="3000" spc="-1" strike="noStrike">
              <a:solidFill>
                <a:srgbClr val="ffff00"/>
              </a:solidFill>
              <a:latin typeface="Tahoma"/>
            </a:endParaRPr>
          </a:p>
        </p:txBody>
      </p:sp>
      <p:sp>
        <p:nvSpPr>
          <p:cNvPr id="1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9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70 degre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360 degre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18E1E863-5C28-4D58-8DFA-F9E822F92B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11 When two or more diodes are connected in parallel to increase the current-handling capacity of a power supply, what is the purpose of the resistor connected in series with each diode?</a:t>
            </a:r>
            <a:endParaRPr b="1" lang="en-US" sz="3000" spc="-1" strike="noStrike">
              <a:solidFill>
                <a:srgbClr val="ffff00"/>
              </a:solidFill>
              <a:latin typeface="Tahoma"/>
            </a:endParaRPr>
          </a:p>
        </p:txBody>
      </p:sp>
      <p:sp>
        <p:nvSpPr>
          <p:cNvPr id="153"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fontScale="98000"/>
          </a:bodyPr>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sistors ensure the thermal stability of the power supply</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sistors regulate the power supply output voltage</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sistors ensure that one diode doesn't take most of the current</a:t>
            </a:r>
            <a:endParaRPr b="0" lang="en-US" sz="2400" spc="-1" strike="noStrike">
              <a:solidFill>
                <a:srgbClr val="ffffff"/>
              </a:solidFill>
              <a:latin typeface="Tahoma"/>
            </a:endParaRPr>
          </a:p>
          <a:p>
            <a:pPr lvl="1" marL="897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sistors act as swamping resistors in the circu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417870AE-F157-4482-B00B-C9BBE664EF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11 When two or more diodes are connected in parallel to increase the current-handling capacity of a power supply, what is the purpose of the resistor connected in series with each diode?</a:t>
            </a:r>
            <a:endParaRPr b="1" lang="en-US" sz="3000" spc="-1" strike="noStrike">
              <a:solidFill>
                <a:srgbClr val="ffff00"/>
              </a:solidFill>
              <a:latin typeface="Tahoma"/>
            </a:endParaRPr>
          </a:p>
        </p:txBody>
      </p:sp>
      <p:sp>
        <p:nvSpPr>
          <p:cNvPr id="155"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sistors ensure the thermal stability of the power supply</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sistors regulate the power supply output voltag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resistors ensure that one diode doesn't take most of the current</a:t>
            </a:r>
            <a:endParaRPr b="1" lang="en-US" sz="2600" spc="-1" strike="noStrike">
              <a:solidFill>
                <a:srgbClr val="ffff00"/>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sistors act as swamping resistors in the circu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07FBCCD0-812D-4F3B-B6A0-3E6A900221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12 Why would it not be a good idea to use a wire-wound resistor in a resonant circuit?</a:t>
            </a:r>
            <a:endParaRPr b="1" lang="en-US" sz="3000" spc="-1" strike="noStrike">
              <a:solidFill>
                <a:srgbClr val="ffff00"/>
              </a:solidFill>
              <a:latin typeface="Tahoma"/>
            </a:endParaRPr>
          </a:p>
        </p:txBody>
      </p:sp>
      <p:sp>
        <p:nvSpPr>
          <p:cNvPr id="1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sistor's tolerance value would not be adequate for such a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sistor's inductance would detune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sistor would overhea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sistor's internal capacitance would detune the circu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6BE632F2-6EA2-4012-BCF5-8FDA1FE902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12 Why would it not be a good idea to use a wire-wound resistor in a resonant circuit?</a:t>
            </a:r>
            <a:endParaRPr b="1" lang="en-US" sz="3000" spc="-1" strike="noStrike">
              <a:solidFill>
                <a:srgbClr val="ffff00"/>
              </a:solidFill>
              <a:latin typeface="Tahoma"/>
            </a:endParaRPr>
          </a:p>
        </p:txBody>
      </p:sp>
      <p:sp>
        <p:nvSpPr>
          <p:cNvPr id="1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sistor's tolerance value would not be adequate for such a circui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resistor's inductance would detune the circui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sistor would overhea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sistor's internal capacitance would detune the circu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201DB401-FFEC-4233-B761-EA06CCAF9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13 What is an advantage of ferrite toroidal inductors?</a:t>
            </a:r>
            <a:endParaRPr b="1" lang="en-US" sz="3000" spc="-1" strike="noStrike">
              <a:solidFill>
                <a:srgbClr val="ffff00"/>
              </a:solidFill>
              <a:latin typeface="Tahoma"/>
            </a:endParaRPr>
          </a:p>
        </p:txBody>
      </p:sp>
      <p:sp>
        <p:nvSpPr>
          <p:cNvPr id="1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arge values of inductance may be obtain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ductor may be used in applications where core saturation is desir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ost of the magnetic field is contained in the co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BDD92A43-9FD5-45AF-A0CE-D87865AF3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13 What is an advantage of ferrite toroidal inductors?</a:t>
            </a:r>
            <a:endParaRPr b="1" lang="en-US" sz="3000" spc="-1" strike="noStrike">
              <a:solidFill>
                <a:srgbClr val="ffff00"/>
              </a:solidFill>
              <a:latin typeface="Tahoma"/>
            </a:endParaRPr>
          </a:p>
        </p:txBody>
      </p:sp>
      <p:sp>
        <p:nvSpPr>
          <p:cNvPr id="1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arge values of inductance may be obtain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ductor may be used in applications where core saturation is desir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ost of the magnetic field is contained in the cor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8CA17A92-5BDB-49A4-A2C6-9D02810DC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1 If a carbon resistor's temperature is increased, what will happen to the resistance?</a:t>
            </a:r>
            <a:endParaRPr b="1" lang="en-US" sz="3000" spc="-1" strike="noStrike">
              <a:solidFill>
                <a:srgbClr val="ffff00"/>
              </a:solidFill>
              <a:latin typeface="Tahoma"/>
            </a:endParaRPr>
          </a:p>
        </p:txBody>
      </p:sp>
      <p:sp>
        <p:nvSpPr>
          <p:cNvPr id="1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increase by 20% for every 10 degrees centigra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stay the sa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change depending on the resistor's temperature coefficient ra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become time depend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3B696023-A3D2-40CA-8DE6-ABA00EF8A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14 Where would be the stable operating points for a bipolar transistor that is used as a switch in a logic circuit?</a:t>
            </a:r>
            <a:endParaRPr b="1" lang="en-US" sz="3000" spc="-1" strike="noStrike">
              <a:solidFill>
                <a:srgbClr val="ffff00"/>
              </a:solidFill>
              <a:latin typeface="Tahoma"/>
            </a:endParaRPr>
          </a:p>
        </p:txBody>
      </p:sp>
      <p:sp>
        <p:nvSpPr>
          <p:cNvPr id="1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 its saturation and cut-off reg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 its active region (between cut-off and saturation reg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tween its peak and valley current poi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tween its enhancement and deletion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B8265FD8-654B-4DC0-A5E6-8D7F9F63EE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14 Where would be the stable operating points for a bipolar transistor that is used as a switch in a logic circuit?</a:t>
            </a:r>
            <a:endParaRPr b="1" lang="en-US" sz="3000" spc="-1" strike="noStrike">
              <a:solidFill>
                <a:srgbClr val="ffff00"/>
              </a:solidFill>
              <a:latin typeface="Tahoma"/>
            </a:endParaRPr>
          </a:p>
        </p:txBody>
      </p:sp>
      <p:sp>
        <p:nvSpPr>
          <p:cNvPr id="1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n its saturation and cut-off reg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 its active region (between cut-off and saturation reg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tween its peak and valley current poi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tween its enhancement and deletion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25BFB860-3A18-4D1C-8F26-4790762DC6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15 How should two solenoid inductors be placed so as to minimize their mutual inductance?</a:t>
            </a:r>
            <a:endParaRPr b="1" lang="en-US" sz="3000" spc="-1" strike="noStrike">
              <a:solidFill>
                <a:srgbClr val="ffff00"/>
              </a:solidFill>
              <a:latin typeface="Tahoma"/>
            </a:endParaRPr>
          </a:p>
        </p:txBody>
      </p:sp>
      <p:sp>
        <p:nvSpPr>
          <p:cNvPr id="1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 line with their winding ax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ith their winding axis parallel to each ot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right angles to their winding ax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ithin the same shielded enclosu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CF208A5A-0975-4D6F-966E-1E95403DB1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15 How should two solenoid inductors be placed so as to minimize their mutual inductance?</a:t>
            </a:r>
            <a:endParaRPr b="1" lang="en-US" sz="3000" spc="-1" strike="noStrike">
              <a:solidFill>
                <a:srgbClr val="ffff00"/>
              </a:solidFill>
              <a:latin typeface="Tahoma"/>
            </a:endParaRPr>
          </a:p>
        </p:txBody>
      </p:sp>
      <p:sp>
        <p:nvSpPr>
          <p:cNvPr id="1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 line with their winding ax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ith their winding axis parallel to each oth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t right angles to their winding axi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ithin the same shielded enclosu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D6EB1837-0B35-4EE6-97B7-C9DF1F1E1EB7}"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1 If a carbon resistor's temperature is increased, what will happen to the resistance?</a:t>
            </a:r>
            <a:endParaRPr b="1" lang="en-US" sz="3000" spc="-1" strike="noStrike">
              <a:solidFill>
                <a:srgbClr val="ffff00"/>
              </a:solidFill>
              <a:latin typeface="Tahoma"/>
            </a:endParaRPr>
          </a:p>
        </p:txBody>
      </p:sp>
      <p:sp>
        <p:nvSpPr>
          <p:cNvPr id="1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increase by 20% for every 10 degrees centigra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stay the sam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will change depending on the resistor's temperature coefficient rat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become time depend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E6E314BB-D9C4-43FF-86A4-E2BEC7DF9D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211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Half Wave Rectifier</a:t>
            </a:r>
            <a:endParaRPr b="1" lang="en-US" sz="3000" spc="-1" strike="noStrike">
              <a:solidFill>
                <a:srgbClr val="ffff00"/>
              </a:solidFill>
              <a:latin typeface="Tahoma"/>
            </a:endParaRPr>
          </a:p>
        </p:txBody>
      </p:sp>
      <p:pic>
        <p:nvPicPr>
          <p:cNvPr id="115" name="" descr=""/>
          <p:cNvPicPr/>
          <p:nvPr/>
        </p:nvPicPr>
        <p:blipFill>
          <a:blip r:embed="rId1"/>
          <a:srcRect l="8885" t="0" r="4447" b="12006"/>
          <a:stretch/>
        </p:blipFill>
        <p:spPr>
          <a:xfrm>
            <a:off x="380880" y="2057400"/>
            <a:ext cx="8382240" cy="3443400"/>
          </a:xfrm>
          <a:prstGeom prst="rect">
            <a:avLst/>
          </a:prstGeom>
          <a:ln w="0">
            <a:noFill/>
          </a:ln>
        </p:spPr>
      </p:pic>
      <p:sp>
        <p:nvSpPr>
          <p:cNvPr id="3" name="PlaceHolder 2"/>
          <p:cNvSpPr>
            <a:spLocks noGrp="1"/>
          </p:cNvSpPr>
          <p:nvPr>
            <p:ph type="ftr" idx="1"/>
          </p:nvPr>
        </p:nvSpPr>
        <p:spPr/>
        <p:txBody>
          <a:bodyPr/>
          <a:p>
            <a:r>
              <a:t>Circuit Components</a:t>
            </a:r>
          </a:p>
        </p:txBody>
      </p:sp>
      <p:sp>
        <p:nvSpPr>
          <p:cNvPr id="4" name="PlaceHolder 3"/>
          <p:cNvSpPr>
            <a:spLocks noGrp="1"/>
          </p:cNvSpPr>
          <p:nvPr>
            <p:ph type="sldNum" idx="2"/>
          </p:nvPr>
        </p:nvSpPr>
        <p:spPr/>
        <p:txBody>
          <a:bodyPr/>
          <a:p>
            <a:fld id="{C9BB9FA3-ECC1-42E2-82FD-B50C86D40B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2 What type of capacitor is often used in power-supply circuits to filter the rectified AC?</a:t>
            </a:r>
            <a:endParaRPr b="1" lang="en-US" sz="3000" spc="-1" strike="noStrike">
              <a:solidFill>
                <a:srgbClr val="ffff00"/>
              </a:solidFill>
              <a:latin typeface="Tahoma"/>
            </a:endParaRPr>
          </a:p>
        </p:txBody>
      </p:sp>
      <p:sp>
        <p:nvSpPr>
          <p:cNvPr id="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sc ceram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acuum vari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c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ctrolyti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EB628E64-326B-4709-B4B0-6EA8AEE70A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2 What type of capacitor is often used in power-supply circuits to filter the rectified AC?</a:t>
            </a:r>
            <a:endParaRPr b="1" lang="en-US" sz="3000" spc="-1" strike="noStrike">
              <a:solidFill>
                <a:srgbClr val="ffff00"/>
              </a:solidFill>
              <a:latin typeface="Tahoma"/>
            </a:endParaRPr>
          </a:p>
        </p:txBody>
      </p:sp>
      <p:sp>
        <p:nvSpPr>
          <p:cNvPr id="1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sc ceram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acuum vari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c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Electrolytic</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44455802-5C44-476E-9321-1497DEEF6A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6A03 What function does a capacitor serve if it is used in a power-supply circuit to filter transient voltage spikes across the transformer's secondary winding?</a:t>
            </a:r>
            <a:endParaRPr b="1" lang="en-US" sz="3000" spc="-1" strike="noStrike">
              <a:solidFill>
                <a:srgbClr val="ffff00"/>
              </a:solidFill>
              <a:latin typeface="Tahoma"/>
            </a:endParaRPr>
          </a:p>
        </p:txBody>
      </p:sp>
      <p:sp>
        <p:nvSpPr>
          <p:cNvPr id="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lipper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immer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eedback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uppressor capaci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24C50823-55CF-43EF-B3DA-2CF5DC4F91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6A03 What function does a capacitor serve if it is used in a power-supply circuit to filter transient voltage spikes across the transformer's secondary winding?</a:t>
            </a:r>
            <a:endParaRPr b="1" lang="en-US" sz="3000" spc="-1" strike="noStrike">
              <a:solidFill>
                <a:srgbClr val="ffff00"/>
              </a:solidFill>
              <a:latin typeface="Tahoma"/>
            </a:endParaRPr>
          </a:p>
        </p:txBody>
      </p:sp>
      <p:sp>
        <p:nvSpPr>
          <p:cNvPr id="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lipper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immer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eedback capaci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Suppressor capacito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ircuit Components</a:t>
            </a:r>
          </a:p>
        </p:txBody>
      </p:sp>
      <p:sp>
        <p:nvSpPr>
          <p:cNvPr id="5" name="PlaceHolder 4"/>
          <p:cNvSpPr>
            <a:spLocks noGrp="1"/>
          </p:cNvSpPr>
          <p:nvPr>
            <p:ph type="sldNum" idx="2"/>
          </p:nvPr>
        </p:nvSpPr>
        <p:spPr/>
        <p:txBody>
          <a:bodyPr/>
          <a:p>
            <a:fld id="{ADC18E71-334D-4884-B467-B720621CE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49:47Z</dcterms:modified>
  <cp:revision>1</cp:revision>
  <dc:subject/>
  <dc:title>G6 -- CIRCUIT COMPONENTS [1 exam question -- 1 group]</dc:title>
</cp:coreProperties>
</file>