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73.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60.xml" ContentType="application/vnd.openxmlformats-officedocument.presentationml.notesSlide+xml"/>
  <Override PartName="/ppt/notesSlides/notesSlide8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7BDB-8412-4AB7-BB02-5C31572B8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3 - GENERAL CLASS as released by the Question Pool Committee of the National Conference of Volunteer Examiner Coordinators December 1,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contained within this pool must be used in all General class examinations beginning July 1, 2004, and is intended to be used up through June 30,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riven element with the balun attached, the smaller directors, larger reflector and the pattern with a large front lobe.  The driven element is approximately a half have dipole.  As parasitic elements (directors and reflectors) are added and the boom length is increased, the more gain is provided by the antenna.  Reflectors are placed behind the driven element to reflect the power forward and the directors act as conductors in front of the wave.  Reflectors are generally ~3% longer than the driven element and directors ~3% shorter.  Five element yagis like this one yield 10-12dB gain over a dipole, based on the design of the ante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enna designers have to balance forward gain, front-to-back ratio, bandwidth and feedpoint impedance when designing an antenna.  Some antennas will be optimized for maximum forward gain to improve their output and others may have better front-to-back rations to improve their noise rejection.  Antenna bandwidth can be increased by using larger diameter elemen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n element of a quad is a full wave loop, so each side is quarter wave.  In this picture the feed is along the bottom, horizontal wire.  This means the polarization of this antenna is horizontal.  If the antenna were rotated 90 degrees so the feed were on a vertical side, the polarization would be vertical.  Like the Yagi, reflector elements are ~3% larger and director elements are ~3% smaller than driven elemen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ta loop antennas also have full wave elements and offer performance similar to quad antennas.  Because of the large elements, 2 element quads and deltas offer similar performance to a 3 element yagi.  In reference to the test questions, quads and deltas have nearly identical characteristics to yagis, just a bit more gai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vertical is ground mounted, the radials should be on or near the surface of the groun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ipole antenna was the red line, the lobes above and below show the radiation pattern at ½ wavelength above the ground.  This pattern actually rotates around the wire like a donut.  As the antenna is lowered below ½ wavelength, the lobes flatten until it becomes nearly omnidirectional.</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dance of feedlines is generally determines by the distance between conductors and their size.  Amateur antenna are generally fed with 50 ohm coax or 450 ohm ladder/window line.  Occasionally TV-style 300 ohm twin lead or 75 ohm coax is used for certain antenna types.  Ultimately, these feedlines must all be matched to the typical 50 ohm input on the radio to insure proper power transfer to the antenna.  Many dipole style antennas use a balun (BALanced to UNbalanced) to match the balanced antenna feedpoint to an unbalanced 50 ohm coaxial feed.</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Notice how losses go up as frequency increases for each coax type.  Coax losses shown above are for 100 feet lengths. Loss is a length multiplier, so a 200 ft length would have twice the loss shown above and a 50 ft length would have half the loss. This multiplier factor is why you should keep cable installation lengths between radios and antennas as short as prac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CE4182-C7DF-4C98-B4D6-AF18876A41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9C4BEC-BEF4-4A3A-81A2-6F781B75D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E36DFB-3564-427A-B53F-598D7199FD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BD1806-07F4-48C7-90C3-6AF2F76DCD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E63D93-09F8-402A-A780-334E48B62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DB5E7-B249-4765-8A19-C0F6510FFE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72241-F95A-4748-A202-09EF431CE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CF8D83-1790-4AEB-97E5-D20E91F98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66103B-1A61-4429-9A7E-AEB4C08AF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494CFC-F789-47A2-AEF0-14A099A296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D5278-8F60-458C-B71D-5E5284749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956D18-055D-4020-90C5-0915FFB9F5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41DED6-6FAB-4CFE-99E6-D688558486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53B05-A214-41B0-95DA-A7CD89AD8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787EF-0C63-40AF-8AF4-6B10D7DB7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B97D11-6723-4B70-9553-1383097FF6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98407F-722B-4F11-AC01-1A25315CD7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0327FB-F9E8-4E43-93C7-C5270EB7C7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AC380F-B8DC-43FD-80A7-DD56B5B194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121823-BAE4-4A45-A36C-1FF5837476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E0BEAD-FDD0-4695-96CF-7C52C88596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ED46EA-B1EE-4E08-8B67-CF666ABDA7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A2EB6B-0D46-46AF-AA17-17AF7C66A9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D5FA91-A147-4E58-A58C-61F8A15E61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E6DF-158D-4C1B-B82D-2E6AAA6291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6A93-0734-4A4E-AB7D-6BBF7FC8917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 -- ANTENNAS AND FEED-LINES</a:t>
            </a:r>
            <a:br>
              <a:rPr sz="3000"/>
            </a:br>
            <a:r>
              <a:rPr b="1" lang="en-US" sz="3000" spc="-1" strike="noStrike">
                <a:solidFill>
                  <a:srgbClr val="ffff00"/>
                </a:solidFill>
                <a:latin typeface="Tahoma"/>
              </a:rPr>
              <a:t>[4 Exam Questions -- 4 Groups]</a:t>
            </a:r>
            <a:endParaRPr b="1" lang="en-US" sz="3000" spc="-1" strike="noStrike">
              <a:solidFill>
                <a:srgbClr val="ffff00"/>
              </a:solidFill>
              <a:latin typeface="Tahoma"/>
            </a:endParaRPr>
          </a:p>
        </p:txBody>
      </p:sp>
      <p:sp>
        <p:nvSpPr>
          <p:cNvPr id="106"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fontScale="87000"/>
          </a:bodyPr>
          <a:p>
            <a:pPr lvl="1" marL="845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9A  Yagi antennas - physical dimensions; impedance matching; radiation patterns; directivity and major lobes</a:t>
            </a:r>
            <a:endParaRPr b="0" lang="en-US" sz="2400" spc="-1" strike="noStrike">
              <a:solidFill>
                <a:srgbClr val="ffffff"/>
              </a:solidFill>
              <a:latin typeface="Tahoma"/>
            </a:endParaRPr>
          </a:p>
          <a:p>
            <a:pPr lvl="1" marL="845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9B  Loop antennas - physical dimensions; impedance matching; radiation patterns; directivity and major lobes</a:t>
            </a:r>
            <a:endParaRPr b="0" lang="en-US" sz="2400" spc="-1" strike="noStrike">
              <a:solidFill>
                <a:srgbClr val="ffffff"/>
              </a:solidFill>
              <a:latin typeface="Tahoma"/>
            </a:endParaRPr>
          </a:p>
          <a:p>
            <a:pPr lvl="1" marL="845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9C  Random wire antennas - physical dimensions; impedance matching; radiation patterns; directivity and major lobes; feed point impedance of 1/2-wavelength dipole and 1/4-wavelength vertical antennas</a:t>
            </a:r>
            <a:endParaRPr b="0" lang="en-US" sz="2400" spc="-1" strike="noStrike">
              <a:solidFill>
                <a:srgbClr val="ffffff"/>
              </a:solidFill>
              <a:latin typeface="Tahoma"/>
            </a:endParaRPr>
          </a:p>
          <a:p>
            <a:pPr lvl="1" marL="845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9D  Popular antenna feed-lines - characteristic impedance and impedance matching; SWR calcul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63B4461D-01E8-49DB-84B0-4AAEC0A56A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04 Approximately how long is the reflector element of a Yagi antenna for 28.1 MHz?</a:t>
            </a:r>
            <a:endParaRPr b="1" lang="en-US" sz="3000" spc="-1" strike="noStrike">
              <a:solidFill>
                <a:srgbClr val="ffff00"/>
              </a:solidFill>
              <a:latin typeface="Tahoma"/>
            </a:endParaRPr>
          </a:p>
        </p:txBody>
      </p:sp>
      <p:sp>
        <p:nvSpPr>
          <p:cNvPr id="1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75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6.6 fe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7.5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8BA305AD-E213-43E1-8925-C2848CFE75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13 What would be the SWR if you feed a vertical antenna that has a 25-ohm feed-point impedance with 50-ohm coaxial cable?</a:t>
            </a:r>
            <a:endParaRPr b="1" lang="en-US" sz="3000" spc="-1" strike="noStrike">
              <a:solidFill>
                <a:srgbClr val="ffff00"/>
              </a:solidFill>
              <a:latin typeface="Tahoma"/>
            </a:endParaRPr>
          </a:p>
        </p:txBody>
      </p:sp>
      <p:sp>
        <p:nvSpPr>
          <p:cNvPr id="30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1</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5: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5: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cannot determine SWR from impedance valu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6584D7E6-019B-4AD8-AE0A-3954F2DC5B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14 What would be the SWR if you feed a folded dipole antenna that has a 300-ohm feed-point impedance with 50-ohm coaxial cable?</a:t>
            </a:r>
            <a:endParaRPr b="1" lang="en-US" sz="3000" spc="-1" strike="noStrike">
              <a:solidFill>
                <a:srgbClr val="ffff00"/>
              </a:solidFill>
              <a:latin typeface="Tahoma"/>
            </a:endParaRPr>
          </a:p>
        </p:txBody>
      </p:sp>
      <p:sp>
        <p:nvSpPr>
          <p:cNvPr id="3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cannot determine SWR from impedance valu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9A6C95F1-4246-43B9-9503-5E807F2B5A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14 What would be the SWR if you feed a folded dipole antenna that has a 300-ohm feed-point impedance with 50-ohm coaxial cable?</a:t>
            </a:r>
            <a:endParaRPr b="1" lang="en-US" sz="3000" spc="-1" strike="noStrike">
              <a:solidFill>
                <a:srgbClr val="ffff00"/>
              </a:solidFill>
              <a:latin typeface="Tahoma"/>
            </a:endParaRPr>
          </a:p>
        </p:txBody>
      </p:sp>
      <p:sp>
        <p:nvSpPr>
          <p:cNvPr id="30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1</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6:1</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cannot determine SWR from impedance valu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3E7EB802-2431-4157-99F6-B26F36563D86}"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05 Which statement about a three-element Yagi antenna is true?</a:t>
            </a:r>
            <a:endParaRPr b="1" lang="en-US" sz="3000" spc="-1" strike="noStrike">
              <a:solidFill>
                <a:srgbClr val="ffff00"/>
              </a:solidFill>
              <a:latin typeface="Tahoma"/>
            </a:endParaRPr>
          </a:p>
        </p:txBody>
      </p:sp>
      <p:sp>
        <p:nvSpPr>
          <p:cNvPr id="1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flector is normally the shortest parasitic ele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director is normally the shortest parasitic ele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driven element is the longest parasitic ele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ow feed-point impedance increases bandwidt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AEF9C56A-7597-4147-829E-0BC0F5D08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05 Which statement about a three-element Yagi antenna is true?</a:t>
            </a:r>
            <a:endParaRPr b="1" lang="en-US" sz="3000" spc="-1" strike="noStrike">
              <a:solidFill>
                <a:srgbClr val="ffff00"/>
              </a:solidFill>
              <a:latin typeface="Tahoma"/>
            </a:endParaRPr>
          </a:p>
        </p:txBody>
      </p:sp>
      <p:sp>
        <p:nvSpPr>
          <p:cNvPr id="1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flector is normally the shortest parasitic eleme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director is normally the shortest parasitic elem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driven element is the longest parasitic ele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ow feed-point impedance increases bandwidt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AFB7FB1A-2558-43EF-8581-74E65F1AF2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06 What is one effect of increasing the boom length and adding directors to a Yagi antenna?</a:t>
            </a:r>
            <a:endParaRPr b="1" lang="en-US" sz="3000" spc="-1" strike="noStrike">
              <a:solidFill>
                <a:srgbClr val="ffff00"/>
              </a:solidFill>
              <a:latin typeface="Tahoma"/>
            </a:endParaRPr>
          </a:p>
        </p:txBody>
      </p:sp>
      <p:sp>
        <p:nvSpPr>
          <p:cNvPr id="1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ain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WR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eight de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ind load de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AB6C4BA-7235-40A6-B841-3BB765C17A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06 What is one effect of increasing the boom length and adding directors to a Yagi antenna?</a:t>
            </a:r>
            <a:endParaRPr b="1" lang="en-US" sz="3000" spc="-1" strike="noStrike">
              <a:solidFill>
                <a:srgbClr val="ffff00"/>
              </a:solidFill>
              <a:latin typeface="Tahoma"/>
            </a:endParaRPr>
          </a:p>
        </p:txBody>
      </p:sp>
      <p:sp>
        <p:nvSpPr>
          <p:cNvPr id="1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Gain increas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WR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eight de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ind load de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41704720-3038-47BB-AA0B-EC49DB8541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07 Why is a Yagi antenna often used for radio communications on the 20-meter band?</a:t>
            </a:r>
            <a:endParaRPr b="1" lang="en-US" sz="3000" spc="-1" strike="noStrike">
              <a:solidFill>
                <a:srgbClr val="ffff00"/>
              </a:solidFill>
              <a:latin typeface="Tahoma"/>
            </a:endParaRPr>
          </a:p>
        </p:txBody>
      </p:sp>
      <p:sp>
        <p:nvSpPr>
          <p:cNvPr id="1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provides excellent omnidirectional coverage in the horizontal Pla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smaller, less expensive and easier to erect than a dipole or vertical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helps reduce interference from other stations off to the side or behi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provides the highest possible angle of radiation for the HF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202BC784-95AC-4A59-909F-C42F11AED1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07 Why is a Yagi antenna often used for radio communications on the 20-meter band?</a:t>
            </a:r>
            <a:endParaRPr b="1" lang="en-US" sz="3000" spc="-1" strike="noStrike">
              <a:solidFill>
                <a:srgbClr val="ffff00"/>
              </a:solidFill>
              <a:latin typeface="Tahoma"/>
            </a:endParaRPr>
          </a:p>
        </p:txBody>
      </p:sp>
      <p:sp>
        <p:nvSpPr>
          <p:cNvPr id="1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provides excellent omnidirectional coverage in the horizontal Pla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smaller, less expensive and easier to erect than a dipole or vertical antenn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helps reduce interference from other stations off to the side or behi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provides the highest possible angle of radiation for the HF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DB2E0D77-4629-4010-BE74-1D6EFF01A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08 What does "antenna front-to-back ratio" mean in reference to a Yagi antenna?</a:t>
            </a:r>
            <a:endParaRPr b="1" lang="en-US" sz="3000" spc="-1" strike="noStrike">
              <a:solidFill>
                <a:srgbClr val="ffff00"/>
              </a:solidFill>
              <a:latin typeface="Tahoma"/>
            </a:endParaRPr>
          </a:p>
        </p:txBody>
      </p:sp>
      <p:sp>
        <p:nvSpPr>
          <p:cNvPr id="1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number of directors versus the number of refle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lative position of the driven element with respect to the reflectors and dire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power radiated in the major radiation lobe compared to the power radiated in exactly the opposite dir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ower radiated in the major radiation lobe compared to the power radiated 90 degrees away from that dire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54FF7572-FD05-4923-8622-CA396F6A57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08 What does "antenna front-to-back ratio" mean in reference to a Yagi antenna?</a:t>
            </a:r>
            <a:endParaRPr b="1" lang="en-US" sz="3000" spc="-1" strike="noStrike">
              <a:solidFill>
                <a:srgbClr val="ffff00"/>
              </a:solidFill>
              <a:latin typeface="Tahoma"/>
            </a:endParaRPr>
          </a:p>
        </p:txBody>
      </p:sp>
      <p:sp>
        <p:nvSpPr>
          <p:cNvPr id="1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number of directors versus the number of refle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lative position of the driven element with respect to the reflectors and directo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power radiated in the major radiation lobe compared to the power radiated in exactly the opposite direc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ower radiated in the major radiation lobe compared to the power radiated 90 degrees away from that dire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0231652E-E806-49F8-AEBE-6D487941D5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09 What is the "main lobe" of a Yagi antenna radiation pattern?</a:t>
            </a:r>
            <a:endParaRPr b="1" lang="en-US" sz="3000" spc="-1" strike="noStrike">
              <a:solidFill>
                <a:srgbClr val="ffff00"/>
              </a:solidFill>
              <a:latin typeface="Tahoma"/>
            </a:endParaRPr>
          </a:p>
        </p:txBody>
      </p:sp>
      <p:sp>
        <p:nvSpPr>
          <p:cNvPr id="1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irection of least radiation from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point of maximum current in a radiating antenna ele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maximum voltage standing wave point on a radiating ele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direction of maximum radiated field strength from the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9CF6185B-06CC-4835-BAAD-16ED4CE597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Yagi Antenna</a:t>
            </a:r>
            <a:endParaRPr b="1" lang="en-US" sz="3000" spc="-1" strike="noStrike">
              <a:solidFill>
                <a:srgbClr val="ffff00"/>
              </a:solidFill>
              <a:latin typeface="Tahoma"/>
            </a:endParaRPr>
          </a:p>
        </p:txBody>
      </p:sp>
      <p:pic>
        <p:nvPicPr>
          <p:cNvPr id="108" name="" descr=""/>
          <p:cNvPicPr/>
          <p:nvPr/>
        </p:nvPicPr>
        <p:blipFill>
          <a:blip r:embed="rId1"/>
          <a:stretch/>
        </p:blipFill>
        <p:spPr>
          <a:xfrm>
            <a:off x="685800" y="1305000"/>
            <a:ext cx="7772400" cy="5135400"/>
          </a:xfrm>
          <a:prstGeom prst="rect">
            <a:avLst/>
          </a:prstGeom>
          <a:ln w="0">
            <a:noFill/>
          </a:ln>
        </p:spPr>
      </p:pic>
      <p:sp>
        <p:nvSpPr>
          <p:cNvPr id="3" name="PlaceHolder 2"/>
          <p:cNvSpPr>
            <a:spLocks noGrp="1"/>
          </p:cNvSpPr>
          <p:nvPr>
            <p:ph type="ftr" idx="1"/>
          </p:nvPr>
        </p:nvSpPr>
        <p:spPr/>
        <p:txBody>
          <a:bodyPr/>
          <a:p>
            <a:r>
              <a:t>Antennas and Feedlines</a:t>
            </a:r>
          </a:p>
        </p:txBody>
      </p:sp>
      <p:sp>
        <p:nvSpPr>
          <p:cNvPr id="4" name="PlaceHolder 3"/>
          <p:cNvSpPr>
            <a:spLocks noGrp="1"/>
          </p:cNvSpPr>
          <p:nvPr>
            <p:ph type="sldNum" idx="2"/>
          </p:nvPr>
        </p:nvSpPr>
        <p:spPr/>
        <p:txBody>
          <a:bodyPr/>
          <a:p>
            <a:fld id="{93847A3E-5AB8-4C21-9036-A26DB23F4A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09 What is the "main lobe" of a Yagi antenna radiation pattern?</a:t>
            </a:r>
            <a:endParaRPr b="1" lang="en-US" sz="3000" spc="-1" strike="noStrike">
              <a:solidFill>
                <a:srgbClr val="ffff00"/>
              </a:solidFill>
              <a:latin typeface="Tahoma"/>
            </a:endParaRPr>
          </a:p>
        </p:txBody>
      </p:sp>
      <p:sp>
        <p:nvSpPr>
          <p:cNvPr id="1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irection of least radiation from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point of maximum current in a radiating antenna ele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maximum voltage standing wave point on a radiating eleme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direction of maximum radiated field strength from the antenna</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ABE20D77-8E7A-45B0-9730-90CB4AB94F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10 What is a good way to get maximum performance from a Yagi antenna?</a:t>
            </a:r>
            <a:endParaRPr b="1" lang="en-US" sz="3000" spc="-1" strike="noStrike">
              <a:solidFill>
                <a:srgbClr val="ffff00"/>
              </a:solidFill>
              <a:latin typeface="Tahoma"/>
            </a:endParaRPr>
          </a:p>
        </p:txBody>
      </p:sp>
      <p:sp>
        <p:nvSpPr>
          <p:cNvPr id="1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ptimize the lengths and spacing of the el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RG-58 feed-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 reactance bridge to measure the antenna performance from each direction around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void using towers higher than 30 feet above the grou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692933CC-A21C-40E3-8B00-0F8336A9BA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10 What is a good way to get maximum performance from a Yagi antenna?</a:t>
            </a:r>
            <a:endParaRPr b="1" lang="en-US" sz="3000" spc="-1" strike="noStrike">
              <a:solidFill>
                <a:srgbClr val="ffff00"/>
              </a:solidFill>
              <a:latin typeface="Tahoma"/>
            </a:endParaRPr>
          </a:p>
        </p:txBody>
      </p:sp>
      <p:sp>
        <p:nvSpPr>
          <p:cNvPr id="1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Optimize the lengths and spacing of the elemen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RG-58 feed-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 reactance bridge to measure the antenna performance from each direction around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void using towers higher than 30 feet above the grou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7A8AE45E-DAF8-4AF6-A94D-5D1FDC05FA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11 Which of the following is NOT a Yagi antenna design variable that should be considered to optimize the forward gain, front-to-rear ratio and SWR bandwidth?</a:t>
            </a:r>
            <a:endParaRPr b="1" lang="en-US" sz="3000" spc="-1" strike="noStrike">
              <a:solidFill>
                <a:srgbClr val="ffff00"/>
              </a:solidFill>
              <a:latin typeface="Tahoma"/>
            </a:endParaRPr>
          </a:p>
        </p:txBody>
      </p:sp>
      <p:sp>
        <p:nvSpPr>
          <p:cNvPr id="1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hysical length of the boo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number of elements on the boo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pacing of each element along the boo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olarization of the antenna elemen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B5768D6B-D00C-419E-875E-30944B2905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11 Which of the following is NOT a Yagi antenna design variable that should be considered to optimize the forward gain, front-to-rear ratio and SWR bandwidth?</a:t>
            </a:r>
            <a:endParaRPr b="1" lang="en-US" sz="3000" spc="-1" strike="noStrike">
              <a:solidFill>
                <a:srgbClr val="ffff00"/>
              </a:solidFill>
              <a:latin typeface="Tahoma"/>
            </a:endParaRPr>
          </a:p>
        </p:txBody>
      </p:sp>
      <p:sp>
        <p:nvSpPr>
          <p:cNvPr id="1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hysical length of the boo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number of elements on the boo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pacing of each element along the boo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polarization of the antenna element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1B24F9C7-D8D2-4C6B-AE29-1BCAD8EAE6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Quad antenna</a:t>
            </a:r>
            <a:endParaRPr b="1" lang="en-US" sz="3000" spc="-1" strike="noStrike">
              <a:solidFill>
                <a:srgbClr val="ffff00"/>
              </a:solidFill>
              <a:latin typeface="Tahoma"/>
            </a:endParaRPr>
          </a:p>
        </p:txBody>
      </p:sp>
      <p:pic>
        <p:nvPicPr>
          <p:cNvPr id="154" name="" descr=""/>
          <p:cNvPicPr/>
          <p:nvPr/>
        </p:nvPicPr>
        <p:blipFill>
          <a:blip r:embed="rId1"/>
          <a:srcRect l="4170" t="3556" r="4170" b="8821"/>
          <a:stretch/>
        </p:blipFill>
        <p:spPr>
          <a:xfrm>
            <a:off x="838080" y="1422360"/>
            <a:ext cx="7391520" cy="4956120"/>
          </a:xfrm>
          <a:prstGeom prst="rect">
            <a:avLst/>
          </a:prstGeom>
          <a:ln w="0">
            <a:noFill/>
          </a:ln>
        </p:spPr>
      </p:pic>
      <p:sp>
        <p:nvSpPr>
          <p:cNvPr id="3" name="PlaceHolder 2"/>
          <p:cNvSpPr>
            <a:spLocks noGrp="1"/>
          </p:cNvSpPr>
          <p:nvPr>
            <p:ph type="ftr" idx="1"/>
          </p:nvPr>
        </p:nvSpPr>
        <p:spPr/>
        <p:txBody>
          <a:bodyPr/>
          <a:p>
            <a:r>
              <a:t>Antennas and Feedlines</a:t>
            </a:r>
          </a:p>
        </p:txBody>
      </p:sp>
      <p:sp>
        <p:nvSpPr>
          <p:cNvPr id="4" name="PlaceHolder 3"/>
          <p:cNvSpPr>
            <a:spLocks noGrp="1"/>
          </p:cNvSpPr>
          <p:nvPr>
            <p:ph type="sldNum" idx="2"/>
          </p:nvPr>
        </p:nvSpPr>
        <p:spPr/>
        <p:txBody>
          <a:bodyPr/>
          <a:p>
            <a:fld id="{71E14CD2-1CC3-4ADE-9816-4733F27E0B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01 Approximately how long is each side of a cubical-quad antenna driven element for 21.4 MHz?</a:t>
            </a:r>
            <a:endParaRPr b="1" lang="en-US" sz="3000" spc="-1" strike="noStrike">
              <a:solidFill>
                <a:srgbClr val="ffff00"/>
              </a:solidFill>
              <a:latin typeface="Tahoma"/>
            </a:endParaRPr>
          </a:p>
        </p:txBody>
      </p:sp>
      <p:sp>
        <p:nvSpPr>
          <p:cNvPr id="1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1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1.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469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42C91536-AF91-4A21-9C72-82E1977FBD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01 Approximately how long is each side of a cubical-quad antenna driven element for 21.4 MHz?</a:t>
            </a:r>
            <a:endParaRPr b="1" lang="en-US" sz="3000" spc="-1" strike="noStrike">
              <a:solidFill>
                <a:srgbClr val="ffff00"/>
              </a:solidFill>
              <a:latin typeface="Tahoma"/>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17 fe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1.7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469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7C7F7ACD-5D2A-47E0-BD24-0CE1149460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02 Approximately how long is each side of a cubical-quad antenna driven element for 14.3 MHz?</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7.6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3.4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70.3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7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AB9DB552-CDDD-4A45-9C7B-01718C2B20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02 Approximately how long is each side of a cubical-quad antenna driven element for 14.3 MHz?</a:t>
            </a:r>
            <a:endParaRPr b="1" lang="en-US" sz="3000" spc="-1" strike="noStrike">
              <a:solidFill>
                <a:srgbClr val="ffff00"/>
              </a:solidFill>
              <a:latin typeface="Tahoma"/>
            </a:endParaRPr>
          </a:p>
        </p:txBody>
      </p:sp>
      <p:sp>
        <p:nvSpPr>
          <p:cNvPr id="1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17.6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3.4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70.3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7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05ABE45D-1F5B-4A4E-BF20-725A05379A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01 When designing a Yagi antenna, how can the SWR bandwidth be increased?</a:t>
            </a:r>
            <a:endParaRPr b="1" lang="en-US" sz="3000" spc="-1" strike="noStrike">
              <a:solidFill>
                <a:srgbClr val="ffff00"/>
              </a:solidFill>
              <a:latin typeface="Tahoma"/>
            </a:endParaRPr>
          </a:p>
        </p:txBody>
      </p:sp>
      <p:sp>
        <p:nvSpPr>
          <p:cNvPr id="1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larger diameter el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closer element spac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traps on the el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tapered-diameter elemen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A87E56DB-231B-4BE8-993D-7824DD5642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03 Approximately how long is each side of a cubical-quad antenna reflector element for 29.6 MHz?</a:t>
            </a:r>
            <a:endParaRPr b="1" lang="en-US" sz="3000" spc="-1" strike="noStrike">
              <a:solidFill>
                <a:srgbClr val="ffff00"/>
              </a:solidFill>
              <a:latin typeface="Tahoma"/>
            </a:endParaRPr>
          </a:p>
        </p:txBody>
      </p:sp>
      <p:sp>
        <p:nvSpPr>
          <p:cNvPr id="1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23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8.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9.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4.8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37660525-E485-4F84-9F9C-1F14D59D0D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03 Approximately how long is each side of a cubical-quad antenna reflector element for 29.6 MHz?</a:t>
            </a:r>
            <a:endParaRPr b="1" lang="en-US" sz="3000" spc="-1" strike="noStrike">
              <a:solidFill>
                <a:srgbClr val="ffff00"/>
              </a:solidFill>
              <a:latin typeface="Tahoma"/>
            </a:endParaRPr>
          </a:p>
        </p:txBody>
      </p:sp>
      <p:sp>
        <p:nvSpPr>
          <p:cNvPr id="1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23 fe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8.7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9.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4.8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F282A79C-A7BB-4B2D-AD5C-FBD1AC9E38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0"/>
            <a:ext cx="88394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Delta Loop</a:t>
            </a:r>
            <a:endParaRPr b="1" lang="en-US" sz="3000" spc="-1" strike="noStrike">
              <a:solidFill>
                <a:srgbClr val="ffff00"/>
              </a:solidFill>
              <a:latin typeface="Tahoma"/>
            </a:endParaRPr>
          </a:p>
        </p:txBody>
      </p:sp>
      <p:pic>
        <p:nvPicPr>
          <p:cNvPr id="168" name="" descr=""/>
          <p:cNvPicPr/>
          <p:nvPr/>
        </p:nvPicPr>
        <p:blipFill>
          <a:blip r:embed="rId1"/>
          <a:stretch/>
        </p:blipFill>
        <p:spPr>
          <a:xfrm>
            <a:off x="1066680" y="1112760"/>
            <a:ext cx="7010640" cy="5295960"/>
          </a:xfrm>
          <a:prstGeom prst="rect">
            <a:avLst/>
          </a:prstGeom>
          <a:ln w="0">
            <a:noFill/>
          </a:ln>
        </p:spPr>
      </p:pic>
      <p:sp>
        <p:nvSpPr>
          <p:cNvPr id="3" name="PlaceHolder 2"/>
          <p:cNvSpPr>
            <a:spLocks noGrp="1"/>
          </p:cNvSpPr>
          <p:nvPr>
            <p:ph type="ftr" idx="1"/>
          </p:nvPr>
        </p:nvSpPr>
        <p:spPr/>
        <p:txBody>
          <a:bodyPr/>
          <a:p>
            <a:r>
              <a:t>Antennas and Feedlines</a:t>
            </a:r>
          </a:p>
        </p:txBody>
      </p:sp>
      <p:sp>
        <p:nvSpPr>
          <p:cNvPr id="4" name="PlaceHolder 3"/>
          <p:cNvSpPr>
            <a:spLocks noGrp="1"/>
          </p:cNvSpPr>
          <p:nvPr>
            <p:ph type="sldNum" idx="2"/>
          </p:nvPr>
        </p:nvSpPr>
        <p:spPr/>
        <p:txBody>
          <a:bodyPr/>
          <a:p>
            <a:fld id="{1643C2BA-8E37-42A1-A7B2-7DBE46AF1F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04 Approximately how long is each leg of a symmetrical delta-loop antenna driven element for 28.7 MHz?</a:t>
            </a:r>
            <a:endParaRPr b="1" lang="en-US" sz="3000" spc="-1" strike="noStrike">
              <a:solidFill>
                <a:srgbClr val="ffff00"/>
              </a:solidFill>
              <a:latin typeface="Tahoma"/>
            </a:endParaRPr>
          </a:p>
        </p:txBody>
      </p:sp>
      <p:sp>
        <p:nvSpPr>
          <p:cNvPr id="1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75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1.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3.4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46E5E106-2525-4A4A-9298-ABD35A80F8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04 Approximately how long is each leg of a symmetrical delta-loop antenna driven element for 28.7 MHz?</a:t>
            </a:r>
            <a:endParaRPr b="1" lang="en-US" sz="3000" spc="-1" strike="noStrike">
              <a:solidFill>
                <a:srgbClr val="ffff00"/>
              </a:solidFill>
              <a:latin typeface="Tahoma"/>
            </a:endParaRPr>
          </a:p>
        </p:txBody>
      </p:sp>
      <p:sp>
        <p:nvSpPr>
          <p:cNvPr id="1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75 fe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1.7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3.4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AF8D0BA7-B5F9-4B38-88AD-8A8AC1CE4B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05 Approximately how long is each leg of a symmetrical delta-loop antenna driven element for 24.9 MHz?</a:t>
            </a:r>
            <a:endParaRPr b="1" lang="en-US" sz="3000" spc="-1" strike="noStrike">
              <a:solidFill>
                <a:srgbClr val="ffff00"/>
              </a:solidFill>
              <a:latin typeface="Tahoma"/>
            </a:endParaRPr>
          </a:p>
        </p:txBody>
      </p:sp>
      <p:sp>
        <p:nvSpPr>
          <p:cNvPr id="1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99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95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3.45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40.36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0E86E1E6-2FDB-41EC-B822-8EE0511C9C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05 Approximately how long is each leg of a symmetrical delta-loop antenna driven element for 24.9 MHz?</a:t>
            </a:r>
            <a:endParaRPr b="1" lang="en-US" sz="3000" spc="-1" strike="noStrike">
              <a:solidFill>
                <a:srgbClr val="ffff00"/>
              </a:solidFill>
              <a:latin typeface="Tahoma"/>
            </a:endParaRPr>
          </a:p>
        </p:txBody>
      </p:sp>
      <p:sp>
        <p:nvSpPr>
          <p:cNvPr id="1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99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95 fe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3.45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40.36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A3BDD176-7D17-4252-872B-13176D5F90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06 Approximately how long is each leg of a symmetrical delta-loop antenna reflector element for 14.1 MHz?</a:t>
            </a:r>
            <a:endParaRPr b="1" lang="en-US" sz="3000" spc="-1" strike="noStrike">
              <a:solidFill>
                <a:srgbClr val="ffff00"/>
              </a:solidFill>
              <a:latin typeface="Tahoma"/>
            </a:endParaRPr>
          </a:p>
        </p:txBody>
      </p:sp>
      <p:sp>
        <p:nvSpPr>
          <p:cNvPr id="1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26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3.76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4.35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73.0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7A95BDAE-603B-444C-8A48-29F6DE469D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06 Approximately how long is each leg of a symmetrical delta-loop antenna reflector element for 14.1 MHz?</a:t>
            </a:r>
            <a:endParaRPr b="1" lang="en-US" sz="3000" spc="-1" strike="noStrike">
              <a:solidFill>
                <a:srgbClr val="ffff00"/>
              </a:solidFill>
              <a:latin typeface="Tahoma"/>
            </a:endParaRPr>
          </a:p>
        </p:txBody>
      </p:sp>
      <p:sp>
        <p:nvSpPr>
          <p:cNvPr id="1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26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3.76 fe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24.35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73.0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6E5C5C24-EDC6-4D03-A712-4814B884D9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07 Which statement about two-element quad antennas is true?</a:t>
            </a:r>
            <a:endParaRPr b="1" lang="en-US" sz="3000" spc="-1" strike="noStrike">
              <a:solidFill>
                <a:srgbClr val="ffff00"/>
              </a:solidFill>
              <a:latin typeface="Tahoma"/>
            </a:endParaRPr>
          </a:p>
        </p:txBody>
      </p:sp>
      <p:sp>
        <p:nvSpPr>
          <p:cNvPr id="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compare favorably with a three-element Yag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perform poorly above H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perform very well only at H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are effective only when constructed using insulated wi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D9B380B4-F332-4B43-8260-372042906A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01 When designing a Yagi antenna, how can the SWR bandwidth be increased?</a:t>
            </a:r>
            <a:endParaRPr b="1" lang="en-US" sz="3000" spc="-1" strike="noStrike">
              <a:solidFill>
                <a:srgbClr val="ffff00"/>
              </a:solidFill>
              <a:latin typeface="Tahoma"/>
            </a:endParaRPr>
          </a:p>
        </p:txBody>
      </p:sp>
      <p:sp>
        <p:nvSpPr>
          <p:cNvPr id="1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Use larger diameter elemen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closer element spac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traps on the el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tapered-diameter elemen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CDD366F3-1404-4B71-8B44-6F49E2FE65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07 Which statement about two-element quad antennas is true?</a:t>
            </a:r>
            <a:endParaRPr b="1" lang="en-US" sz="3000" spc="-1" strike="noStrike">
              <a:solidFill>
                <a:srgbClr val="ffff00"/>
              </a:solidFill>
              <a:latin typeface="Tahoma"/>
            </a:endParaRPr>
          </a:p>
        </p:txBody>
      </p:sp>
      <p:sp>
        <p:nvSpPr>
          <p:cNvPr id="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y compare favorably with a three-element Yagi</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perform poorly above H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perform very well only at H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are effective only when constructed using insulated wi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88BD8287-7C4D-4B3F-9D8C-32116FE1F0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08 Compared to a dipole antenna, what are the directional radiation characteristics of a cubical-quad antenna?</a:t>
            </a:r>
            <a:endParaRPr b="1" lang="en-US" sz="3000" spc="-1" strike="noStrike">
              <a:solidFill>
                <a:srgbClr val="ffff00"/>
              </a:solidFill>
              <a:latin typeface="Tahoma"/>
            </a:endParaRPr>
          </a:p>
        </p:txBody>
      </p:sp>
      <p:sp>
        <p:nvSpPr>
          <p:cNvPr id="1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quad has more directivity in the horizontal plane but less directivity in the vertical pla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quad has less directivity in the horizontal plane but more directivity in the vertical pla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quad has less directivity in both horizontal and vertical pla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quad has more directivity in both horizontal and vertical plan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C09F76A7-7BC0-47E2-A32D-0915019383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80520"/>
            <a:ext cx="883944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08 Compared to a dipole antenna, what are the directional radiation characteristics of a cubical-quad antenna?</a:t>
            </a:r>
            <a:br>
              <a:rPr sz="3000"/>
            </a:br>
            <a:endParaRPr b="1" lang="en-US" sz="3000" spc="-1" strike="noStrike">
              <a:solidFill>
                <a:srgbClr val="ffff00"/>
              </a:solidFill>
              <a:latin typeface="Tahoma"/>
            </a:endParaRPr>
          </a:p>
        </p:txBody>
      </p:sp>
      <p:sp>
        <p:nvSpPr>
          <p:cNvPr id="1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quad has more directivity in the horizontal plane but less directivity in the vertical pla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quad has less directivity in the horizontal plane but more directivity in the vertical pla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quad has less directivity in both horizontal and vertical plan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quad has more directivity in both horizontal and vertical planes</a:t>
            </a:r>
            <a:endParaRPr b="1" lang="en-US" sz="2600" spc="-1" strike="noStrike">
              <a:solidFill>
                <a:srgbClr val="ffff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2A1E0714-353A-48BC-BD87-BAAEB1892E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09 Moving the feed point of a multielement quad antenna from a side parallel to the ground to a side perpendicular to the ground will have what effect?</a:t>
            </a:r>
            <a:endParaRPr b="1" lang="en-US" sz="3000" spc="-1" strike="noStrike">
              <a:solidFill>
                <a:srgbClr val="ffff00"/>
              </a:solidFill>
              <a:latin typeface="Tahoma"/>
            </a:endParaRPr>
          </a:p>
        </p:txBody>
      </p:sp>
      <p:sp>
        <p:nvSpPr>
          <p:cNvPr id="1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will significantly increase the antenna feed-point imped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significantly decrease the antenna feed-point imped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will change the antenna polarization from vertical to horizont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ill change the antenna polarization from horizontal to vertic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4CE4ACCA-EA38-41A0-8453-EEF726B907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09 Moving the feed point of a multielement quad antenna from a side parallel to the ground to a side perpendicular to the ground will have what effect?</a:t>
            </a:r>
            <a:endParaRPr b="1" lang="en-US" sz="3000" spc="-1" strike="noStrike">
              <a:solidFill>
                <a:srgbClr val="ffff00"/>
              </a:solidFill>
              <a:latin typeface="Tahoma"/>
            </a:endParaRPr>
          </a:p>
        </p:txBody>
      </p:sp>
      <p:sp>
        <p:nvSpPr>
          <p:cNvPr id="1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will significantly increase the antenna feed-point imped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significantly decrease the antenna feed-point imped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will change the antenna polarization from vertical to horizontal</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t will change the antenna polarization from horizontal to vertical</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04B816D-C04E-4960-BC5A-7B7B19385B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10 What does the term "antenna front-to-back ratio" mean in reference to a cubical-quad antenna?</a:t>
            </a:r>
            <a:endParaRPr b="1" lang="en-US" sz="3000" spc="-1" strike="noStrike">
              <a:solidFill>
                <a:srgbClr val="ffff00"/>
              </a:solidFill>
              <a:latin typeface="Tahoma"/>
            </a:endParaRPr>
          </a:p>
        </p:txBody>
      </p:sp>
      <p:sp>
        <p:nvSpPr>
          <p:cNvPr id="1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number of directors versus the number of refle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lative position of the driven element with respect to the reflectors and dire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power radiated in the major radiation lobe compared to the power radiated 90 degrees away from that dir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ower radiated in the major radiation lobe compared to the power radiated in exactly the opposite dire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DB025875-68A2-4C5D-881B-A2512A2451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10 What does the term "antenna front-to-back ratio" mean in reference to a cubical-quad antenna?</a:t>
            </a:r>
            <a:endParaRPr b="1" lang="en-US" sz="3000" spc="-1" strike="noStrike">
              <a:solidFill>
                <a:srgbClr val="ffff00"/>
              </a:solidFill>
              <a:latin typeface="Tahoma"/>
            </a:endParaRPr>
          </a:p>
        </p:txBody>
      </p:sp>
      <p:sp>
        <p:nvSpPr>
          <p:cNvPr id="1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number of directors versus the number of refle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lative position of the driven element with respect to the reflectors and dire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power radiated in the major radiation lobe compared to the power radiated 90 degrees away from that direc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power radiated in the major radiation lobe compared to the power radiated in exactly the opposite direc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9FD7BDBE-A092-4112-98DB-21A457DF01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B11 What is the "main lobe" of a cubical-quad antenna radiation pattern?</a:t>
            </a:r>
            <a:endParaRPr b="1" lang="en-US" sz="3000" spc="-1" strike="noStrike">
              <a:solidFill>
                <a:srgbClr val="ffff00"/>
              </a:solidFill>
              <a:latin typeface="Tahoma"/>
            </a:endParaRPr>
          </a:p>
        </p:txBody>
      </p:sp>
      <p:sp>
        <p:nvSpPr>
          <p:cNvPr id="1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irection of least radiation from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point of maximum current in a radiating antenna ele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direction of maximum radiated field strength from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aximum voltage standing wave point on a radiating ele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C68E225D-1D36-4928-8D2B-C940A51552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B11 What is the "main lobe" of a cubical-quad antenna radiation pattern?</a:t>
            </a:r>
            <a:endParaRPr b="1" lang="en-US" sz="3000" spc="-1" strike="noStrike">
              <a:solidFill>
                <a:srgbClr val="ffff00"/>
              </a:solidFill>
              <a:latin typeface="Tahoma"/>
            </a:endParaRPr>
          </a:p>
        </p:txBody>
      </p:sp>
      <p:sp>
        <p:nvSpPr>
          <p:cNvPr id="2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irection of least radiation from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point of maximum current in a radiating antenna eleme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direction of maximum radiated field strength from the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aximum voltage standing wave point on a radiating ele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D6D9316-F199-428B-9521-50D8ED0578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01 What type of multiband transmitting antenna does NOT require a feed-line?</a:t>
            </a:r>
            <a:endParaRPr b="1" lang="en-US" sz="3000" spc="-1" strike="noStrike">
              <a:solidFill>
                <a:srgbClr val="ffff00"/>
              </a:solidFill>
              <a:latin typeface="Tahoma"/>
            </a:endParaRPr>
          </a:p>
        </p:txBody>
      </p:sp>
      <p:sp>
        <p:nvSpPr>
          <p:cNvPr id="2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end-fed random-wir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triband Yagi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delta-loop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Beverage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D8C14E4-B033-4765-AE40-F124B7DEAB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02 Approximately how long is the driven element of a Yagi antenna for 14.0 MHz?</a:t>
            </a:r>
            <a:endParaRPr b="1" lang="en-US" sz="3000" spc="-1" strike="noStrike">
              <a:solidFill>
                <a:srgbClr val="ffff00"/>
              </a:solidFill>
              <a:latin typeface="Tahoma"/>
            </a:endParaRPr>
          </a:p>
        </p:txBody>
      </p:sp>
      <p:sp>
        <p:nvSpPr>
          <p:cNvPr id="1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3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5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66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60AC11D6-013C-42B6-831F-4C42CF4116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01 What type of multiband transmitting antenna does NOT require a feed-line?</a:t>
            </a:r>
            <a:endParaRPr b="1" lang="en-US" sz="3000" spc="-1" strike="noStrike">
              <a:solidFill>
                <a:srgbClr val="ffff00"/>
              </a:solidFill>
              <a:latin typeface="Tahoma"/>
            </a:endParaRPr>
          </a:p>
        </p:txBody>
      </p:sp>
      <p:sp>
        <p:nvSpPr>
          <p:cNvPr id="2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n end-fed random-wire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triband Yagi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delta-loop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Beverage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6CD023F3-7A21-4CBB-813B-7D039337D5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02 What is one advantage of using a random-wire antenna?</a:t>
            </a:r>
            <a:endParaRPr b="1" lang="en-US" sz="3000" spc="-1" strike="noStrike">
              <a:solidFill>
                <a:srgbClr val="ffff00"/>
              </a:solidFill>
              <a:latin typeface="Tahoma"/>
            </a:endParaRPr>
          </a:p>
        </p:txBody>
      </p:sp>
      <p:sp>
        <p:nvSpPr>
          <p:cNvPr id="2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more efficient than any other kind of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keep RF energy out of your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doesn't need an impedance matching networ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a multiband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1F4DD695-C626-488A-847B-A69345D25C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02 What is one advantage of using a random-wire antenna?</a:t>
            </a:r>
            <a:endParaRPr b="1" lang="en-US" sz="3000" spc="-1" strike="noStrike">
              <a:solidFill>
                <a:srgbClr val="ffff00"/>
              </a:solidFill>
              <a:latin typeface="Tahoma"/>
            </a:endParaRPr>
          </a:p>
        </p:txBody>
      </p:sp>
      <p:sp>
        <p:nvSpPr>
          <p:cNvPr id="2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more efficient than any other kind of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keep RF energy out of your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doesn't need an impedance matching network</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t is a multiband antenna</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32514275-51F5-4571-8AE7-DD4B20C74A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03 What is one disadvantage of a random-wire antenna?</a:t>
            </a:r>
            <a:endParaRPr b="1" lang="en-US" sz="3000" spc="-1" strike="noStrike">
              <a:solidFill>
                <a:srgbClr val="ffff00"/>
              </a:solidFill>
              <a:latin typeface="Tahoma"/>
            </a:endParaRPr>
          </a:p>
        </p:txBody>
      </p:sp>
      <p:sp>
        <p:nvSpPr>
          <p:cNvPr id="2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must be longer than 1 wavel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ay experience RF feedback in your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usually produces vertically polarized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use an inverted-T matching network for multiband oper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2D71E367-8FD0-495C-B849-66D59B843A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03 What is one disadvantage of a random-wire antenna?</a:t>
            </a:r>
            <a:endParaRPr b="1" lang="en-US" sz="3000" spc="-1" strike="noStrike">
              <a:solidFill>
                <a:srgbClr val="ffff00"/>
              </a:solidFill>
              <a:latin typeface="Tahoma"/>
            </a:endParaRPr>
          </a:p>
        </p:txBody>
      </p:sp>
      <p:sp>
        <p:nvSpPr>
          <p:cNvPr id="2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must be longer than 1 wavelength</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You may experience RF feedback in your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usually produces vertically polarized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use an inverted-T matching network for multiband oper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1D43285A-4084-440D-B64A-F6E045A07C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360"/>
            <a:ext cx="50292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Vertical Antenna</a:t>
            </a:r>
            <a:endParaRPr b="1" lang="en-US" sz="3000" spc="-1" strike="noStrike">
              <a:solidFill>
                <a:srgbClr val="ffff00"/>
              </a:solidFill>
              <a:latin typeface="Tahoma"/>
            </a:endParaRPr>
          </a:p>
        </p:txBody>
      </p:sp>
      <p:pic>
        <p:nvPicPr>
          <p:cNvPr id="214" name="" descr=""/>
          <p:cNvPicPr/>
          <p:nvPr/>
        </p:nvPicPr>
        <p:blipFill>
          <a:blip r:embed="rId1"/>
          <a:stretch/>
        </p:blipFill>
        <p:spPr>
          <a:xfrm>
            <a:off x="5211720" y="152280"/>
            <a:ext cx="3363840" cy="6324840"/>
          </a:xfrm>
          <a:prstGeom prst="rect">
            <a:avLst/>
          </a:prstGeom>
          <a:ln w="0">
            <a:noFill/>
          </a:ln>
        </p:spPr>
      </p:pic>
      <p:sp>
        <p:nvSpPr>
          <p:cNvPr id="215" name=""/>
          <p:cNvSpPr/>
          <p:nvPr/>
        </p:nvSpPr>
        <p:spPr>
          <a:xfrm>
            <a:off x="0" y="2057400"/>
            <a:ext cx="5181480" cy="372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ndard ¼ wave vertical has a feedpoint impedance of ~35 ohms</a:t>
            </a:r>
            <a:endParaRPr b="0" lang="en-US" sz="2800" spc="-1" strike="noStrike">
              <a:solidFill>
                <a:srgbClr val="ffffff"/>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loping ground radials downward raises feedpoint impedance</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Antennas and Feedlines</a:t>
            </a:r>
          </a:p>
        </p:txBody>
      </p:sp>
      <p:sp>
        <p:nvSpPr>
          <p:cNvPr id="4" name="PlaceHolder 3"/>
          <p:cNvSpPr>
            <a:spLocks noGrp="1"/>
          </p:cNvSpPr>
          <p:nvPr>
            <p:ph type="sldNum" idx="2"/>
          </p:nvPr>
        </p:nvSpPr>
        <p:spPr/>
        <p:txBody>
          <a:bodyPr/>
          <a:p>
            <a:fld id="{69913827-B9C0-41E8-B16A-DCAEC1E4B1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04 What is an advantage of downward sloping radials on a ground-plane antenna?</a:t>
            </a:r>
            <a:endParaRPr b="1" lang="en-US" sz="3000" spc="-1" strike="noStrike">
              <a:solidFill>
                <a:srgbClr val="ffff00"/>
              </a:solidFill>
              <a:latin typeface="Tahoma"/>
            </a:endParaRPr>
          </a:p>
        </p:txBody>
      </p:sp>
      <p:sp>
        <p:nvSpPr>
          <p:cNvPr id="2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lowers the radiation ang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brings the feed-point impedance closer to 30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ncreases the radiation ang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brings the feed-point impedance closer to 50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44CFDAFF-5C2C-41D3-8422-E276006B17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04 What is an advantage of downward sloping radials on a ground-plane antenna?</a:t>
            </a:r>
            <a:endParaRPr b="1" lang="en-US" sz="3000" spc="-1" strike="noStrike">
              <a:solidFill>
                <a:srgbClr val="ffff00"/>
              </a:solidFill>
              <a:latin typeface="Tahoma"/>
            </a:endParaRPr>
          </a:p>
        </p:txBody>
      </p:sp>
      <p:sp>
        <p:nvSpPr>
          <p:cNvPr id="2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lowers the radiation ang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brings the feed-point impedance closer to 30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ncreases the radiation ang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t brings the feed-point impedance closer to 50 ohm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5BDF1101-820A-499D-BBD4-0A3D80BB97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05 What happens to the feed-point impedance of a ground-plane antenna when its radials are changed from horizontal to downward-sloping?</a:t>
            </a:r>
            <a:endParaRPr b="1" lang="en-US" sz="3000" spc="-1" strike="noStrike">
              <a:solidFill>
                <a:srgbClr val="ffff00"/>
              </a:solidFill>
              <a:latin typeface="Tahoma"/>
            </a:endParaRPr>
          </a:p>
        </p:txBody>
      </p:sp>
      <p:sp>
        <p:nvSpPr>
          <p:cNvPr id="2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de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stays the sa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approaches zer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A34626E8-985F-427E-A704-0BB515A2DA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05 What happens to the feed-point impedance of a ground-plane antenna when its radials are changed from horizontal to downward-sloping?</a:t>
            </a:r>
            <a:endParaRPr b="1" lang="en-US" sz="3000" spc="-1" strike="noStrike">
              <a:solidFill>
                <a:srgbClr val="ffff00"/>
              </a:solidFill>
              <a:latin typeface="Tahoma"/>
            </a:endParaRPr>
          </a:p>
        </p:txBody>
      </p:sp>
      <p:sp>
        <p:nvSpPr>
          <p:cNvPr id="2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decreas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t increas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stays the sa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approaches zer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D5206E64-806C-4CDF-952A-D07DF753C5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02 Approximately how long is the driven element of a Yagi antenna for 14.0 MHz?</a:t>
            </a:r>
            <a:endParaRPr b="1" lang="en-US" sz="3000" spc="-1" strike="noStrike">
              <a:solidFill>
                <a:srgbClr val="ffff00"/>
              </a:solidFill>
              <a:latin typeface="Tahoma"/>
            </a:endParaRPr>
          </a:p>
        </p:txBody>
      </p:sp>
      <p:sp>
        <p:nvSpPr>
          <p:cNvPr id="1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7 fe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33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5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66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83974C5E-E812-45CE-BD26-B49A5DC44B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Dipole Radiation</a:t>
            </a:r>
            <a:endParaRPr b="1" lang="en-US" sz="3000" spc="-1" strike="noStrike">
              <a:solidFill>
                <a:srgbClr val="ffff00"/>
              </a:solidFill>
              <a:latin typeface="Tahoma"/>
            </a:endParaRPr>
          </a:p>
        </p:txBody>
      </p:sp>
      <p:pic>
        <p:nvPicPr>
          <p:cNvPr id="225" name="" descr=""/>
          <p:cNvPicPr/>
          <p:nvPr/>
        </p:nvPicPr>
        <p:blipFill>
          <a:blip r:embed="rId1"/>
          <a:srcRect l="5557" t="3881" r="6949" b="2084"/>
          <a:stretch/>
        </p:blipFill>
        <p:spPr>
          <a:xfrm>
            <a:off x="1828800" y="1238400"/>
            <a:ext cx="5486400" cy="5224320"/>
          </a:xfrm>
          <a:prstGeom prst="rect">
            <a:avLst/>
          </a:prstGeom>
          <a:ln w="0">
            <a:noFill/>
          </a:ln>
        </p:spPr>
      </p:pic>
      <p:sp>
        <p:nvSpPr>
          <p:cNvPr id="226" name=""/>
          <p:cNvSpPr/>
          <p:nvPr/>
        </p:nvSpPr>
        <p:spPr>
          <a:xfrm>
            <a:off x="2438280" y="3886200"/>
            <a:ext cx="4419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Antennas and Feedlines</a:t>
            </a:r>
          </a:p>
        </p:txBody>
      </p:sp>
      <p:sp>
        <p:nvSpPr>
          <p:cNvPr id="4" name="PlaceHolder 3"/>
          <p:cNvSpPr>
            <a:spLocks noGrp="1"/>
          </p:cNvSpPr>
          <p:nvPr>
            <p:ph type="sldNum" idx="2"/>
          </p:nvPr>
        </p:nvSpPr>
        <p:spPr/>
        <p:txBody>
          <a:bodyPr/>
          <a:p>
            <a:fld id="{D1A7A108-CD3D-4220-A90C-5E02B52B2D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06 What is the low-angle radiation pattern of an ideal half-wavelength dipole HF antenna installed a half-wavelength high, parallel to the earth?</a:t>
            </a:r>
            <a:endParaRPr b="1" lang="en-US" sz="3000" spc="-1" strike="noStrike">
              <a:solidFill>
                <a:srgbClr val="ffff00"/>
              </a:solidFill>
              <a:latin typeface="Tahoma"/>
            </a:endParaRPr>
          </a:p>
        </p:txBody>
      </p:sp>
      <p:sp>
        <p:nvSpPr>
          <p:cNvPr id="2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a figure-eight at right angles to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a figure-eight off both ends of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s a circle (equal radiation in all direc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two smaller lobes on one side of the antenna, and one larger lobe on the other sid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69351A16-AAD5-4D19-A50C-EC5D4E0975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06 What is the low-angle radiation pattern of an ideal half-wavelength dipole HF antenna installed a half-wavelength high, parallel to the earth?</a:t>
            </a:r>
            <a:endParaRPr b="1" lang="en-US" sz="3000" spc="-1" strike="noStrike">
              <a:solidFill>
                <a:srgbClr val="ffff00"/>
              </a:solidFill>
              <a:latin typeface="Tahoma"/>
            </a:endParaRPr>
          </a:p>
        </p:txBody>
      </p:sp>
      <p:sp>
        <p:nvSpPr>
          <p:cNvPr id="2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 is a figure-eight at right angles to the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a figure-eight off both ends of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s a circle (equal radiation in all direc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two smaller lobes on one side of the antenna, and one larger lobe on the other sid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643370A7-1E52-4AB5-9988-931BA617EA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07 How does antenna height affect the horizontal (azimuthal) radiation pattern of a horizontal dipole HF antenna?</a:t>
            </a:r>
            <a:endParaRPr b="1" lang="en-US" sz="3000" spc="-1" strike="noStrike">
              <a:solidFill>
                <a:srgbClr val="ffff00"/>
              </a:solidFill>
              <a:latin typeface="Tahoma"/>
            </a:endParaRPr>
          </a:p>
        </p:txBody>
      </p:sp>
      <p:sp>
        <p:nvSpPr>
          <p:cNvPr id="2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f the antenna is too high, the pattern becomes unpredict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tenna height has no effect on the patter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f the antenna is less than one-half wavelength high, the azimuthal pattern is almost omnidirectio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f the antenna is less than one-half wavelength high, radiation off the ends of the wire is elimina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43BC75E-45A7-4569-8F3E-519332436A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07 How does antenna height affect the horizontal (azimuthal) radiation pattern of a horizontal dipole HF antenna?</a:t>
            </a:r>
            <a:endParaRPr b="1" lang="en-US" sz="3000" spc="-1" strike="noStrike">
              <a:solidFill>
                <a:srgbClr val="ffff00"/>
              </a:solidFill>
              <a:latin typeface="Tahoma"/>
            </a:endParaRPr>
          </a:p>
        </p:txBody>
      </p:sp>
      <p:sp>
        <p:nvSpPr>
          <p:cNvPr id="2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f the antenna is too high, the pattern becomes unpredict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tenna height has no effect on the patter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f the antenna is less than one-half wavelength high, the azimuthal pattern is almost omnidirectional</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f the antenna is less than one-half wavelength high, radiation off the ends of the wire is elimina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33FC0CE2-CC30-46F0-8961-2A54C1D1FC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08 If the horizontal radiation pattern of an antenna shows a major lobe at 0 degrees and a minor lobe at 180 degrees, how would you describe the radiation pattern of this antenna?</a:t>
            </a:r>
            <a:endParaRPr b="1" lang="en-US" sz="3000" spc="-1" strike="noStrike">
              <a:solidFill>
                <a:srgbClr val="ffff00"/>
              </a:solidFill>
              <a:latin typeface="Tahoma"/>
            </a:endParaRPr>
          </a:p>
        </p:txBody>
      </p:sp>
      <p:sp>
        <p:nvSpPr>
          <p:cNvPr id="2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4000"/>
          </a:bodyPr>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ost of the signal would be radiated towards 180 degrees and a smaller amount would be radiated towards 0 degrees</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lmost no signal would be radiated towards 0 degrees and a small amount would be radiated towards 180 degrees</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most all the signal would be radiated equally towards 0 degrees and 180 degrees</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st of the signal would be radiated towards 0 degrees and a smaller amount would be radiated towards 180 degre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9D37FA79-7E20-4242-B060-D9DC6084CE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08 If the horizontal radiation pattern of an antenna shows a major lobe at 0 degrees and a minor lobe at 180 degrees, how would you describe the radiation pattern of this antenna?</a:t>
            </a:r>
            <a:endParaRPr b="1" lang="en-US" sz="3000" spc="-1" strike="noStrike">
              <a:solidFill>
                <a:srgbClr val="ffff00"/>
              </a:solidFill>
              <a:latin typeface="Tahoma"/>
            </a:endParaRPr>
          </a:p>
        </p:txBody>
      </p:sp>
      <p:sp>
        <p:nvSpPr>
          <p:cNvPr id="2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ost of the signal would be radiated towards 180 degrees and a smaller amount would be radiated towards 0 degrees</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lmost no signal would be radiated towards 0 degrees and a small amount would be radiated towards 180 degrees</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most all the signal would be radiated equally towards 0 degrees and 180 degre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Most of the signal would be radiated towards 0 degrees and a smaller amount would be radiated towards 180 degre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598BFC0F-F0FA-4902-B445-9058D1B6C3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09 If a slightly shorter parasitic element is placed 0.1 wavelength away and parallel to an HF dipole antenna mounted above ground, what effect will this have on the antenna's radiation pattern?</a:t>
            </a:r>
            <a:endParaRPr b="1" lang="en-US" sz="3000" spc="-1" strike="noStrike">
              <a:solidFill>
                <a:srgbClr val="ffff00"/>
              </a:solidFill>
              <a:latin typeface="Tahoma"/>
            </a:endParaRPr>
          </a:p>
        </p:txBody>
      </p:sp>
      <p:sp>
        <p:nvSpPr>
          <p:cNvPr id="2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adiation pattern will not be affec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horizontal plane, parallel to the two el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vertical plane, away from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horizontal plane, toward the parasitic ele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99426255-7F60-4AB4-AAD7-22AF8A881F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09 If a slightly shorter parasitic element is placed 0.1 wavelength away and parallel to an HF dipole antenna mounted above ground, what effect will this have on the antenna's radiation pattern?</a:t>
            </a:r>
            <a:endParaRPr b="1" lang="en-US" sz="3000" spc="-1" strike="noStrike">
              <a:solidFill>
                <a:srgbClr val="ffff00"/>
              </a:solidFill>
              <a:latin typeface="Tahoma"/>
            </a:endParaRPr>
          </a:p>
        </p:txBody>
      </p:sp>
      <p:sp>
        <p:nvSpPr>
          <p:cNvPr id="2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adiation pattern will not be affec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horizontal plane, parallel to the two el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vertical plane, away from the groun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major lobe will develop in the horizontal plane, toward the parasitic elemen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FDD53ED3-EADB-4D94-AAF6-94B02981BB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10 If a slightly longer parasitic element is placed 0.1 wavelength away and parallel to an HF dipole antenna mounted above ground, what effect will this have on the antenna's radiation pattern?</a:t>
            </a:r>
            <a:endParaRPr b="1" lang="en-US" sz="3000" spc="-1" strike="noStrike">
              <a:solidFill>
                <a:srgbClr val="ffff00"/>
              </a:solidFill>
              <a:latin typeface="Tahoma"/>
            </a:endParaRPr>
          </a:p>
        </p:txBody>
      </p:sp>
      <p:sp>
        <p:nvSpPr>
          <p:cNvPr id="2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adiation pattern will not be affec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horizontal plane, away from the parasitic element, toward the dipo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vertical plane, away from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horizontal plane, parallel to the two elemen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03D2A1D0-7EAB-4AE7-B253-F43799CE2A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03 Approximately how long is the director element of a Yagi antenna for 21.1 MHz?</a:t>
            </a:r>
            <a:endParaRPr b="1" lang="en-US" sz="3000" spc="-1" strike="noStrike">
              <a:solidFill>
                <a:srgbClr val="ffff00"/>
              </a:solidFill>
              <a:latin typeface="Tahoma"/>
            </a:endParaRPr>
          </a:p>
        </p:txBody>
      </p:sp>
      <p:sp>
        <p:nvSpPr>
          <p:cNvPr id="1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2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1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2233A93D-D61E-4999-B23F-48230390D3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10 If a slightly longer parasitic element is placed 0.1 wavelength away and parallel to an HF dipole antenna mounted above ground, what effect will this have on the antenna's radiation pattern?</a:t>
            </a:r>
            <a:endParaRPr b="1" lang="en-US" sz="3000" spc="-1" strike="noStrike">
              <a:solidFill>
                <a:srgbClr val="ffff00"/>
              </a:solidFill>
              <a:latin typeface="Tahoma"/>
            </a:endParaRPr>
          </a:p>
        </p:txBody>
      </p:sp>
      <p:sp>
        <p:nvSpPr>
          <p:cNvPr id="2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adiation pattern will not be affect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major lobe will develop in the horizontal plane, away from the parasitic element, toward the dipol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vertical plane, away from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ajor lobe will develop in the horizontal plane, parallel to the two elemen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444C901-634F-45BD-8A84-CE23C6614F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C11 Where should the radial wires of a ground-mounted vertical antenna system be placed?</a:t>
            </a:r>
            <a:endParaRPr b="1" lang="en-US" sz="3000" spc="-1" strike="noStrike">
              <a:solidFill>
                <a:srgbClr val="ffff00"/>
              </a:solidFill>
              <a:latin typeface="Tahoma"/>
            </a:endParaRPr>
          </a:p>
        </p:txBody>
      </p:sp>
      <p:sp>
        <p:nvSpPr>
          <p:cNvPr id="2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 high as possible above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arallel to the antenna ele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 the surface or buried a few inches below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the top of the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CDAF12CF-9720-45B9-BCDC-564A65A4E7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C11 Where should the radial wires of a ground-mounted vertical antenna system be placed?</a:t>
            </a:r>
            <a:endParaRPr b="1" lang="en-US" sz="3000" spc="-1" strike="noStrike">
              <a:solidFill>
                <a:srgbClr val="ffff00"/>
              </a:solidFill>
              <a:latin typeface="Tahoma"/>
            </a:endParaRPr>
          </a:p>
        </p:txBody>
      </p:sp>
      <p:sp>
        <p:nvSpPr>
          <p:cNvPr id="2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 high as possible above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arallel to the antenna eleme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On the surface or buried a few inches below the grou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the top of the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B97A694B-9B4A-49BE-AB16-96FD937840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1920" y="-360"/>
            <a:ext cx="2133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eedlines</a:t>
            </a:r>
            <a:endParaRPr b="1" lang="en-US" sz="3000" spc="-1" strike="noStrike">
              <a:solidFill>
                <a:srgbClr val="ffff00"/>
              </a:solidFill>
              <a:latin typeface="Tahoma"/>
            </a:endParaRPr>
          </a:p>
        </p:txBody>
      </p:sp>
      <p:pic>
        <p:nvPicPr>
          <p:cNvPr id="252" name="" descr=""/>
          <p:cNvPicPr/>
          <p:nvPr/>
        </p:nvPicPr>
        <p:blipFill>
          <a:blip r:embed="rId1"/>
          <a:srcRect l="5130" t="2030" r="6407" b="4921"/>
          <a:stretch/>
        </p:blipFill>
        <p:spPr>
          <a:xfrm>
            <a:off x="2286000" y="173160"/>
            <a:ext cx="6477120" cy="6288120"/>
          </a:xfrm>
          <a:prstGeom prst="rect">
            <a:avLst/>
          </a:prstGeom>
          <a:ln w="0">
            <a:noFill/>
          </a:ln>
        </p:spPr>
      </p:pic>
      <p:sp>
        <p:nvSpPr>
          <p:cNvPr id="3" name="PlaceHolder 2"/>
          <p:cNvSpPr>
            <a:spLocks noGrp="1"/>
          </p:cNvSpPr>
          <p:nvPr>
            <p:ph type="ftr" idx="1"/>
          </p:nvPr>
        </p:nvSpPr>
        <p:spPr/>
        <p:txBody>
          <a:bodyPr/>
          <a:p>
            <a:r>
              <a:t>Antennas and Feedlines</a:t>
            </a:r>
          </a:p>
        </p:txBody>
      </p:sp>
      <p:sp>
        <p:nvSpPr>
          <p:cNvPr id="4" name="PlaceHolder 3"/>
          <p:cNvSpPr>
            <a:spLocks noGrp="1"/>
          </p:cNvSpPr>
          <p:nvPr>
            <p:ph type="sldNum" idx="2"/>
          </p:nvPr>
        </p:nvSpPr>
        <p:spPr/>
        <p:txBody>
          <a:bodyPr/>
          <a:p>
            <a:fld id="{008412C0-B211-42F0-A9B4-6C4F5F31D2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01 Which of the following factors help determine the characteristic impedance of a parallel-conductor antenna feed-line?</a:t>
            </a:r>
            <a:endParaRPr b="1" lang="en-US" sz="3000" spc="-1" strike="noStrike">
              <a:solidFill>
                <a:srgbClr val="ffff00"/>
              </a:solidFill>
              <a:latin typeface="Tahoma"/>
            </a:endParaRPr>
          </a:p>
        </p:txBody>
      </p:sp>
      <p:sp>
        <p:nvSpPr>
          <p:cNvPr id="2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istance between the centers of the conductors and the radius of the co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distance between the centers of the conductors and the length of the 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adius of the conductors and the frequency of the sig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requency of the signal and the length of the li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B4597E29-990D-431C-9579-D2A9863DC9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01 Which of the following factors help determine the characteristic impedance of a parallel-conductor antenna feed-line?</a:t>
            </a:r>
            <a:endParaRPr b="1" lang="en-US" sz="3000" spc="-1" strike="noStrike">
              <a:solidFill>
                <a:srgbClr val="ffff00"/>
              </a:solidFill>
              <a:latin typeface="Tahoma"/>
            </a:endParaRPr>
          </a:p>
        </p:txBody>
      </p:sp>
      <p:sp>
        <p:nvSpPr>
          <p:cNvPr id="2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distance between the centers of the conductors and the radius of the conducto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distance between the centers of the conductors and the length of the 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adius of the conductors and the frequency of the sig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requency of the signal and the length of the li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F8F07ADD-9FB0-4F07-A20E-5BF7AEA03C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02 What is the typical characteristic impedance of coaxial cables used for antenna feed-lines at amateur stations?</a:t>
            </a:r>
            <a:endParaRPr b="1" lang="en-US" sz="3000" spc="-1" strike="noStrike">
              <a:solidFill>
                <a:srgbClr val="ffff00"/>
              </a:solidFill>
              <a:latin typeface="Tahoma"/>
            </a:endParaRPr>
          </a:p>
        </p:txBody>
      </p:sp>
      <p:sp>
        <p:nvSpPr>
          <p:cNvPr id="2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5 and 3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and 75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80 and 10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0 and 750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16751A8F-1CED-4E4E-993C-0CFC3F42B2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02 What is the typical characteristic impedance of coaxial cables used for antenna feed-lines at amateur stations?</a:t>
            </a:r>
            <a:endParaRPr b="1" lang="en-US" sz="3000" spc="-1" strike="noStrike">
              <a:solidFill>
                <a:srgbClr val="ffff00"/>
              </a:solidFill>
              <a:latin typeface="Tahoma"/>
            </a:endParaRPr>
          </a:p>
        </p:txBody>
      </p:sp>
      <p:sp>
        <p:nvSpPr>
          <p:cNvPr id="2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5 and 30 oh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50 and 75 ohm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80 and 10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0 and 750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D5B63272-6727-4D13-B697-2805B3946C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03 What is the characteristic impedance of flat-ribbon TV-type twin-lead?</a:t>
            </a:r>
            <a:endParaRPr b="1" lang="en-US" sz="3000" spc="-1" strike="noStrike">
              <a:solidFill>
                <a:srgbClr val="ffff00"/>
              </a:solidFill>
              <a:latin typeface="Tahoma"/>
            </a:endParaRPr>
          </a:p>
        </p:txBody>
      </p:sp>
      <p:sp>
        <p:nvSpPr>
          <p:cNvPr id="2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75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DD15B57B-5C09-4ABB-AF7F-9B9E42200E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03 What is the characteristic impedance of flat-ribbon TV-type twin-lead?</a:t>
            </a:r>
            <a:endParaRPr b="1" lang="en-US" sz="3000" spc="-1" strike="noStrike">
              <a:solidFill>
                <a:srgbClr val="ffff00"/>
              </a:solidFill>
              <a:latin typeface="Tahoma"/>
            </a:endParaRPr>
          </a:p>
        </p:txBody>
      </p:sp>
      <p:sp>
        <p:nvSpPr>
          <p:cNvPr id="2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75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 oh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300 ohm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76825BAF-89E8-486D-BADD-F7965F1BE1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A03 Approximately how long is the director element of a Yagi antenna for 21.1 MHz?</a:t>
            </a:r>
            <a:endParaRPr b="1" lang="en-US" sz="3000" spc="-1" strike="noStrike">
              <a:solidFill>
                <a:srgbClr val="ffff00"/>
              </a:solidFill>
              <a:latin typeface="Tahoma"/>
            </a:endParaRPr>
          </a:p>
        </p:txBody>
      </p:sp>
      <p:sp>
        <p:nvSpPr>
          <p:cNvPr id="1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2 fe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21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7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095FBD17-5B07-4B06-8DB1-564BCD6924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04 What is the typical cause of power being reflected back down an antenna feed-line?</a:t>
            </a:r>
            <a:endParaRPr b="1" lang="en-US" sz="3000" spc="-1" strike="noStrike">
              <a:solidFill>
                <a:srgbClr val="ffff00"/>
              </a:solidFill>
              <a:latin typeface="Tahoma"/>
            </a:endParaRPr>
          </a:p>
        </p:txBody>
      </p:sp>
      <p:sp>
        <p:nvSpPr>
          <p:cNvPr id="2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perating an antenna at its resonant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ing more transmitter power than the antenna can hand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difference between feed line impedance and antenna feed-point imped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eeding the antenna with unbalanced feed-li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90F9AF6C-85E6-4505-82CF-A0C4D2C54B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04 What is the typical cause of power being reflected back down an antenna feed-line?</a:t>
            </a:r>
            <a:endParaRPr b="1" lang="en-US" sz="3000" spc="-1" strike="noStrike">
              <a:solidFill>
                <a:srgbClr val="ffff00"/>
              </a:solidFill>
              <a:latin typeface="Tahoma"/>
            </a:endParaRPr>
          </a:p>
        </p:txBody>
      </p:sp>
      <p:sp>
        <p:nvSpPr>
          <p:cNvPr id="2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perating an antenna at its resonant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ing more transmitter power than the antenna can hand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 difference between feed line impedance and antenna feed-point impedan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eeding the antenna with unbalanced feed-li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59880612-5EBA-4B9C-B487-D34383584E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05 What must be done to prevent standing waves of voltage and current on an antenna feed-line?</a:t>
            </a:r>
            <a:endParaRPr b="1" lang="en-US" sz="3000" spc="-1" strike="noStrike">
              <a:solidFill>
                <a:srgbClr val="ffff00"/>
              </a:solidFill>
              <a:latin typeface="Tahoma"/>
            </a:endParaRPr>
          </a:p>
        </p:txBody>
      </p:sp>
      <p:sp>
        <p:nvSpPr>
          <p:cNvPr id="2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antenna feed point must be at DC ground potenti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eed line must be cut to an odd number of electrical quarter-wavelengths lo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eed line must be cut to an even number of physical half wavelengths lo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antenna feed-point impedance must be matched to the characteristic impedance of the feed-li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D4D2F4CF-1EFD-43F0-98B6-E39BAB4C91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05 What must be done to prevent standing waves of voltage and current on an antenna feed-line?</a:t>
            </a:r>
            <a:endParaRPr b="1" lang="en-US" sz="3000" spc="-1" strike="noStrike">
              <a:solidFill>
                <a:srgbClr val="ffff00"/>
              </a:solidFill>
              <a:latin typeface="Tahoma"/>
            </a:endParaRPr>
          </a:p>
        </p:txBody>
      </p:sp>
      <p:sp>
        <p:nvSpPr>
          <p:cNvPr id="2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antenna feed point must be at DC ground potenti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eed line must be cut to an odd number of electrical quarter-wavelengths lo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eed line must be cut to an even number of physical half wavelengths lo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antenna feed-point impedance must be matched to the characteristic impedance of the feed-lin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0D94C023-93E0-4973-9BC3-3C6AD13617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06 Under what conditions would you use an inductively coupled matching network with a dipole antenna fed with parallel-conductor feed line?</a:t>
            </a:r>
            <a:endParaRPr b="1" lang="en-US" sz="3000" spc="-1" strike="noStrike">
              <a:solidFill>
                <a:srgbClr val="ffff00"/>
              </a:solidFill>
              <a:latin typeface="Tahoma"/>
            </a:endParaRPr>
          </a:p>
        </p:txBody>
      </p:sp>
      <p:sp>
        <p:nvSpPr>
          <p:cNvPr id="2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would not normally be used with parallel-conductor feed li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ould be used to increase the SWR to an acceptable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would be used to match the unbalanced transmitter output to the balanced parallel-conductor feed 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ould be used at the antenna feed point to tune out the radiation resist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241B38E-8495-40C0-8CBB-827643514D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06 Under what conditions would you use an inductively coupled matching network with a dipole antenna fed with parallel-conductor feed line?</a:t>
            </a:r>
            <a:endParaRPr b="1" lang="en-US" sz="3000" spc="-1" strike="noStrike">
              <a:solidFill>
                <a:srgbClr val="ffff00"/>
              </a:solidFill>
              <a:latin typeface="Tahoma"/>
            </a:endParaRPr>
          </a:p>
        </p:txBody>
      </p:sp>
      <p:sp>
        <p:nvSpPr>
          <p:cNvPr id="2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would not normally be used with parallel-conductor feed li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ould be used to increase the SWR to an acceptable level</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would be used to match the unbalanced transmitter output to the balanced parallel-conductor feed li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ould be used at the antenna feed point to tune out the radiation resist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C5C4EF08-8059-4927-9037-295551BF2C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77" name=""/>
          <p:cNvGraphicFramePr/>
          <p:nvPr/>
        </p:nvGraphicFramePr>
        <p:xfrm>
          <a:off x="609480" y="609480"/>
          <a:ext cx="7972560" cy="5638680"/>
        </p:xfrm>
        <a:graphic>
          <a:graphicData uri="http://schemas.openxmlformats.org/drawingml/2006/table">
            <a:tbl>
              <a:tblPr/>
              <a:tblGrid>
                <a:gridCol w="939960"/>
                <a:gridCol w="895320"/>
                <a:gridCol w="898560"/>
                <a:gridCol w="826920"/>
                <a:gridCol w="895320"/>
                <a:gridCol w="804960"/>
                <a:gridCol w="804960"/>
                <a:gridCol w="804960"/>
                <a:gridCol w="1101600"/>
              </a:tblGrid>
              <a:tr h="635040">
                <a:tc gridSpan="9">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ea typeface="Arial"/>
                        </a:rPr>
                        <a:t>Coax Cable Signal Loss (Attenuation) in dB per 100ft</a:t>
                      </a:r>
                      <a:endParaRPr b="0" lang="en-US" sz="2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c66"/>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8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Loss</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G-174</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G-58</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G-8X</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G-213</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G-6</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G-11</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9913</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33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LMR-400</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3399"/>
                    </a:solidFill>
                  </a:tcPr>
                </a:tc>
              </a:tr>
              <a:tr h="44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MHz</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4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5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2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2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2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0.2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3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441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0MHz</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3.3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4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0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4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4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5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44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0MHz</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6.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3.3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5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4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0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0.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44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00MHz</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8.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4.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3.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2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0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4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4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443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00MHz</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1.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7.3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4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3.3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8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3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8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8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439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400MHz</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7.3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1.2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7.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4.8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4.3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3.5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44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700MHz</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6.0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6.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1.0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6.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4.7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3.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3.5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44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900MHz</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7.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0.1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2.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7.7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6.0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4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4.2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3.9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442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GHz</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32.0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21.5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13.5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8.3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6.1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6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4.5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4.1dB</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r h="44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Imped</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0ohm</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0ohm</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0ohm</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0ohm</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75ohm</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75ohm</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0ohm</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ea typeface="Arial"/>
                        </a:rPr>
                        <a:t>50ohm</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cc"/>
                    </a:solidFill>
                  </a:tcPr>
                </a:tc>
              </a:tr>
            </a:tbl>
          </a:graphicData>
        </a:graphic>
      </p:graphicFrame>
      <p:sp>
        <p:nvSpPr>
          <p:cNvPr id="2" name="PlaceHolder 1"/>
          <p:cNvSpPr>
            <a:spLocks noGrp="1"/>
          </p:cNvSpPr>
          <p:nvPr>
            <p:ph type="ftr" idx="1"/>
          </p:nvPr>
        </p:nvSpPr>
        <p:spPr/>
        <p:txBody>
          <a:bodyPr/>
          <a:p>
            <a:r>
              <a:t>Antennas and Feedlines</a:t>
            </a:r>
          </a:p>
        </p:txBody>
      </p:sp>
      <p:sp>
        <p:nvSpPr>
          <p:cNvPr id="3" name="PlaceHolder 2"/>
          <p:cNvSpPr>
            <a:spLocks noGrp="1"/>
          </p:cNvSpPr>
          <p:nvPr>
            <p:ph type="sldNum" idx="2"/>
          </p:nvPr>
        </p:nvSpPr>
        <p:spPr/>
        <p:txBody>
          <a:bodyPr/>
          <a:p>
            <a:fld id="{FE85178C-C03F-4A30-8C76-FF80A0FB15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07 If a 160-meter signal and a 2-meter signal pass through the same coaxial cable, how will the attenuation of the two signals compare?</a:t>
            </a:r>
            <a:endParaRPr b="1" lang="en-US" sz="3000" spc="-1" strike="noStrike">
              <a:solidFill>
                <a:srgbClr val="ffff00"/>
              </a:solidFill>
              <a:latin typeface="Tahoma"/>
            </a:endParaRPr>
          </a:p>
        </p:txBody>
      </p:sp>
      <p:sp>
        <p:nvSpPr>
          <p:cNvPr id="27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will be greater at 2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be less at 2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will be the same at both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ill depend on the emission type in u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CB98DC6B-55EF-405F-B401-90B7DA46FF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07 If a 160-meter signal and a 2-meter signal pass through the same coaxial cable, how will the attenuation of the two signals compare?</a:t>
            </a:r>
            <a:endParaRPr b="1" lang="en-US" sz="3000" spc="-1" strike="noStrike">
              <a:solidFill>
                <a:srgbClr val="ffff00"/>
              </a:solidFill>
              <a:latin typeface="Tahoma"/>
            </a:endParaRPr>
          </a:p>
        </p:txBody>
      </p:sp>
      <p:sp>
        <p:nvSpPr>
          <p:cNvPr id="28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 will be greater at 2 mete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be less at 2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will be the same at both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ill depend on the emission type in u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3B448EF6-9674-418A-BFB7-FC56AFC3EF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08 In what values are RF feed line losses usually expressed?</a:t>
            </a:r>
            <a:endParaRPr b="1" lang="en-US" sz="3000" spc="-1" strike="noStrike">
              <a:solidFill>
                <a:srgbClr val="ffff00"/>
              </a:solidFill>
              <a:latin typeface="Tahoma"/>
            </a:endParaRPr>
          </a:p>
        </p:txBody>
      </p:sp>
      <p:sp>
        <p:nvSpPr>
          <p:cNvPr id="28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ls/1000 f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B/1000 f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ls/100 f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B/100 f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9B554D7A-3547-4D23-83A7-A54F95C560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A04 Approximately how long is the reflector element of a Yagi antenna for 28.1 MHz?</a:t>
            </a:r>
            <a:endParaRPr b="1" lang="en-US" sz="3000" spc="-1" strike="noStrike">
              <a:solidFill>
                <a:srgbClr val="ffff00"/>
              </a:solidFill>
              <a:latin typeface="Tahoma"/>
            </a:endParaRPr>
          </a:p>
        </p:txBody>
      </p:sp>
      <p:sp>
        <p:nvSpPr>
          <p:cNvPr id="1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75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6.6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7.5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5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929933B-19AC-419A-A185-B811267A87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08 In what values are RF feed line losses usually expressed?</a:t>
            </a:r>
            <a:endParaRPr b="1" lang="en-US" sz="3000" spc="-1" strike="noStrike">
              <a:solidFill>
                <a:srgbClr val="ffff00"/>
              </a:solidFill>
              <a:latin typeface="Tahoma"/>
            </a:endParaRPr>
          </a:p>
        </p:txBody>
      </p:sp>
      <p:sp>
        <p:nvSpPr>
          <p:cNvPr id="28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ls/1000 f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B/1000 f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ls/100 f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dB/100 f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2E6687B3-C253-4549-B640-49CE5AFA17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09 What standing-wave-ratio will result from the connection of a 50-ohm feed line to a resonant antenna having a 200-ohm feed-point impedance?</a:t>
            </a:r>
            <a:endParaRPr b="1" lang="en-US" sz="3000" spc="-1" strike="noStrike">
              <a:solidFill>
                <a:srgbClr val="ffff00"/>
              </a:solidFill>
              <a:latin typeface="Tahoma"/>
            </a:endParaRPr>
          </a:p>
        </p:txBody>
      </p:sp>
      <p:sp>
        <p:nvSpPr>
          <p:cNvPr id="2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325142D2-F712-4866-86E9-1C4591FC40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09 What standing-wave-ratio will result from the connection of a 50-ohm feed line to a resonant antenna having a 200-ohm feed-point impedance?</a:t>
            </a:r>
            <a:endParaRPr b="1" lang="en-US" sz="3000" spc="-1" strike="noStrike">
              <a:solidFill>
                <a:srgbClr val="ffff00"/>
              </a:solidFill>
              <a:latin typeface="Tahoma"/>
            </a:endParaRPr>
          </a:p>
        </p:txBody>
      </p:sp>
      <p:sp>
        <p:nvSpPr>
          <p:cNvPr id="2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4:1</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5634DE1-B2C7-4F6A-9964-D5563C0A0B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10 What standing-wave-ratio will result from the connection of a 50-ohm feed line to a resonant antenna having a 10-ohm feed-point impedance?</a:t>
            </a:r>
            <a:endParaRPr b="1" lang="en-US" sz="3000" spc="-1" strike="noStrike">
              <a:solidFill>
                <a:srgbClr val="ffff00"/>
              </a:solidFill>
              <a:latin typeface="Tahoma"/>
            </a:endParaRPr>
          </a:p>
        </p:txBody>
      </p:sp>
      <p:sp>
        <p:nvSpPr>
          <p:cNvPr id="2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1</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2FDF710C-B1DA-4751-BC3D-B9559ED38DB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10 What standing-wave-ratio will result from the connection of a 50-ohm feed line to a resonant antenna having a 10-ohm feed-point impedance?</a:t>
            </a:r>
            <a:endParaRPr b="1" lang="en-US" sz="3000" spc="-1" strike="noStrike">
              <a:solidFill>
                <a:srgbClr val="ffff00"/>
              </a:solidFill>
              <a:latin typeface="Tahoma"/>
            </a:endParaRPr>
          </a:p>
        </p:txBody>
      </p:sp>
      <p:sp>
        <p:nvSpPr>
          <p:cNvPr id="2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5:1</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996A3CFD-AFB2-4773-81A2-052078482B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11 What standing-wave-ratio will result from the connection of a 50-ohm feed line to a resonant antenna having a 50-ohm feed-point impedance?</a:t>
            </a:r>
            <a:endParaRPr b="1" lang="en-US" sz="3000" spc="-1" strike="noStrike">
              <a:solidFill>
                <a:srgbClr val="ffff00"/>
              </a:solidFill>
              <a:latin typeface="Tahoma"/>
            </a:endParaRPr>
          </a:p>
        </p:txBody>
      </p:sp>
      <p:sp>
        <p:nvSpPr>
          <p:cNvPr id="2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0:5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0:0</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0147E0C7-0AFC-4989-92BC-2E96567715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280" y="304560"/>
            <a:ext cx="883944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11 What standing-wave-ratio will result from the connection of a 50-ohm feed line to a resonant antenna having a 50-ohm feed-point impedance?</a:t>
            </a:r>
            <a:br>
              <a:rPr sz="3000"/>
            </a:br>
            <a:endParaRPr b="1" lang="en-US" sz="3000" spc="-1" strike="noStrike">
              <a:solidFill>
                <a:srgbClr val="ffff00"/>
              </a:solidFill>
              <a:latin typeface="Tahoma"/>
            </a:endParaRPr>
          </a:p>
        </p:txBody>
      </p:sp>
      <p:sp>
        <p:nvSpPr>
          <p:cNvPr id="29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1</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1</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0:5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0:0</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C1CD9422-16E5-4D25-9B4D-8658B39D05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12 What physical aspects of an air-insulated parallel-conductor transmission line determine its characteristic impedance?</a:t>
            </a:r>
            <a:endParaRPr b="1" lang="en-US" sz="3000" spc="-1" strike="noStrike">
              <a:solidFill>
                <a:srgbClr val="ffff00"/>
              </a:solidFill>
              <a:latin typeface="Tahoma"/>
            </a:endParaRPr>
          </a:p>
        </p:txBody>
      </p:sp>
      <p:sp>
        <p:nvSpPr>
          <p:cNvPr id="29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F resistance of the conductors and the length of the co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diameter of the conductors and the distance between their cen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F resistance of the conductors and the dielectric constant of the ins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esistance of each wire to RF ground and the antenna's imped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11DD1A58-1E9C-4D0A-96AF-EB092F2251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9D12 What physical aspects of an air-insulated parallel-conductor transmission line determine its characteristic impedance?</a:t>
            </a:r>
            <a:endParaRPr b="1" lang="en-US" sz="3000" spc="-1" strike="noStrike">
              <a:solidFill>
                <a:srgbClr val="ffff00"/>
              </a:solidFill>
              <a:latin typeface="Tahoma"/>
            </a:endParaRPr>
          </a:p>
        </p:txBody>
      </p:sp>
      <p:sp>
        <p:nvSpPr>
          <p:cNvPr id="30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F resistance of the conductors and the length of the conducto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diameter of the conductors and the distance between their cente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F resistance of the conductors and the dielectric constant of the ins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esistance of each wire to RF ground and the antenna's imped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4AE97F41-1B5B-44C3-B93D-809C6D78BD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9D13 What would be the SWR if you feed a vertical antenna that has a 25-ohm feed-point impedance with 50-ohm coaxial cable?</a:t>
            </a:r>
            <a:endParaRPr b="1" lang="en-US" sz="3000" spc="-1" strike="noStrike">
              <a:solidFill>
                <a:srgbClr val="ffff00"/>
              </a:solidFill>
              <a:latin typeface="Tahoma"/>
            </a:endParaRPr>
          </a:p>
        </p:txBody>
      </p:sp>
      <p:sp>
        <p:nvSpPr>
          <p:cNvPr id="30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5: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5: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cannot determine SWR from impedance valu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ntennas and Feedlines</a:t>
            </a:r>
          </a:p>
        </p:txBody>
      </p:sp>
      <p:sp>
        <p:nvSpPr>
          <p:cNvPr id="5" name="PlaceHolder 4"/>
          <p:cNvSpPr>
            <a:spLocks noGrp="1"/>
          </p:cNvSpPr>
          <p:nvPr>
            <p:ph type="sldNum" idx="2"/>
          </p:nvPr>
        </p:nvSpPr>
        <p:spPr/>
        <p:txBody>
          <a:bodyPr/>
          <a:p>
            <a:fld id="{E912B5B8-46DF-496E-9188-9C77D4B59C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9T00:56:43Z</dcterms:modified>
  <cp:revision>1</cp:revision>
  <dc:subject/>
  <dc:title>G9 -- ANTENNAS AND FEED-LINES [4 Exam Questions -- 4 Groups]</dc:title>
</cp:coreProperties>
</file>