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3209-2F55-4BA8-B2D3-4A66E7F8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 3 - GENERAL CLASS as released by the Question Pool Committee of the National Conference of Volunteer Examiner Coordinators December 1, 2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s contained within this pool must be used in all General class examinations beginning July 1, 2004, and is intended to be used up through June 30, 200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7668-51A6-44D3-9363-2F46F77B7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59DE-58C8-49F5-83F4-F0E9D14AE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80A15-EA2D-4A43-9837-7F12DF1EB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9168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336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09168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336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07E5-E204-4B89-9D66-21EEA7751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A0B87-9DFE-4F86-8508-52FD9A7D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D8D12-1036-4D06-B37E-56F7E43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364AF-4F8F-43A7-A988-C195FFD1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3116-A76F-4438-A810-58AD11C1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B6ACB-6B60-414A-81AE-9919740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3787E-E302-4475-A6A7-DE363DDB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7C7A2-7D02-4EEA-A23A-9498F2CA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68A4-C4D8-44CE-A857-F8B13FCCC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31405-D65F-4389-99AA-BD63995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0500A-A537-4A21-ABCE-D4C923FB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A4ECF-C7D0-48B7-833F-9D924913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86705-AAC0-4F2E-AB71-F42DB90F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9168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336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09168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336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224DE-2495-4391-9FFE-9861D373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4DB86-BF7C-483B-B932-99FDA3385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52D6-0D87-47A6-9EA2-422F9C133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8189-7663-4247-AF80-F36E1C85C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A1BA2-2B41-4ACB-B803-972C7A5DD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065B-4FFB-44AF-9889-EB208573A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5F9D-D9A8-4194-B1D6-8F44630D0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3BBA-E7D2-42C0-B5A3-3A40454DA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8672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-4539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2" marL="125892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3" marL="160164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4" marL="2743200" indent="-4618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5" marL="2743200" indent="-4618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6" marL="2743200" indent="-4618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41148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4EC-2D6F-4964-80CF-58CF3BAB3C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23D3-B76D-4839-A192-6159E9D22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 -- 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PRACTICAL CIRCUIT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[1 Exam Question – 1 Group]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252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7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 supplies and filters; single-sideband transmitters and recei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AD5D-8E52-40DD-ACF0-153DE0B706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5 What should be the impedance of a low-pass filter as compared to the impedance of the transmission line into which it is inserte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tantially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the s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tantially 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ce the transmission line impe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E601-51D9-46B3-BABB-9E8F45A034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5 What should be the impedance of a low-pass filter as compared to the impedance of the transmission line into which it is inserte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tantially hig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bout the sam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tantially l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ce the transmission line impe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F2DB-7D83-48BC-8EBD-3551FF3077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6 In a typical single-sideband phone transmitter, what circuit processes signals from the balanced modulator and sends signals to the mix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ier oscil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C662-EB9C-441D-8320-BEAA5C9C35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6 In a typical single-sideband phone transmitter, what circuit processes signals from the balanced modulator and sends signals to the mix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ier oscil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ilte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BF4D5-60B8-42FC-B106-12484CB4C7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7 In a single-sideband phone transmitter, what circuit processes signals from the carrier oscillator and the speech amplifier and sends signals to the filt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ced mod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88D1-E1F3-43C7-99F1-4E5F4BB718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7 In a single-sideband phone transmitter, what circuit processes signals from the carrier oscillator and the speech amplifier and sends signals to the filt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alanced modulato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75F9-84A8-443C-A403-F832E3D1BA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8 In a single-sideband phone superheterodyne receiver, what circuit processes signals from the RF amplifier and the local oscillator and sends signals to the IF filt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ced mod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B4BF7-6914-45F6-947B-DA26A15919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8 In a single-sideband phone superheterodyne receiver, what circuit processes signals from the RF amplifier and the local oscillator and sends signals to the IF filt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ced mod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Mixe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FB89-4B3F-4C7D-A510-DE9B38671E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9 In a single-sideband phone superheterodyne receiver, what circuit processes signals from the IF amplifier and the BFO and sends signals to the AF amplifi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oscil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fil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ced mod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AB329-16C2-4A90-A3BB-7AE5BEEC27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9 In a single-sideband phone superheterodyne receiver, what circuit processes signals from the IF amplifier and the BFO and sends signals to the AF amplifie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F oscil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fil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anced modul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etecto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B80DA-8DF4-4F2D-B8A8-5200AE8B7F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1 What safety feature does a power-supply bleeder resistor provid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does not affect voltage reg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discharges the filter capaci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removes shock hazards from the induction coi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eliminates ground-loop cur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3061-FBE7-4E31-886D-5A0ABF2EC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10 What type of power supply circuit is often used to provide overvoltage protection at its outpu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w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it brea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rrite transfor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ck-out transis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CA81-2D4E-4C84-B10E-162D0A01A6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10 What type of power supply circuit is often used to provide overvoltage protection at its outpu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rowba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rcuit brea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rrite transfor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ck-out transis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0DF8-A861-4C6A-94F1-6AD01EADC4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11 What type of capacitors should be used to filter the rectified DC output of a switching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acitors with low equivalent series res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dinary, large value electrolytic capaci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PO-type ceramic disc or silver mica capaci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acitors with high equivalent series induc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1541-7909-4263-885D-63B62185F2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11 What type of capacitors should be used to filter the rectified DC output of a switching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apacitors with low equivalent series resistanc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dinary, large value electrolytic capaci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PO-type ceramic disc or silver mica capaci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acitors with high equivalent series induc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CA9F-CB8E-4104-B3EC-E294B1E4D9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12 Which of the following is an advantage of a switched-mode power supply as compared to a linear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output voltages are possible with the switched-mode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wer circuit components are required for the switched-mode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latively high frequency power oscillator allows the use of small, lightweight and low-cost transformers in the switched-mode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54F0-04AE-4880-95B6-D46494FBBF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12 Which of the following is an advantage of a switched-mode power supply as compared to a linear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output voltages are possible with the switched-mode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wer circuit components are required for the switched-mode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relatively high frequency power oscillator allows the use of small, lightweight and low-cost transformers in the switched-mode suppl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se choices ar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B415-B1B9-443D-A18E-EFB17CCA3D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13 In a switched-mode power supply, what is the first step in converting the 120 volt AC input voltage to a 12 volt DC output volt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120 volt AC is first rectified and filt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120 volt AC is first converted to 12 volt AC with a transfor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120 volt AC is switched off when the waveform exceeds 12 volts, and is switched on again when the waveform drops below 12 vo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C clamp is used to limit the input signal to no more than 20 volts 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31F0-E769-4688-ADCB-600C3B7DA7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13 In a switched-mode power supply, what is the first step in converting the 120 volt AC input voltage to a 12 volt DC output volt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120 volt AC is first rectified and filtered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120 volt AC is first converted to 12 volt AC with a transfor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120 volt AC is switched off when the waveform exceeds 12 volts, and is switched on again when the waveform drops below 12 vo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AC clamp is used to limit the input signal to no more than 20 volts D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A39E-E3EE-4C50-8199-5C27DD631A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1 What safety feature does a power-supply bleeder resistor provid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does not affect voltage reg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It discharges the filter capacitor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removes shock hazards from the induction coi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eliminates ground-loop curr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E890-2DAF-4313-B00B-D56D7EF2A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2 What components are used in a power-supply filter network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formers and transis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rtz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acitors and indu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8A7B-8691-4563-A862-96A41E3521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2 What components are used in a power-supply filter network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formers and transis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rtz crys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apacitors and inductor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92DA-9F60-4B28-9FF7-FCB754CD6B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3 What should be the minimum peak-inverse-voltage rating of the rectifier in a full-wave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-quarter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uble the normal peak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 to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76D35-F4DB-4BC6-AE20-A5C435D04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3 What should be the minimum peak-inverse-voltage rating of the rectifier in a full-wave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-quarter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ouble the normal peak output voltage of the power suppl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 to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AB95-0E54-4F64-95BB-69978E7E3D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G7A04 What should be the minimum peak-inverse-voltage rating of the rectifier in a half-wave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-quarter to one-half the normal peak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 to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to two times the normal peak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804F-2612-485C-A6EF-C22CACA24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G7A04 What should be the minimum peak-inverse-voltage rating of the rectifier in a half-wave power suppl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-quarter to one-half the normal peak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f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al to the normal output voltage of the power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One to two times the normal peak output voltage of the power suppl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actic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4EE39-8168-45F7-8AA8-20242920A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 Lewis</cp:lastModifiedBy>
  <dcterms:modified xsi:type="dcterms:W3CDTF">2006-09-19T00:50:13Z</dcterms:modified>
  <cp:revision>1</cp:revision>
  <dc:subject/>
  <dc:title>G7 -- PRACTICAL CIRCUITS [1 Exam Question – 1 Group]</dc:title>
</cp:coreProperties>
</file>