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614A-4045-454D-BF82-135147DC6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y was formerly a large computer/data center with battery room and emergency generators in Sacramento, CA.  The company vacated the building, moved out the computer equipment but left the battery backup system behin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ntilation for the battery room appeared to be tied to a hydrogen monitoring system (which is pretty common).  The Hydrogen sensor was in alarm upon emergency responders arriving at the scene (post-explosion).  911 callers reporting the explosion also reported hearing an alarm for 3 days prior to the explosion.  This appears to have been a local alarm as it was not relayed to the Fire Department.  Given how slowly batteries generate hydrogen gas, it appears the batteries were charging for a long period of time with no ventilation - the detector was alarming and hydrogen gas continued to build up until it found an ignition source.  The best guess is the ignition occurred at or near a grounding strap on the battery racks but in a room full of batteries and electrical equipment, ignition sources are plentiful...especially when considering the sensitivity of hydrog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 to pass on is that ventilation is CRITICAL with lead acid batteries.  Great care should be taken to insure ventilation is adequate or even better that the batteries can NOT be charged without the ventilation system properly wor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53B06F-EE7C-462C-954A-C1D1F8432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800EBB-453A-4515-9BCD-1C7692663D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256D3E-6722-4C94-A020-5A608D653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497CD0-2632-47E6-96B5-A1E6C41A5E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A18B1B-83B1-4599-AFE7-05C62CB44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3"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91D13-FB09-499B-8D5F-C188C96DF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E17D36-C05F-4308-8BF6-652240D2C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8"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5B36E6-DB6C-43A6-9E36-3D7D6BBF8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86935-FC69-4514-A431-3BCD7DB66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7C748-3CEE-40F1-8381-6C748F32E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3"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83D20-2580-41E0-B8AB-774972AA9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CF643D-BAFC-4AC4-8A85-0C70E53DB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6"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7"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233801-5F79-43A5-93A5-BF60CE1C78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0"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1"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42BA21-6102-4882-9A17-AB6401FAF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4"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5"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27B70-29A8-4CAF-A57E-0892CE3EA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7"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607014-C4E7-4B75-83F7-39B7874FCF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2"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3"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F276EC-0F3B-473E-B1DB-2550AEAFDA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5D948-2D72-4A0C-B353-51DF4A7DC0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1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78D96-A635-45FF-98B2-B5F822A61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8A744-2605-4E11-B282-DFBCB59E5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A9A3B-3D2B-4CFC-AABB-E7255928C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54D87-7FF8-4828-84B2-69008300B5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929A0-914F-49B9-8FB3-4719821889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20EBE1-6675-4F25-BA73-DE9C596D6D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5A80-8185-408D-A18F-9259D52F72B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 name=""/>
          <p:cNvGrpSpPr/>
          <p:nvPr/>
        </p:nvGrpSpPr>
        <p:grpSpPr>
          <a:xfrm>
            <a:off x="0" y="0"/>
            <a:ext cx="9140760" cy="6850080"/>
            <a:chOff x="0" y="0"/>
            <a:chExt cx="9140760" cy="6850080"/>
          </a:xfrm>
        </p:grpSpPr>
        <p:grpSp>
          <p:nvGrpSpPr>
            <p:cNvPr id="50" name=""/>
            <p:cNvGrpSpPr/>
            <p:nvPr/>
          </p:nvGrpSpPr>
          <p:grpSpPr>
            <a:xfrm>
              <a:off x="2743200" y="3540240"/>
              <a:ext cx="6392880" cy="3309840"/>
              <a:chOff x="2743200" y="3540240"/>
              <a:chExt cx="6392880" cy="3309840"/>
            </a:xfrm>
          </p:grpSpPr>
          <p:sp>
            <p:nvSpPr>
              <p:cNvPr id="5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59"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0"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1"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33CB-6978-491E-BD1E-D638D32797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  –  Electrical and RF Safety</a:t>
            </a:r>
            <a:br>
              <a:rPr sz="3000"/>
            </a:br>
            <a:r>
              <a:rPr b="1" lang="en-US" sz="3000" spc="-1" strike="noStrike">
                <a:solidFill>
                  <a:srgbClr val="ffff00"/>
                </a:solidFill>
                <a:latin typeface="Tahoma"/>
              </a:rPr>
              <a:t>3 exam questions – 3 groups</a:t>
            </a:r>
            <a:endParaRPr b="1" lang="en-US" sz="3000" spc="-1" strike="noStrike">
              <a:solidFill>
                <a:srgbClr val="ffff00"/>
              </a:solidFill>
              <a:latin typeface="Tahoma"/>
            </a:endParaRPr>
          </a:p>
        </p:txBody>
      </p:sp>
      <p:sp>
        <p:nvSpPr>
          <p:cNvPr id="1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0A</a:t>
            </a:r>
            <a:r>
              <a:rPr b="0" lang="en-US" sz="2400" spc="-1" strike="noStrike">
                <a:solidFill>
                  <a:srgbClr val="ffffff"/>
                </a:solidFill>
                <a:latin typeface="Tahoma"/>
              </a:rPr>
              <a:t>	</a:t>
            </a:r>
            <a:r>
              <a:rPr b="0" lang="en-US" sz="2400" spc="-1" strike="noStrike">
                <a:solidFill>
                  <a:srgbClr val="ffffff"/>
                </a:solidFill>
                <a:latin typeface="Tahoma"/>
              </a:rPr>
              <a:t>AC power circuits, hazardous voltages, fuses and  circuit breakers, grounding, lightning protection, battery safety, electrical code compli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0B</a:t>
            </a:r>
            <a:r>
              <a:rPr b="0" lang="en-US" sz="2400" spc="-1" strike="noStrike">
                <a:solidFill>
                  <a:srgbClr val="ffffff"/>
                </a:solidFill>
                <a:latin typeface="Tahoma"/>
              </a:rPr>
              <a:t>	</a:t>
            </a:r>
            <a:r>
              <a:rPr b="0" lang="en-US" sz="2400" spc="-1" strike="noStrike">
                <a:solidFill>
                  <a:srgbClr val="ffffff"/>
                </a:solidFill>
                <a:latin typeface="Tahoma"/>
              </a:rPr>
              <a:t>Antenna installation, tower safety, overhead power 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0C</a:t>
            </a:r>
            <a:r>
              <a:rPr b="0" lang="en-US" sz="2400" spc="-1" strike="noStrike">
                <a:solidFill>
                  <a:srgbClr val="ffffff"/>
                </a:solidFill>
                <a:latin typeface="Tahoma"/>
              </a:rPr>
              <a:t>	</a:t>
            </a:r>
            <a:r>
              <a:rPr b="0" lang="en-US" sz="2400" spc="-1" strike="noStrike">
                <a:solidFill>
                  <a:srgbClr val="ffffff"/>
                </a:solidFill>
                <a:latin typeface="Tahoma"/>
              </a:rPr>
              <a:t>RF hazards, radiation exposure, RF heating hazards, proximity to antennas,  recognized safe power levels,  hand held safety,  exposure to oth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813DFF34-46ED-49DF-AADE-014AF2D4EA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5 What might happen if you install a 20-ampere fuse in your transceiver in the place of a 5-ampere fuse?</a:t>
            </a:r>
            <a:endParaRPr b="1" lang="en-US" sz="3000" spc="-1" strike="noStrike">
              <a:solidFill>
                <a:srgbClr val="ffff00"/>
              </a:solidFill>
              <a:latin typeface="Tahoma"/>
            </a:endParaRPr>
          </a:p>
        </p:txBody>
      </p:sp>
      <p:sp>
        <p:nvSpPr>
          <p:cNvPr id="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arger fuse would better protect your transceiver from using too much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ceiver will run cool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cessive current could cause a f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ransceiver would not be able to produce as much RF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6EDC26BB-A987-4F62-A14E-0A5606662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5 What might happen if you install a 20-ampere fuse in your transceiver in the place of a 5-ampere fuse?</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arger fuse would better protect your transceiver from using too much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ceiver will run cool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Excessive current could cause a fir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transceiver would not be able to produce as much RF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4489427-7977-4902-A4F9-D73D068334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6 What is a good way to guard against electrical shock at your station?</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3-wire cords and plugs for all AC powered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nect all AC powered station equipment to a commo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 ground-fault interrupter at each electrical outl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6500C585-468B-4F67-A376-78EA57299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6 What is a good way to guard against electrical shock at your station?</a:t>
            </a:r>
            <a:endParaRPr b="1" lang="en-US" sz="3000" spc="-1" strike="noStrike">
              <a:solidFill>
                <a:srgbClr val="ffff00"/>
              </a:solidFill>
              <a:latin typeface="Tahoma"/>
            </a:endParaRPr>
          </a:p>
        </p:txBody>
      </p:sp>
      <p:sp>
        <p:nvSpPr>
          <p:cNvPr id="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3-wire cords and plugs for all AC powered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nect all AC powered station equipment to a common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 ground-fault interrupter at each electrical outle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361492C-9AEB-4DD6-A28D-A1B7F313C9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7 What is the most important thing to consider when installing an emergency disconnect switch at your station?</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must always be as near to the operator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must always be as far away from the operator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veryone should know where it is and how to use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should be installed in a metal box to prevent tamper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E4998E82-2A5B-4BCA-ABED-1AC263B97F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7 What is the most important thing to consider when installing an emergency disconnect switch at your station?</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must always be as near to the operator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must always be as far away from the operator as possi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Everyone should know where it is and how to use i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should be installed in a metal box to prevent tamper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FF9C96D-0339-45C0-B713-433D0011EE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8 What precautions should be taken when a lightning storm is expected?</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onnect the antenna cables from your station and move them away from your radio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plug all power cords from AC outle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op using your radio equipment and move to another room until the storm pas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F3AD615-1A7C-4302-A4E7-2FA75232DF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8 What precautions should be taken when a lightning storm is expected?</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onnect the antenna cables from your station and move them away from your radio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plug all power cords from AC outle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op using your radio equipment and move to another room until the storm pas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50D63436-C656-476C-98DA-0A030EE8C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9 What is one way to recharge a 12-volt battery if the commercial power is out?</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cannot recharge a battery unless the power is back 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d water to the batte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nnect the battery to a car's battery and run the eng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ake your battery to the utility company for a rechar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E686776B-9F51-4CD3-AC5F-B98FB429F2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9 What is one way to recharge a 12-volt battery if the commercial power is out?</a:t>
            </a:r>
            <a:endParaRPr b="1" lang="en-US" sz="3000" spc="-1" strike="noStrike">
              <a:solidFill>
                <a:srgbClr val="ffff00"/>
              </a:solidFill>
              <a:latin typeface="Tahoma"/>
            </a:endParaRPr>
          </a:p>
        </p:txBody>
      </p:sp>
      <p:sp>
        <p:nvSpPr>
          <p:cNvPr id="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cannot recharge a battery unless the power is back 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d water to the batte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onnect the battery to a car's battery and run the engi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ake your battery to the utility company for a rechar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CE4F01F-EEAA-4205-ABDA-6EE066A9B8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1 What is a commonly accepted value for the lowest voltage that can cause a dangerous electric shock?</a:t>
            </a:r>
            <a:endParaRPr b="1" lang="en-US" sz="3000" spc="-1" strike="noStrike">
              <a:solidFill>
                <a:srgbClr val="ffff00"/>
              </a:solidFill>
              <a:latin typeface="Tahoma"/>
            </a:endParaRPr>
          </a:p>
        </p:txBody>
      </p:sp>
      <p:sp>
        <p:nvSpPr>
          <p:cNvPr id="1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F865F27-96BE-45E0-9456-4FC8895B49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10 What kind of hazard is presented by a conventional 12-volt storage battery?</a:t>
            </a:r>
            <a:endParaRPr b="1" lang="en-US" sz="3000" spc="-1" strike="noStrike">
              <a:solidFill>
                <a:srgbClr val="ffff00"/>
              </a:solidFill>
              <a:latin typeface="Tahoma"/>
            </a:endParaRPr>
          </a:p>
        </p:txBody>
      </p:sp>
      <p:sp>
        <p:nvSpPr>
          <p:cNvPr id="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contains dangerous acid that can spill and cause inju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hort circuits can damage wiring and possibly cause a f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plosive gas can collect if not properly ven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4EB5B368-85DE-4156-839E-5C2EC5DA32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0"/>
            <a:ext cx="883944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attery Explosion</a:t>
            </a:r>
            <a:endParaRPr b="1" lang="en-US" sz="3000" spc="-1" strike="noStrike">
              <a:solidFill>
                <a:srgbClr val="ffff00"/>
              </a:solidFill>
              <a:latin typeface="Tahoma"/>
            </a:endParaRPr>
          </a:p>
        </p:txBody>
      </p:sp>
      <p:pic>
        <p:nvPicPr>
          <p:cNvPr id="147" name="" descr=""/>
          <p:cNvPicPr/>
          <p:nvPr/>
        </p:nvPicPr>
        <p:blipFill>
          <a:blip r:embed="rId1"/>
          <a:stretch/>
        </p:blipFill>
        <p:spPr>
          <a:xfrm>
            <a:off x="914400" y="1079640"/>
            <a:ext cx="7315200" cy="5473440"/>
          </a:xfrm>
          <a:prstGeom prst="rect">
            <a:avLst/>
          </a:prstGeom>
          <a:ln w="0">
            <a:noFill/>
          </a:ln>
        </p:spPr>
      </p:pic>
      <p:sp>
        <p:nvSpPr>
          <p:cNvPr id="3" name="PlaceHolder 2"/>
          <p:cNvSpPr>
            <a:spLocks noGrp="1"/>
          </p:cNvSpPr>
          <p:nvPr>
            <p:ph type="ftr" idx="1"/>
          </p:nvPr>
        </p:nvSpPr>
        <p:spPr/>
        <p:txBody>
          <a:bodyPr/>
          <a:p>
            <a:r>
              <a:t>Electrical and RF Safety</a:t>
            </a:r>
          </a:p>
        </p:txBody>
      </p:sp>
      <p:sp>
        <p:nvSpPr>
          <p:cNvPr id="4" name="PlaceHolder 3"/>
          <p:cNvSpPr>
            <a:spLocks noGrp="1"/>
          </p:cNvSpPr>
          <p:nvPr>
            <p:ph type="sldNum" idx="2"/>
          </p:nvPr>
        </p:nvSpPr>
        <p:spPr/>
        <p:txBody>
          <a:bodyPr/>
          <a:p>
            <a:fld id="{038C6B60-BC7E-4373-BDFD-7CB253D9C8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10 What kind of hazard is presented by a conventional 12-volt storage battery?</a:t>
            </a:r>
            <a:endParaRPr b="1" lang="en-US" sz="3000" spc="-1" strike="noStrike">
              <a:solidFill>
                <a:srgbClr val="ffff00"/>
              </a:solidFill>
              <a:latin typeface="Tahoma"/>
            </a:endParaRPr>
          </a:p>
        </p:txBody>
      </p:sp>
      <p:sp>
        <p:nvSpPr>
          <p:cNvPr id="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contains dangerous acid that can spill and cause inju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hort circuits can damage wiring and possibly cause a fi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xplosive gas can collect if not properly ven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2AE2EC74-FB90-499D-B5AF-9775B9134D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11 What can happen if a storage battery is charged or discharged too quickly?</a:t>
            </a:r>
            <a:endParaRPr b="1" lang="en-US" sz="3000" spc="-1" strike="noStrike">
              <a:solidFill>
                <a:srgbClr val="ffff00"/>
              </a:solidFill>
              <a:latin typeface="Tahoma"/>
            </a:endParaRPr>
          </a:p>
        </p:txBody>
      </p:sp>
      <p:sp>
        <p:nvSpPr>
          <p:cNvPr id="1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battery could overheat and give off dangerous gas or expl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erminal voltage will oscillate rapid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warranty will be voi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voltage will be rever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5DA591FB-C5D7-4C2A-A4B3-CA24C65A6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11 What can happen if a storage battery is charged or discharged too quickly?</a:t>
            </a:r>
            <a:endParaRPr b="1" lang="en-US" sz="3000" spc="-1" strike="noStrike">
              <a:solidFill>
                <a:srgbClr val="ffff00"/>
              </a:solidFill>
              <a:latin typeface="Tahoma"/>
            </a:endParaRPr>
          </a:p>
        </p:txBody>
      </p:sp>
      <p:sp>
        <p:nvSpPr>
          <p:cNvPr id="1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battery could overheat and give off dangerous gas or explod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erminal voltage will oscillate rapid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warranty will be voi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voltage will be rever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D13FD74E-2F08-46E4-B365-DB259BA38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12 What is the most important reason to have a lightning protection system for your amateur radio station?</a:t>
            </a:r>
            <a:endParaRPr b="1" lang="en-US" sz="3000" spc="-1" strike="noStrike">
              <a:solidFill>
                <a:srgbClr val="ffff00"/>
              </a:solidFill>
              <a:latin typeface="Tahoma"/>
            </a:endParaRPr>
          </a:p>
        </p:txBody>
      </p:sp>
      <p:sp>
        <p:nvSpPr>
          <p:cNvPr id="1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er insurance r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mproved recep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ire preven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ise redu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A4D9D2F8-9B6A-4416-989B-1CB21034CB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12 What is the most important reason to have a lightning protection system for your amateur radio station?</a:t>
            </a:r>
            <a:endParaRPr b="1" lang="en-US" sz="3000" spc="-1" strike="noStrike">
              <a:solidFill>
                <a:srgbClr val="ffff00"/>
              </a:solidFill>
              <a:latin typeface="Tahoma"/>
            </a:endParaRPr>
          </a:p>
        </p:txBody>
      </p:sp>
      <p:sp>
        <p:nvSpPr>
          <p:cNvPr id="1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er insurance r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mproved recep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Fire preven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ise redu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4071EB42-1340-42EF-80E1-2D2C6251A7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13 What kind of hazard might exist in a power supply when it is turned off and disconnected?</a:t>
            </a:r>
            <a:endParaRPr b="1" lang="en-US" sz="3000" spc="-1" strike="noStrike">
              <a:solidFill>
                <a:srgbClr val="ffff00"/>
              </a:solidFill>
              <a:latin typeface="Tahoma"/>
            </a:endParaRPr>
          </a:p>
        </p:txBody>
      </p:sp>
      <p:sp>
        <p:nvSpPr>
          <p:cNvPr id="1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tic electricity could damage the grounding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irculating currents inside the transformer might cause dam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use might blow if you remove the co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ight receive an electric shock from stored charge in large capacito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D01D4D7A-069A-4D74-A339-C681AE83FB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13 What kind of hazard might exist in a power supply when it is turned off and disconnected?</a:t>
            </a:r>
            <a:endParaRPr b="1" lang="en-US" sz="3000" spc="-1" strike="noStrike">
              <a:solidFill>
                <a:srgbClr val="ffff00"/>
              </a:solidFill>
              <a:latin typeface="Tahoma"/>
            </a:endParaRPr>
          </a:p>
        </p:txBody>
      </p:sp>
      <p:sp>
        <p:nvSpPr>
          <p:cNvPr id="1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tic electricity could damage the grounding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irculating currents inside the transformer might cause dam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use might blow if you remove the cov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You might receive an electric shock from stored charge in large capacitor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1C333172-B805-4E73-BBCD-93189376F4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1 Why should you wear a hard hat and safety glasses if you are on the ground helping someone work on an antenna tower?</a:t>
            </a:r>
            <a:endParaRPr b="1" lang="en-US" sz="3000" spc="-1" strike="noStrike">
              <a:solidFill>
                <a:srgbClr val="ffff00"/>
              </a:solidFill>
              <a:latin typeface="Tahoma"/>
            </a:endParaRPr>
          </a:p>
        </p:txBody>
      </p:sp>
      <p:sp>
        <p:nvSpPr>
          <p:cNvPr id="1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required by FCC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keep RF energy away from your head during antenna tes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otect your head and eyes in case something accidentally falls from the t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required by the electrical cod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8A606B91-F35A-49DA-B28C-5FCFCEFB1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1 What is a commonly accepted value for the lowest voltage that can cause a dangerous electric shock?</a:t>
            </a:r>
            <a:endParaRPr b="1" lang="en-US" sz="3000" spc="-1" strike="noStrike">
              <a:solidFill>
                <a:srgbClr val="ffff00"/>
              </a:solidFill>
              <a:latin typeface="Tahoma"/>
            </a:endParaRPr>
          </a:p>
        </p:txBody>
      </p:sp>
      <p:sp>
        <p:nvSpPr>
          <p:cNvPr id="1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30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0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7CD7A30-8CBC-4FEC-90D0-361E281A73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1 Why should you wear a hard hat and safety glasses if you are on the ground helping someone work on an antenna tower?</a:t>
            </a:r>
            <a:endParaRPr b="1" lang="en-US" sz="3000" spc="-1" strike="noStrike">
              <a:solidFill>
                <a:srgbClr val="ffff00"/>
              </a:solidFill>
              <a:latin typeface="Tahoma"/>
            </a:endParaRPr>
          </a:p>
        </p:txBody>
      </p:sp>
      <p:sp>
        <p:nvSpPr>
          <p:cNvPr id="1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required by FCC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keep RF energy away from your head during antenna test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o protect your head and eyes in case something accidentally falls from the tow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required by the electrical cod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A8C83668-5C55-4B4D-B9CA-D0349DC998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2 What is a good precaution to observe before climbing an antenna tower?</a:t>
            </a:r>
            <a:endParaRPr b="1" lang="en-US" sz="3000" spc="-1" strike="noStrike">
              <a:solidFill>
                <a:srgbClr val="ffff00"/>
              </a:solidFill>
              <a:latin typeface="Tahoma"/>
            </a:endParaRPr>
          </a:p>
        </p:txBody>
      </p:sp>
      <p:sp>
        <p:nvSpPr>
          <p:cNvPr id="1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urn on all radio transmit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move all tower grounding connec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ut on your safety belt and safety glas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form the FAA and the FCC that you are working on a t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D466A6F0-163A-42C5-87AB-671634D67F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2 What is a good precaution to observe before climbing an antenna tower?</a:t>
            </a:r>
            <a:endParaRPr b="1" lang="en-US" sz="3000" spc="-1" strike="noStrike">
              <a:solidFill>
                <a:srgbClr val="ffff00"/>
              </a:solidFill>
              <a:latin typeface="Tahoma"/>
            </a:endParaRPr>
          </a:p>
        </p:txBody>
      </p:sp>
      <p:sp>
        <p:nvSpPr>
          <p:cNvPr id="1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urn on all radio transmit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move all tower grounding connec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Put on your safety belt and safety glas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form the FAA and the FCC that you are working on a t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7BAE021-59E8-414E-9124-6EB6E88235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3 What should you do before you climb a tower?</a:t>
            </a:r>
            <a:endParaRPr b="1" lang="en-US" sz="3000" spc="-1" strike="noStrike">
              <a:solidFill>
                <a:srgbClr val="ffff00"/>
              </a:solidFill>
              <a:latin typeface="Tahoma"/>
            </a:endParaRPr>
          </a:p>
        </p:txBody>
      </p:sp>
      <p:sp>
        <p:nvSpPr>
          <p:cNvPr id="1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rrange for a helper or obser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pect the tower for damage or loose hardwa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ere are no electrical storms nearb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C607FC1-EA05-427E-91FA-47704C3DFC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3 What should you do before you climb a tower?</a:t>
            </a:r>
            <a:endParaRPr b="1" lang="en-US" sz="3000" spc="-1" strike="noStrike">
              <a:solidFill>
                <a:srgbClr val="ffff00"/>
              </a:solidFill>
              <a:latin typeface="Tahoma"/>
            </a:endParaRPr>
          </a:p>
        </p:txBody>
      </p:sp>
      <p:sp>
        <p:nvSpPr>
          <p:cNvPr id="1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rrange for a helper or obser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pect the tower for damage or loose hardwa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there are no electrical storms nearb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48A2DDEF-AF1E-459A-839D-5F719CFBD5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4 What is an important consideration when putting up an antenna?</a:t>
            </a:r>
            <a:endParaRPr b="1" lang="en-US" sz="3000" spc="-1" strike="noStrike">
              <a:solidFill>
                <a:srgbClr val="ffff00"/>
              </a:solidFill>
              <a:latin typeface="Tahoma"/>
            </a:endParaRPr>
          </a:p>
        </p:txBody>
      </p:sp>
      <p:sp>
        <p:nvSpPr>
          <p:cNvPr id="1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refully tune it for a low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ke sure people cannot accidentally come into contact with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you discard all packing material in a safe pl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ke sure birds can see it so they don’t fly into 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214D2781-340D-41EC-B732-90577526E4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4 What is an important consideration when putting up an antenna?</a:t>
            </a:r>
            <a:endParaRPr b="1" lang="en-US" sz="3000" spc="-1" strike="noStrike">
              <a:solidFill>
                <a:srgbClr val="ffff00"/>
              </a:solidFill>
              <a:latin typeface="Tahoma"/>
            </a:endParaRPr>
          </a:p>
        </p:txBody>
      </p:sp>
      <p:sp>
        <p:nvSpPr>
          <p:cNvPr id="1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refully tune it for a low SW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Make sure people cannot accidentally come into contact with i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ake sure you discard all packing material in a safe pl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ke sure birds can see it so they don’t fly into 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49315D74-4791-4526-AF83-AF33E55529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5 What must be considered when erecting an antenna near an airport?</a:t>
            </a:r>
            <a:endParaRPr b="1" lang="en-US" sz="3000" spc="-1" strike="noStrike">
              <a:solidFill>
                <a:srgbClr val="ffff00"/>
              </a:solidFill>
              <a:latin typeface="Tahoma"/>
            </a:endParaRPr>
          </a:p>
        </p:txBody>
      </p:sp>
      <p:sp>
        <p:nvSpPr>
          <p:cNvPr id="1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aximum allowed height with regard to nearby airpor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ssibility of interference to aircraft radio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adiation angle of the signals it produ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larization of signal to be radi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580E667D-9626-4109-BC5F-76E570BCEE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5 What must be considered when erecting an antenna near an airport?</a:t>
            </a:r>
            <a:endParaRPr b="1" lang="en-US" sz="3000" spc="-1" strike="noStrike">
              <a:solidFill>
                <a:srgbClr val="ffff00"/>
              </a:solidFill>
              <a:latin typeface="Tahoma"/>
            </a:endParaRPr>
          </a:p>
        </p:txBody>
      </p:sp>
      <p:sp>
        <p:nvSpPr>
          <p:cNvPr id="1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maximum allowed height with regard to nearby airpor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possibility of interference to aircraft radio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adiation angle of the signals it produ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larization of signal to be radiat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1C56B3F7-CFF3-4D0F-B781-F1AE3ED3E0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6 What is the most important safety precaution to observe when putting up an antenna tower?</a:t>
            </a:r>
            <a:endParaRPr b="1" lang="en-US" sz="3000" spc="-1" strike="noStrike">
              <a:solidFill>
                <a:srgbClr val="ffff00"/>
              </a:solidFill>
              <a:latin typeface="Tahoma"/>
            </a:endParaRPr>
          </a:p>
        </p:txBody>
      </p:sp>
      <p:sp>
        <p:nvSpPr>
          <p:cNvPr id="1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steps on the tower for safe climb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ulate the base of the tower to avoid lightning strik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round the base of the tower to prevent lightning strik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ok for and stay clear of any overhead electrical wi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65E69C21-3CC2-440C-96BC-1CEC72B136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2 What is the lowest amount of electrical current flowing through the human body that is likely to cause death?</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micro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0 milli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15032837-7840-4A48-9ADE-8C0318157E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6 What is the most important safety precaution to observe when putting up an antenna tower?</a:t>
            </a:r>
            <a:endParaRPr b="1" lang="en-US" sz="3000" spc="-1" strike="noStrike">
              <a:solidFill>
                <a:srgbClr val="ffff00"/>
              </a:solidFill>
              <a:latin typeface="Tahoma"/>
            </a:endParaRPr>
          </a:p>
        </p:txBody>
      </p:sp>
      <p:sp>
        <p:nvSpPr>
          <p:cNvPr id="1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steps on the tower for safe climb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ulate the base of the tower to avoid lightning strik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round the base of the tower to prevent lightning strik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Look for and stay clear of any overhead electrical wi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D8D6481-C283-4D64-A3B4-9700B1F7B5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7 How should the guy wires for an antenna tower be installed?</a:t>
            </a:r>
            <a:endParaRPr b="1" lang="en-US" sz="3000" spc="-1" strike="noStrike">
              <a:solidFill>
                <a:srgbClr val="ffff00"/>
              </a:solidFill>
              <a:latin typeface="Tahoma"/>
            </a:endParaRPr>
          </a:p>
        </p:txBody>
      </p:sp>
      <p:sp>
        <p:nvSpPr>
          <p:cNvPr id="1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o each guy wire anchor point has an even number of w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at no guy wire is more than 25 feet lo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ach guy wire must be pulled as tight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 accordance with the tower manufacturer's instruc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D869CC5D-59AB-49F8-A1EF-2C4B020A86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7 How should the guy wires for an antenna tower be installed?</a:t>
            </a:r>
            <a:endParaRPr b="1" lang="en-US" sz="3000" spc="-1" strike="noStrike">
              <a:solidFill>
                <a:srgbClr val="ffff00"/>
              </a:solidFill>
              <a:latin typeface="Tahoma"/>
            </a:endParaRPr>
          </a:p>
        </p:txBody>
      </p:sp>
      <p:sp>
        <p:nvSpPr>
          <p:cNvPr id="1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o each guy wire anchor point has an even number of w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at no guy wire is more than 25 feet lo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ach guy wire must be pulled as tight as possi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n accordance with the tower manufacturer's instruct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D1D55F62-454F-4A1F-9A67-64F01DE1E3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8 What is a safe distance from a power line to allow when installing an antenna?</a:t>
            </a:r>
            <a:endParaRPr b="1" lang="en-US" sz="3000" spc="-1" strike="noStrike">
              <a:solidFill>
                <a:srgbClr val="ffff00"/>
              </a:solidFill>
              <a:latin typeface="Tahoma"/>
            </a:endParaRPr>
          </a:p>
        </p:txBody>
      </p:sp>
      <p:sp>
        <p:nvSpPr>
          <p:cNvPr id="1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alf the width of your property unless the wires are at least  23 feet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5 feet in most metropolitan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6 meters plus 1/2 wavelength at the operating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o that if the antenna falls unexpectedly, no part of it can come closer than 10 feet to the power wi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0883C7B-B74A-4731-8467-041DEE62AE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8 What is a safe distance from a power line to allow when installing an antenna?</a:t>
            </a:r>
            <a:endParaRPr b="1" lang="en-US" sz="3000" spc="-1" strike="noStrike">
              <a:solidFill>
                <a:srgbClr val="ffff00"/>
              </a:solidFill>
              <a:latin typeface="Tahoma"/>
            </a:endParaRPr>
          </a:p>
        </p:txBody>
      </p:sp>
      <p:sp>
        <p:nvSpPr>
          <p:cNvPr id="1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alf the width of your property unless the wires are at least  23 feet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5 feet in most metropolitan are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6 meters plus 1/2 wavelength at the operating frequ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So that if the antenna falls unexpectedly, no part of it can come closer than 10 feet to the power wi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A378F89C-2C33-4B7F-84A0-54F39A42E9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09 What is the most important safety rule to remember when using a crank-up tower?</a:t>
            </a:r>
            <a:endParaRPr b="1" lang="en-US" sz="3000" spc="-1" strike="noStrike">
              <a:solidFill>
                <a:srgbClr val="ffff00"/>
              </a:solidFill>
              <a:latin typeface="Tahoma"/>
            </a:endParaRPr>
          </a:p>
        </p:txBody>
      </p:sp>
      <p:sp>
        <p:nvSpPr>
          <p:cNvPr id="1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is type of tower must never be pain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rank up towers must be raised and lowered frequently to keep them properly lubric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inch cables must be specially rated for use on this type of t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rank-up tower should never be climbed unless it is in the fully lowered posi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E09FC655-25E1-4D2D-9FD7-1302A2637D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09 What is the most important safety rule to remember when using a crank-up tower?</a:t>
            </a:r>
            <a:endParaRPr b="1" lang="en-US" sz="3000" spc="-1" strike="noStrike">
              <a:solidFill>
                <a:srgbClr val="ffff00"/>
              </a:solidFill>
              <a:latin typeface="Tahoma"/>
            </a:endParaRPr>
          </a:p>
        </p:txBody>
      </p:sp>
      <p:sp>
        <p:nvSpPr>
          <p:cNvPr id="1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is type of tower must never be pain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rank up towers must be raised and lowered frequently to keep them properly lubric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inch cables must be specially rated for use on this type of t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crank-up tower should never be climbed unless it is in the fully lowered posi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AA1AE17-32A3-4869-8889-E837F02261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10 Why is stainless steel hardware used on many antennas instead of other metals?</a:t>
            </a:r>
            <a:endParaRPr b="1" lang="en-US" sz="3000" spc="-1" strike="noStrike">
              <a:solidFill>
                <a:srgbClr val="ffff00"/>
              </a:solidFill>
              <a:latin typeface="Tahoma"/>
            </a:endParaRPr>
          </a:p>
        </p:txBody>
      </p:sp>
      <p:sp>
        <p:nvSpPr>
          <p:cNvPr id="1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inless steel is a better electrical conduc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inless steel weighs less than other met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ainless steel parts are much less likely to corr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inless steel costs less than other met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3559B96-4ECC-4DDA-9270-C3CE50235A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10 Why is stainless steel hardware used on many antennas instead of other metals?</a:t>
            </a:r>
            <a:endParaRPr b="1" lang="en-US" sz="3000" spc="-1" strike="noStrike">
              <a:solidFill>
                <a:srgbClr val="ffff00"/>
              </a:solidFill>
              <a:latin typeface="Tahoma"/>
            </a:endParaRPr>
          </a:p>
        </p:txBody>
      </p:sp>
      <p:sp>
        <p:nvSpPr>
          <p:cNvPr id="2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inless steel is a better electrical conduc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inless steel weighs less than other meta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tainless steel parts are much less likely to corrod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inless steel costs less than other met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871CC24B-D465-4511-97D4-DCA657D3E8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B11 What is considered to be an adequate ground for a tower?</a:t>
            </a:r>
            <a:endParaRPr b="1" lang="en-US" sz="3000" spc="-1" strike="noStrike">
              <a:solidFill>
                <a:srgbClr val="ffff00"/>
              </a:solidFill>
              <a:latin typeface="Tahoma"/>
            </a:endParaRPr>
          </a:p>
        </p:txBody>
      </p:sp>
      <p:sp>
        <p:nvSpPr>
          <p:cNvPr id="2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ingle 4 foot ground rod, driven into the earth no more than 12 inches from the b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creen of 120 radial w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parate 8 foot long ground rods for each tower leg, bonded to the tower and each o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onnection between the tower base and a cold water pip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502161A-A3D3-4A0F-9A42-42D0215BC7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2 What is the lowest amount of electrical current flowing through the human body that is likely to cause death?</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micro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0 milliampe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6BCDAA18-43D1-4F1F-89CF-CD403E55C4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B11 What is considered to be an adequate ground for a tower?</a:t>
            </a:r>
            <a:endParaRPr b="1" lang="en-US" sz="3000" spc="-1" strike="noStrike">
              <a:solidFill>
                <a:srgbClr val="ffff00"/>
              </a:solidFill>
              <a:latin typeface="Tahoma"/>
            </a:endParaRPr>
          </a:p>
        </p:txBody>
      </p:sp>
      <p:sp>
        <p:nvSpPr>
          <p:cNvPr id="2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ingle 4 foot ground rod, driven into the earth no more than 12 inches from the b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creen of 120 radial wi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eparate 8 foot long ground rods for each tower leg, bonded to the tower and each oth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onnection between the tower base and a cold water pip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571C88BF-3BA2-423C-A0D5-2DDDA63311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1 What type of radiation are VHF and UHF radio signals?</a:t>
            </a:r>
            <a:endParaRPr b="1" lang="en-US" sz="3000" spc="-1" strike="noStrike">
              <a:solidFill>
                <a:srgbClr val="ffff00"/>
              </a:solidFill>
              <a:latin typeface="Tahoma"/>
            </a:endParaRPr>
          </a:p>
        </p:txBody>
      </p:sp>
      <p:sp>
        <p:nvSpPr>
          <p:cNvPr id="2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amma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onizing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pha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ionizing radi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B39DA32-AF27-4A3C-9D54-4161F44063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1 What type of radiation are VHF and UHF radio signals?</a:t>
            </a:r>
            <a:endParaRPr b="1" lang="en-US" sz="3000" spc="-1" strike="noStrike">
              <a:solidFill>
                <a:srgbClr val="ffff00"/>
              </a:solidFill>
              <a:latin typeface="Tahoma"/>
            </a:endParaRPr>
          </a:p>
        </p:txBody>
      </p:sp>
      <p:sp>
        <p:nvSpPr>
          <p:cNvPr id="2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amma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onizing radi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pha radi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Non-ionizing radi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15492479-AA17-4B5C-A4E0-FD0AB49302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2 When can radio waves cause injury to the human body?</a:t>
            </a:r>
            <a:endParaRPr b="1" lang="en-US" sz="3000" spc="-1" strike="noStrike">
              <a:solidFill>
                <a:srgbClr val="ffff00"/>
              </a:solidFill>
              <a:latin typeface="Tahoma"/>
            </a:endParaRPr>
          </a:p>
        </p:txBody>
      </p:sp>
      <p:sp>
        <p:nvSpPr>
          <p:cNvPr id="2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the frequency is below 3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if the combination of signal strength and frequency cause excessive power to be absorb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the frequency is greater than 3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ransmitter power exceeds 5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963129B-F906-44DE-9A6F-D6B842A4ED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2 When can radio waves cause injury to the human body?</a:t>
            </a:r>
            <a:endParaRPr b="1" lang="en-US" sz="3000" spc="-1" strike="noStrike">
              <a:solidFill>
                <a:srgbClr val="ffff00"/>
              </a:solidFill>
              <a:latin typeface="Tahoma"/>
            </a:endParaRPr>
          </a:p>
        </p:txBody>
      </p:sp>
      <p:sp>
        <p:nvSpPr>
          <p:cNvPr id="2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the frequency is below 3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nly if the combination of signal strength and frequency cause excessive power to be absorb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the frequency is greater than 3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ransmitter power exceeds 5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63FB473B-FC69-4222-A03F-C1D1B4827F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3 What is the maximum power level that an amateur radio station may use at frequencies above 30 MHz before an RF exposure evaluation is required?</a:t>
            </a:r>
            <a:endParaRPr b="1" lang="en-US" sz="3000" spc="-1" strike="noStrike">
              <a:solidFill>
                <a:srgbClr val="ffff00"/>
              </a:solidFill>
              <a:latin typeface="Tahoma"/>
            </a:endParaRPr>
          </a:p>
        </p:txBody>
      </p:sp>
      <p:sp>
        <p:nvSpPr>
          <p:cNvPr id="2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0 watts PEP transmitt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watt forward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0 watts PEP at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watts PEP reflected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C9A3BB1-8492-4A01-8F58-49AFDCDCC6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3 What is the maximum power level that an amateur radio station may use at frequencies above 30 MHz before an RF exposure evaluation is required?</a:t>
            </a:r>
            <a:endParaRPr b="1" lang="en-US" sz="3000" spc="-1" strike="noStrike">
              <a:solidFill>
                <a:srgbClr val="ffff00"/>
              </a:solidFill>
              <a:latin typeface="Tahoma"/>
            </a:endParaRPr>
          </a:p>
        </p:txBody>
      </p:sp>
      <p:sp>
        <p:nvSpPr>
          <p:cNvPr id="2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0 watts PEP transmitt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watt forward p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50 watts PEP at the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watts PEP reflected pow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406FED9-5B19-4032-B981-D96D7C79A0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4 What factors affect the RF exposure of people near an amateur transmitter?</a:t>
            </a:r>
            <a:endParaRPr b="1" lang="en-US" sz="3000" spc="-1" strike="noStrike">
              <a:solidFill>
                <a:srgbClr val="ffff00"/>
              </a:solidFill>
              <a:latin typeface="Tahoma"/>
            </a:endParaRPr>
          </a:p>
        </p:txBody>
      </p:sp>
      <p:sp>
        <p:nvSpPr>
          <p:cNvPr id="2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and power level of the RF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tance from the antenna to a pers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adiation pattern of th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3831E18C-C0B4-44CF-B110-BB0AAC41B8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4 What factors affect the RF exposure of people near an amateur transmitter?</a:t>
            </a:r>
            <a:endParaRPr b="1" lang="en-US" sz="3000" spc="-1" strike="noStrike">
              <a:solidFill>
                <a:srgbClr val="ffff00"/>
              </a:solidFill>
              <a:latin typeface="Tahoma"/>
            </a:endParaRPr>
          </a:p>
        </p:txBody>
      </p:sp>
      <p:sp>
        <p:nvSpPr>
          <p:cNvPr id="2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and power level of the RF fie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tance from the antenna to a pers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adiation pattern of the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3F5297A-5963-4120-A4E3-FE1E91003B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5 Why must the frequency of an RF source be considered when evaluating RF radiation exposure?</a:t>
            </a:r>
            <a:endParaRPr b="1" lang="en-US" sz="3000" spc="-1" strike="noStrike">
              <a:solidFill>
                <a:srgbClr val="ffff00"/>
              </a:solidFill>
              <a:latin typeface="Tahoma"/>
            </a:endParaRPr>
          </a:p>
        </p:txBody>
      </p:sp>
      <p:sp>
        <p:nvSpPr>
          <p:cNvPr id="2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er frequency RF fields have more energy than higher frequency fiel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 frequency RF fields do not penetrate the human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Higher frequency RF fields are transient in nature and do not affect the human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human body absorbs more RF energy at some frequencies than oth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26D2134-F124-48CD-994E-9C917300D3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3 What is connected to the green wire in a three-wire electrical plug?</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utr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o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hite wi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7256607F-D0C8-45D0-877E-7C4B66F5CD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5 Why must the frequency of an RF source be considered when evaluating RF radiation exposure?</a:t>
            </a:r>
            <a:endParaRPr b="1" lang="en-US" sz="3000" spc="-1" strike="noStrike">
              <a:solidFill>
                <a:srgbClr val="ffff00"/>
              </a:solidFill>
              <a:latin typeface="Tahoma"/>
            </a:endParaRPr>
          </a:p>
        </p:txBody>
      </p:sp>
      <p:sp>
        <p:nvSpPr>
          <p:cNvPr id="2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er frequency RF fields have more energy than higher frequency fiel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 frequency RF fields do not penetrate the human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Higher frequency RF fields are transient in nature and do not affect the human bod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human body absorbs more RF energy at some frequencies than other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2B97A8F5-DB9D-43D1-B33E-A9B6222B6A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6 How can you determine that your station complies with FCC RF exposure regulations?</a:t>
            </a:r>
            <a:endParaRPr b="1" lang="en-US" sz="3000" spc="-1" strike="noStrike">
              <a:solidFill>
                <a:srgbClr val="ffff00"/>
              </a:solidFill>
              <a:latin typeface="Tahoma"/>
            </a:endParaRPr>
          </a:p>
        </p:txBody>
      </p:sp>
      <p:sp>
        <p:nvSpPr>
          <p:cNvPr id="2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calculation based on FCC OET Bulletin 6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calculation based on computer mode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easurement of field strength using calibrated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96946075-B536-4FFF-A0A2-7AF1178C8C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6 How can you determine that your station complies with FCC RF exposure regulations?</a:t>
            </a:r>
            <a:endParaRPr b="1" lang="en-US" sz="3000" spc="-1" strike="noStrike">
              <a:solidFill>
                <a:srgbClr val="ffff00"/>
              </a:solidFill>
              <a:latin typeface="Tahoma"/>
            </a:endParaRPr>
          </a:p>
        </p:txBody>
      </p:sp>
      <p:sp>
        <p:nvSpPr>
          <p:cNvPr id="2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calculation based on FCC OET Bulletin 6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calculation based on computer mode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easurement of field strength using calibrated equip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7325AD8A-07C8-428D-95C0-D07979B4B2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7 What could happen if a person accidentally touched your antenna while you were transmitting?</a:t>
            </a:r>
            <a:endParaRPr b="1" lang="en-US" sz="3000" spc="-1" strike="noStrike">
              <a:solidFill>
                <a:srgbClr val="ffff00"/>
              </a:solidFill>
              <a:latin typeface="Tahoma"/>
            </a:endParaRPr>
          </a:p>
        </p:txBody>
      </p:sp>
      <p:sp>
        <p:nvSpPr>
          <p:cNvPr id="2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uching the antenna could cause television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ight receive a painful RF burn inju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would be able to hear what you are sa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280CDA90-9B94-4A72-8A42-F1A8516307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7 What could happen if a person accidentally touched your antenna while you were transmitting?</a:t>
            </a:r>
            <a:endParaRPr b="1" lang="en-US" sz="3000" spc="-1" strike="noStrike">
              <a:solidFill>
                <a:srgbClr val="ffff00"/>
              </a:solidFill>
              <a:latin typeface="Tahoma"/>
            </a:endParaRPr>
          </a:p>
        </p:txBody>
      </p:sp>
      <p:sp>
        <p:nvSpPr>
          <p:cNvPr id="2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uching the antenna could cause television interfere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y might receive a painful RF burn injur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would be able to hear what you are sa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7E52DA9-F4E4-461E-BB67-4FF9720EB6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8 What action might amateur operators take to prevent exposure to RF radiation in excess of FCC supplied limits?</a:t>
            </a:r>
            <a:endParaRPr b="1" lang="en-US" sz="3000" spc="-1" strike="noStrike">
              <a:solidFill>
                <a:srgbClr val="ffff00"/>
              </a:solidFill>
              <a:latin typeface="Tahoma"/>
            </a:endParaRPr>
          </a:p>
        </p:txBody>
      </p:sp>
      <p:sp>
        <p:nvSpPr>
          <p:cNvPr id="2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ter antenna patter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ocate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ange station parameters such as frequency or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4C0425FC-1645-4EEC-B59C-98FD1CDF29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8 What action might amateur operators take to prevent exposure to RF radiation in excess of FCC supplied limits?</a:t>
            </a:r>
            <a:endParaRPr b="1" lang="en-US" sz="3000" spc="-1" strike="noStrike">
              <a:solidFill>
                <a:srgbClr val="ffff00"/>
              </a:solidFill>
              <a:latin typeface="Tahoma"/>
            </a:endParaRPr>
          </a:p>
        </p:txBody>
      </p:sp>
      <p:sp>
        <p:nvSpPr>
          <p:cNvPr id="2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ter antenna patter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ocate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ange station parameters such as frequency or p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FFEFABB2-A989-46D0-8E53-09A936A592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09 How can you make sure your station stays in compliance with RF safety regulations?</a:t>
            </a:r>
            <a:endParaRPr b="1" lang="en-US" sz="3000" spc="-1" strike="noStrike">
              <a:solidFill>
                <a:srgbClr val="ffff00"/>
              </a:solidFill>
              <a:latin typeface="Tahoma"/>
            </a:endParaRPr>
          </a:p>
        </p:txBody>
      </p:sp>
      <p:sp>
        <p:nvSpPr>
          <p:cNvPr id="2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mpliance is not necess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re-evaluating the station whenever an item of equipment is chang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aking sure your antennas have a low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 installing a low pass fil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95D985F-6D5D-4CBD-B59D-A6C32D7EC3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09 How can you make sure your station stays in compliance with RF safety regulations?</a:t>
            </a:r>
            <a:endParaRPr b="1" lang="en-US" sz="3000" spc="-1" strike="noStrike">
              <a:solidFill>
                <a:srgbClr val="ffff00"/>
              </a:solidFill>
              <a:latin typeface="Tahoma"/>
            </a:endParaRPr>
          </a:p>
        </p:txBody>
      </p:sp>
      <p:sp>
        <p:nvSpPr>
          <p:cNvPr id="2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mpliance is not necessa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y re-evaluating the station whenever an item of equipment is chang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aking sure your antennas have a low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 installing a low pass fil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11958758-DEE2-40BE-BCA2-F39EE44E78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10 Which of the following units of measurement is used to measure RF radiation exposure?</a:t>
            </a:r>
            <a:endParaRPr b="1" lang="en-US" sz="3000" spc="-1" strike="noStrike">
              <a:solidFill>
                <a:srgbClr val="ffff00"/>
              </a:solidFill>
              <a:latin typeface="Tahoma"/>
            </a:endParaRPr>
          </a:p>
        </p:txBody>
      </p:sp>
      <p:sp>
        <p:nvSpPr>
          <p:cNvPr id="2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illiwatts per square centi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gohm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rofarads per foo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gahertz per seco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BA71ED41-E454-4689-ADD6-835E294B05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3 What is connected to the green wire in a three-wire electrical plug?</a:t>
            </a:r>
            <a:endParaRPr b="1" lang="en-US" sz="3000" spc="-1" strike="noStrike">
              <a:solidFill>
                <a:srgbClr val="ffff00"/>
              </a:solidFill>
              <a:latin typeface="Tahoma"/>
            </a:endParaRPr>
          </a:p>
        </p:txBody>
      </p:sp>
      <p:sp>
        <p:nvSpPr>
          <p:cNvPr id="118" name="PlaceHolder 2"/>
          <p:cNvSpPr>
            <a:spLocks noGrp="1"/>
          </p:cNvSpPr>
          <p:nvPr>
            <p:ph/>
          </p:nvPr>
        </p:nvSpPr>
        <p:spPr>
          <a:xfrm>
            <a:off x="0" y="2514600"/>
            <a:ext cx="4495680" cy="4114800"/>
          </a:xfrm>
          <a:prstGeom prst="rect">
            <a:avLst/>
          </a:prstGeom>
          <a:noFill/>
          <a:ln w="0">
            <a:noFill/>
          </a:ln>
        </p:spPr>
        <p:txBody>
          <a:bodyPr lIns="90000" rIns="90000" tIns="46800" bIns="4680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utral</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o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Ground</a:t>
            </a:r>
            <a:endParaRPr b="1" lang="en-US" sz="2600" spc="-1" strike="noStrike">
              <a:solidFill>
                <a:srgbClr val="ffff00"/>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hite wire</a:t>
            </a:r>
            <a:endParaRPr b="0" lang="en-US" sz="2400" spc="-1" strike="noStrike">
              <a:solidFill>
                <a:srgbClr val="ffffff"/>
              </a:solidFill>
              <a:latin typeface="Tahoma"/>
            </a:endParaRPr>
          </a:p>
        </p:txBody>
      </p:sp>
      <p:pic>
        <p:nvPicPr>
          <p:cNvPr id="119" name="" descr=""/>
          <p:cNvPicPr/>
          <p:nvPr/>
        </p:nvPicPr>
        <p:blipFill>
          <a:blip r:embed="rId1"/>
          <a:stretch/>
        </p:blipFill>
        <p:spPr>
          <a:xfrm>
            <a:off x="3352680" y="2014560"/>
            <a:ext cx="5519880" cy="4335480"/>
          </a:xfrm>
          <a:prstGeom prst="rect">
            <a:avLst/>
          </a:prstGeom>
          <a:ln w="0">
            <a:noFill/>
          </a:ln>
        </p:spPr>
      </p:pic>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70B4E0C9-6C4D-4F9E-80F6-9C1354E771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10 Which of the following units of measurement is used to measure RF radiation exposure?</a:t>
            </a:r>
            <a:endParaRPr b="1" lang="en-US" sz="3000" spc="-1" strike="noStrike">
              <a:solidFill>
                <a:srgbClr val="ffff00"/>
              </a:solidFill>
              <a:latin typeface="Tahoma"/>
            </a:endParaRPr>
          </a:p>
        </p:txBody>
      </p:sp>
      <p:sp>
        <p:nvSpPr>
          <p:cNvPr id="2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illiwatts per square centi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egohms per square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rofarads per foo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gahertz per seco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F7F171D6-1E37-4974-9779-9F5928028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C11 Why is duty cycle one of the factors used to determine safe RF radiation exposure levels?</a:t>
            </a:r>
            <a:endParaRPr b="1" lang="en-US" sz="3000" spc="-1" strike="noStrike">
              <a:solidFill>
                <a:srgbClr val="ffff00"/>
              </a:solidFill>
              <a:latin typeface="Tahoma"/>
            </a:endParaRPr>
          </a:p>
        </p:txBody>
      </p:sp>
      <p:sp>
        <p:nvSpPr>
          <p:cNvPr id="2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takes into account the amount of time the transmitter is opera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takes into account the transmitter power supply ra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takes into account the antenna feed line lo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akes into account the thermal effects of the final amplifi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50A1A65C-2B78-4B91-9516-04EB5FEB3E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C11 Why is duty cycle one of the factors used to determine safe RF radiation exposure levels?</a:t>
            </a:r>
            <a:endParaRPr b="1" lang="en-US" sz="3000" spc="-1" strike="noStrike">
              <a:solidFill>
                <a:srgbClr val="ffff00"/>
              </a:solidFill>
              <a:latin typeface="Tahoma"/>
            </a:endParaRPr>
          </a:p>
        </p:txBody>
      </p:sp>
      <p:sp>
        <p:nvSpPr>
          <p:cNvPr id="2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takes into account the amount of time the transmitter is operat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takes into account the transmitter power supply ra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takes into account the antenna feed line lo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akes into account the thermal effects of the final amplif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0A445532-9C41-4921-9EAF-7CBC32D211D6}"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0A04 What is the purpose of a fuse in an electrical circuit?</a:t>
            </a:r>
            <a:endParaRPr b="1" lang="en-US" sz="3000" spc="-1" strike="noStrike">
              <a:solidFill>
                <a:srgbClr val="ffff00"/>
              </a:solidFill>
              <a:latin typeface="Tahoma"/>
            </a:endParaRPr>
          </a:p>
        </p:txBody>
      </p:sp>
      <p:sp>
        <p:nvSpPr>
          <p:cNvPr id="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make sure enough power reaches the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interrupt power in case of overlo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event television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event shock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2C3FB53D-233B-497C-B36E-D04A708CD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0A04 What is the purpose of a fuse in an electrical circuit?</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make sure enough power reaches the circu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interrupt power in case of overloa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event television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event shock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Electrical and RF Safety</a:t>
            </a:r>
          </a:p>
        </p:txBody>
      </p:sp>
      <p:sp>
        <p:nvSpPr>
          <p:cNvPr id="5" name="PlaceHolder 4"/>
          <p:cNvSpPr>
            <a:spLocks noGrp="1"/>
          </p:cNvSpPr>
          <p:nvPr>
            <p:ph type="sldNum" idx="2"/>
          </p:nvPr>
        </p:nvSpPr>
        <p:spPr/>
        <p:txBody>
          <a:bodyPr/>
          <a:p>
            <a:fld id="{C8E32FB1-941F-4703-A478-DD4C21C78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21:14:13Z</dcterms:modified>
  <cp:revision>1</cp:revision>
  <dc:subject/>
  <dc:title>T0  –  Electrical and RF Safety 3 exam questions – 3 groups</dc:title>
</cp:coreProperties>
</file>