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357D-DA11-4554-A390-BF732B233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CC rules state that: “The licensee must perform the routine RF environmental evaluation prescribed by Section 1.1307(b) of this chapter, if the power of the licensee’s station exceeds the following PEP li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reduced power limits between 10m (30MHz) and 1.25cm (225MHz).  This corresponds to the body’s sensitivity to RF between 30 and 300 MHz.  It’s also important to note that the eyes resonate at 1270MHz which is directly in the middle of the 23cm ba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tical axis is power level, with time on the horizontal axis.  The shaded areas in the diagrams above represent RF exposure.  As power or duty cycle is decreased, exposure time can be increased and maintain a comparable exposure level.  Time, field strength, frequency and specific absorption rate (SAR) are critical factors to consider.  The body is most sensitive to VHF frequencies (30-300 MHZ).  The eyes are particularly sensitive to energy at 1270MHz which can cause catara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3D5F9D-F199-475D-B8AE-D6B61F7200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CBD56E-BE4C-4EAB-AE42-D41774E6C4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7B83B4-0EE4-4D7A-B276-1BEC02B8CC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D09673-2790-4F7D-9B40-002F53A937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23FE73-AC4F-4081-9BDC-25FACF81E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1207C-18D7-48CD-84C6-76120D969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35362-DAE0-4F23-8FB8-7F34EA3977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31B3B-C063-46FA-A968-8091F6049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56F03-7795-4BAA-B7F5-E1F4C6C7A8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830B75-944F-492E-9562-DF0890871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38D07-8904-4796-B028-27D25AA48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200056-4D63-4083-823D-62128BE564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23609-B2B4-4C13-94F1-1843A004C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3E547-BCFD-4643-9690-4FF937B1D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0FB37C-2F1E-4EF9-8706-C0272358C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A07868-CDAC-4F47-A3E1-3D81E54E95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E6A5D1-07CA-40A2-836B-887D214A6A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8E086E-56F2-4BE0-910B-2AF5E55C8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F962C4-C92F-4D90-9052-47305A63B3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6ECFA1-BBF8-4E17-95E7-074FCD6EBB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B88C31-8AC6-427B-9EA3-87DB58BE54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AF5036-F3EA-46E3-91BD-31962E5F9C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94A062-59F0-4143-9C16-057FD7AE5C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E915DA-B13E-434F-9159-6AAD7C981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7919-7073-488D-8E74-3FE84DDD6A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3024-4E76-4764-A774-ABF76C2EE45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 -- RF SAFETY</a:t>
            </a:r>
            <a:br>
              <a:rPr sz="3000"/>
            </a:br>
            <a:r>
              <a:rPr b="1" lang="en-US" sz="3000" spc="-1" strike="noStrike">
                <a:solidFill>
                  <a:srgbClr val="ffff00"/>
                </a:solidFill>
                <a:latin typeface="Tahoma"/>
              </a:rPr>
              <a:t>[5 Exam Questions – 5 Groups]</a:t>
            </a:r>
            <a:endParaRPr b="1" lang="en-US" sz="3000" spc="-1" strike="noStrike">
              <a:solidFill>
                <a:srgbClr val="ffff00"/>
              </a:solidFill>
              <a:latin typeface="Tahoma"/>
            </a:endParaRPr>
          </a:p>
        </p:txBody>
      </p:sp>
      <p:sp>
        <p:nvSpPr>
          <p:cNvPr id="1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0A  RF Safety Principles</a:t>
            </a:r>
            <a:endParaRPr b="0" lang="en-US" sz="2400" spc="-1" strike="noStrike">
              <a:solidFill>
                <a:srgbClr val="ffffff"/>
              </a:solidFill>
              <a:latin typeface="Tahoma"/>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0B  RF Safety Rules and Guidelines</a:t>
            </a:r>
            <a:endParaRPr b="0" lang="en-US" sz="2400" spc="-1" strike="noStrike">
              <a:solidFill>
                <a:srgbClr val="ffffff"/>
              </a:solidFill>
              <a:latin typeface="Tahoma"/>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0C  Routine Station Evaluation and Measurements (FCC Part 97 refers to RF Radiation Evaluation)</a:t>
            </a:r>
            <a:endParaRPr b="0" lang="en-US" sz="2400" spc="-1" strike="noStrike">
              <a:solidFill>
                <a:srgbClr val="ffffff"/>
              </a:solidFill>
              <a:latin typeface="Tahoma"/>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0D  Practical RF-safety applications</a:t>
            </a:r>
            <a:endParaRPr b="0" lang="en-US" sz="2400" spc="-1" strike="noStrike">
              <a:solidFill>
                <a:srgbClr val="ffffff"/>
              </a:solidFill>
              <a:latin typeface="Tahoma"/>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0E  RF-safety solu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D9EE0510-5562-4268-B279-6065B513BE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4 What unit of measurement best describes the biological effects of RF fields at frequencies used by amateur operators?</a:t>
            </a:r>
            <a:endParaRPr b="1" lang="en-US" sz="3000" spc="-1" strike="noStrike">
              <a:solidFill>
                <a:srgbClr val="ffff00"/>
              </a:solidFill>
              <a:latin typeface="Tahoma"/>
            </a:endParaRPr>
          </a:p>
        </p:txBody>
      </p:sp>
      <p:sp>
        <p:nvSpPr>
          <p:cNvPr id="1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lectric field strength (V/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agnetic field strength (A/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pecific absorption rate (W/k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wer density (W/cm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75703009-035E-479B-B845-2EE905BA16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4 Considering RF exposure, which of the following steps should you take when installing an antenna?</a:t>
            </a:r>
            <a:endParaRPr b="1" lang="en-US" sz="3000" spc="-1" strike="noStrike">
              <a:solidFill>
                <a:srgbClr val="ffff00"/>
              </a:solidFill>
              <a:latin typeface="Tahoma"/>
            </a:endParaRPr>
          </a:p>
        </p:txBody>
      </p:sp>
      <p:sp>
        <p:nvSpPr>
          <p:cNvPr id="3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stall the antenna as high and far away from populated areas a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f the antenna is a gain antenna, point it away from populated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nimize feed line radiation into populated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51384B58-7D06-4902-94C9-2361E31ACC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4 Considering RF exposure, which of the following steps should you take when installing an antenna?</a:t>
            </a:r>
            <a:endParaRPr b="1" lang="en-US" sz="3000" spc="-1" strike="noStrike">
              <a:solidFill>
                <a:srgbClr val="ffff00"/>
              </a:solidFill>
              <a:latin typeface="Tahoma"/>
            </a:endParaRPr>
          </a:p>
        </p:txBody>
      </p:sp>
      <p:sp>
        <p:nvSpPr>
          <p:cNvPr id="3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stall the antenna as high and far away from populated areas a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f the antenna is a gain antenna, point it away from populated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nimize feed line radiation into populated area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29EFA30A-C2F1-489C-962C-5B7974EC84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5 What might you do if an RF radiation evaluation shows that your neighbors may be receiving more than the maximum RF radiation exposure limit from your Yagi antenna when it is pointed at their house?</a:t>
            </a:r>
            <a:endParaRPr b="1" lang="en-US" sz="3000" spc="-1" strike="noStrike">
              <a:solidFill>
                <a:srgbClr val="ffff00"/>
              </a:solidFill>
              <a:latin typeface="Tahoma"/>
            </a:endParaRPr>
          </a:p>
        </p:txBody>
      </p:sp>
      <p:sp>
        <p:nvSpPr>
          <p:cNvPr id="309"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fontScale="98000"/>
          </a:bodyPr>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ange from horizontal polarization to vertical polarization</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ange from horizontal polarization to circular polarization</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n antenna with a higher front to rear ratio</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ake precautions to ensure you can't point your antenna at their hou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B60C90C-5376-42CF-A394-30EA5FFA2C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5 What might you do if an RF radiation evaluation shows that your neighbors may be receiving more than the maximum RF radiation exposure limit from your Yagi antenna when it is pointed at their house?</a:t>
            </a:r>
            <a:endParaRPr b="1" lang="en-US" sz="3000" spc="-1" strike="noStrike">
              <a:solidFill>
                <a:srgbClr val="ffff00"/>
              </a:solidFill>
              <a:latin typeface="Tahoma"/>
            </a:endParaRPr>
          </a:p>
        </p:txBody>
      </p:sp>
      <p:sp>
        <p:nvSpPr>
          <p:cNvPr id="311"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fontScale="96000"/>
          </a:bodyPr>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ange from horizontal polarization to vertical polarization</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ange from horizontal polarization to circular polarization</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n antenna with a higher front to rear ratio</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ake precautions to ensure you can't point your antenna at their hous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0214BCE9-9F8B-4C52-BEBE-C27285FE1C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6 What might you do if an RF radiation evaluation shows that your neighbors may be receiving more than the maximum RF radiation exposure limit from your quad antenna when it is pointed at their house?</a:t>
            </a:r>
            <a:endParaRPr b="1" lang="en-US" sz="3000" spc="-1" strike="noStrike">
              <a:solidFill>
                <a:srgbClr val="ffff00"/>
              </a:solidFill>
              <a:latin typeface="Tahoma"/>
            </a:endParaRPr>
          </a:p>
        </p:txBody>
      </p:sp>
      <p:sp>
        <p:nvSpPr>
          <p:cNvPr id="313"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fontScale="98000"/>
          </a:bodyPr>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duce your transmitter power to a level that reduces their exposure to a value below the maximum permissible exposure (MPE) limit</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ange from horizontal polarization to vertical polarization</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n antenna with a higher front to side ratio</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an antenna with a sharper radiation lob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E71DD765-DD71-4D58-9F5D-8580FAA0E4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6 What might you do if an RF radiation evaluation shows that your neighbors may be receiving more than the maximum RF radiation exposure limit from your quad antenna when it is pointed at their house?</a:t>
            </a:r>
            <a:endParaRPr b="1" lang="en-US" sz="3000" spc="-1" strike="noStrike">
              <a:solidFill>
                <a:srgbClr val="ffff00"/>
              </a:solidFill>
              <a:latin typeface="Tahoma"/>
            </a:endParaRPr>
          </a:p>
        </p:txBody>
      </p:sp>
      <p:sp>
        <p:nvSpPr>
          <p:cNvPr id="315"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fontScale="95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Reduce your transmitter power to a level that reduces their exposure to a value below the maximum permissible exposure (MPE) limit</a:t>
            </a:r>
            <a:endParaRPr b="1" lang="en-US" sz="2600" spc="-1" strike="noStrike">
              <a:solidFill>
                <a:srgbClr val="ffff00"/>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ange from horizontal polarization to vertical polarization</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n antenna with a higher front to side ratio</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an antenna with a sharper radiation lob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2F09233-D490-4805-A4AB-1EAB6207AD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7 Why does a dummy antenna provide an RF safe environment for transmitter adjusting?</a:t>
            </a:r>
            <a:endParaRPr b="1" lang="en-US" sz="3000" spc="-1" strike="noStrike">
              <a:solidFill>
                <a:srgbClr val="ffff00"/>
              </a:solidFill>
              <a:latin typeface="Tahoma"/>
            </a:endParaRPr>
          </a:p>
        </p:txBody>
      </p:sp>
      <p:sp>
        <p:nvSpPr>
          <p:cNvPr id="3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ummy antenna carries the RF energy far away from the station before releasing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F energy is contained in a halo around the outside of the dummy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F energy is not radiated from a dummy antenna, but is converted to hea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dummy antenna provides a perfect match to the antenna feed imped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BAEC7728-8094-414D-80A9-75745052B4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7 Why does a dummy antenna provide an RF safe environment for transmitter adjusting?</a:t>
            </a:r>
            <a:endParaRPr b="1" lang="en-US" sz="3000" spc="-1" strike="noStrike">
              <a:solidFill>
                <a:srgbClr val="ffff00"/>
              </a:solidFill>
              <a:latin typeface="Tahoma"/>
            </a:endParaRPr>
          </a:p>
        </p:txBody>
      </p:sp>
      <p:sp>
        <p:nvSpPr>
          <p:cNvPr id="3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ummy antenna carries the RF energy far away from the station before releasing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F energy is contained in a halo around the outside of the dummy antenn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RF energy is not radiated from a dummy antenna, but is converted to hea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dummy antenna provides a perfect match to the antenna feed imped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36B848C-FCC4-4540-BD05-76446A69A5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8 From an RF radiation exposure point of view, which of the following materials would be the best to use for your homemade transmatch enclosure?</a:t>
            </a:r>
            <a:endParaRPr b="1" lang="en-US" sz="3000" spc="-1" strike="noStrike">
              <a:solidFill>
                <a:srgbClr val="ffff00"/>
              </a:solidFill>
              <a:latin typeface="Tahoma"/>
            </a:endParaRPr>
          </a:p>
        </p:txBody>
      </p:sp>
      <p:sp>
        <p:nvSpPr>
          <p:cNvPr id="3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umin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akeli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parent acrylic plast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nonconductive materi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1C65945-A2E9-4A00-8ED1-527C412ADC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8 From an RF radiation exposure point of view, which of the following materials would be the best to use for your homemade transmatch enclosure?</a:t>
            </a:r>
            <a:endParaRPr b="1" lang="en-US" sz="3000" spc="-1" strike="noStrike">
              <a:solidFill>
                <a:srgbClr val="ffff00"/>
              </a:solidFill>
              <a:latin typeface="Tahoma"/>
            </a:endParaRPr>
          </a:p>
        </p:txBody>
      </p:sp>
      <p:sp>
        <p:nvSpPr>
          <p:cNvPr id="3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luminu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akeli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parent acrylic plast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nonconductive materi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59DCCCF1-ECEF-4442-BAAC-2D3EABEC12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5 RF radiation in which of the following frequency ranges has the most effect on the human eyes?</a:t>
            </a:r>
            <a:endParaRPr b="1" lang="en-US" sz="3000" spc="-1" strike="noStrike">
              <a:solidFill>
                <a:srgbClr val="ffff00"/>
              </a:solidFill>
              <a:latin typeface="Tahoma"/>
            </a:endParaRPr>
          </a:p>
        </p:txBody>
      </p:sp>
      <p:sp>
        <p:nvSpPr>
          <p:cNvPr id="1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3.5-M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2-M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50-M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1270-MHz ran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ABBDD19-86F3-4267-8828-F2DF57A8C2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9 From an RF radiation exposure point of view, what is the advantage to using a high-gain, narrow-beamwidth antenna for your VHF station?</a:t>
            </a:r>
            <a:endParaRPr b="1" lang="en-US" sz="3000" spc="-1" strike="noStrike">
              <a:solidFill>
                <a:srgbClr val="ffff00"/>
              </a:solidFill>
              <a:latin typeface="Tahoma"/>
            </a:endParaRPr>
          </a:p>
        </p:txBody>
      </p:sp>
      <p:sp>
        <p:nvSpPr>
          <p:cNvPr id="3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igh-gain antennas absorb stray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F radiation can be focused in a direction away from populated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arrow-beamwidth antennas eliminate exposure in areas directly under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55C5D1CE-C5C3-4D33-913C-7E86BDC77F5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9 From an RF radiation exposure point of view, what is the advantage to using a high-gain, narrow-beamwidth antenna for your VHF station?</a:t>
            </a:r>
            <a:endParaRPr b="1" lang="en-US" sz="3000" spc="-1" strike="noStrike">
              <a:solidFill>
                <a:srgbClr val="ffff00"/>
              </a:solidFill>
              <a:latin typeface="Tahoma"/>
            </a:endParaRPr>
          </a:p>
        </p:txBody>
      </p:sp>
      <p:sp>
        <p:nvSpPr>
          <p:cNvPr id="3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igh-gain antennas absorb stray radi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RF radiation can be focused in a direction away from populated area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arrow-beamwidth antennas eliminate exposure in areas directly under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536102C7-8D31-4A44-98ED-EA8C122B1F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10 From an RF radiation exposure point of view, what is the disadvantage in using a high-gain, narrow-beamwidth antenna for your VHF station?</a:t>
            </a:r>
            <a:endParaRPr b="1" lang="en-US" sz="3000" spc="-1" strike="noStrike">
              <a:solidFill>
                <a:srgbClr val="ffff00"/>
              </a:solidFill>
              <a:latin typeface="Tahoma"/>
            </a:endParaRPr>
          </a:p>
        </p:txBody>
      </p:sp>
      <p:sp>
        <p:nvSpPr>
          <p:cNvPr id="3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igh-gain antennas must be fed with coaxial cable feed-line, which radiates stray RF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F radiation can be better focused in a direction away from populated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dividuals in the main beam of the radiation pattern will receive a greater exposure than when a low-gain antenna is us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152ABCD-F91A-449C-84E7-D167EF1990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10 From an RF radiation exposure point of view, what is the disadvantage in using a high-gain, narrow-beamwidth antenna for your VHF station?</a:t>
            </a:r>
            <a:endParaRPr b="1" lang="en-US" sz="3000" spc="-1" strike="noStrike">
              <a:solidFill>
                <a:srgbClr val="ffff00"/>
              </a:solidFill>
              <a:latin typeface="Tahoma"/>
            </a:endParaRPr>
          </a:p>
        </p:txBody>
      </p:sp>
      <p:sp>
        <p:nvSpPr>
          <p:cNvPr id="3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igh-gain antennas must be fed with coaxial cable feed-line, which radiates stray RF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F radiation can be better focused in a direction away from populated area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ndividuals in the main beam of the radiation pattern will receive a greater exposure than when a low-gain antenna is us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BC50312-8F96-4526-B046-EA8EA8FFCA8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11 If your station is located in a residential area, which of the following would best help you reduce the RF exposure to your neighbors from your amateur station?</a:t>
            </a:r>
            <a:endParaRPr b="1" lang="en-US" sz="3000" spc="-1" strike="noStrike">
              <a:solidFill>
                <a:srgbClr val="ffff00"/>
              </a:solidFill>
              <a:latin typeface="Tahoma"/>
            </a:endParaRPr>
          </a:p>
        </p:txBody>
      </p:sp>
      <p:sp>
        <p:nvSpPr>
          <p:cNvPr id="3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RTTY instead of CW or SSB voice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top-quality coaxial cable to reduce RF losses in the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stall your antenna as high as possible to maximize the distance to nearby peop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an antenna matching network to reduce your transmitted SW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CDBC2F88-496E-48F3-8C60-0889B90533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11 If your station is located in a residential area, which of the following would best help you reduce the RF exposure to your neighbors from your amateur station?</a:t>
            </a:r>
            <a:endParaRPr b="1" lang="en-US" sz="3000" spc="-1" strike="noStrike">
              <a:solidFill>
                <a:srgbClr val="ffff00"/>
              </a:solidFill>
              <a:latin typeface="Tahoma"/>
            </a:endParaRPr>
          </a:p>
        </p:txBody>
      </p:sp>
      <p:sp>
        <p:nvSpPr>
          <p:cNvPr id="3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RTTY instead of CW or SSB voice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top-quality coaxial cable to reduce RF losses in the feed-lin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nstall your antenna as high as possible to maximize the distance to nearby peopl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an antenna matching network to reduce your transmitted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6B3620D9-B462-45AE-B9E3-8B2C978BC1AF}" type="slidenum">
              <a:t>11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5 RF radiation in which of the following frequency ranges has the most effect on the human eyes?</a:t>
            </a:r>
            <a:endParaRPr b="1" lang="en-US" sz="3000" spc="-1" strike="noStrike">
              <a:solidFill>
                <a:srgbClr val="ffff00"/>
              </a:solidFill>
              <a:latin typeface="Tahoma"/>
            </a:endParaRPr>
          </a:p>
        </p:txBody>
      </p:sp>
      <p:sp>
        <p:nvSpPr>
          <p:cNvPr id="1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3.5-M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2-M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50-MHz rang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1270-MHz rang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FFE66B48-2359-46BB-BBE6-A9B82ED660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6 What does the term "athermal effects" of RF radiation mean?</a:t>
            </a:r>
            <a:endParaRPr b="1" lang="en-US" sz="3000" spc="-1" strike="noStrike">
              <a:solidFill>
                <a:srgbClr val="ffff00"/>
              </a:solidFill>
              <a:latin typeface="Tahoma"/>
            </a:endParaRPr>
          </a:p>
        </p:txBody>
      </p:sp>
      <p:sp>
        <p:nvSpPr>
          <p:cNvPr id="1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iological effects from RF energy other than hea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emical effects from RF energy on minerals and liqui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change in the phase of a signal resulting from the heating of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iological effects from RF energy in excess of the maximum permissible exposure leve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E866581-910B-4B10-B588-DE20765564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6 What does the term "athermal effects" of RF radiation mean?</a:t>
            </a:r>
            <a:endParaRPr b="1" lang="en-US" sz="3000" spc="-1" strike="noStrike">
              <a:solidFill>
                <a:srgbClr val="ffff00"/>
              </a:solidFill>
              <a:latin typeface="Tahoma"/>
            </a:endParaRPr>
          </a:p>
        </p:txBody>
      </p:sp>
      <p:sp>
        <p:nvSpPr>
          <p:cNvPr id="1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Biological effects from RF energy other than heat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emical effects from RF energy on minerals and liqui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change in the phase of a signal resulting from the heating of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iological effects from RF energy in excess of the maximum permissible exposure leve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B441356-5699-4A25-8A2E-9DD5472B6F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7 At what frequencies does the human body absorb RF energy at a maximum rate?</a:t>
            </a:r>
            <a:endParaRPr b="1" lang="en-US" sz="3000" spc="-1" strike="noStrike">
              <a:solidFill>
                <a:srgbClr val="ffff00"/>
              </a:solidFill>
              <a:latin typeface="Tahoma"/>
            </a:endParaRPr>
          </a:p>
        </p:txBody>
      </p:sp>
      <p:sp>
        <p:nvSpPr>
          <p:cNvPr id="1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high-frequency (3-30-M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very-high-frequency (30-300-M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ultra-high-frequency (300-MHz to 3-G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uper-high-frequency (3-GHz to 30-GHz) ran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6ED2E7F9-5A04-44A1-B7F1-DC66B96654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7 At what frequencies does the human body absorb RF energy at a maximum rate?</a:t>
            </a:r>
            <a:endParaRPr b="1" lang="en-US" sz="3000" spc="-1" strike="noStrike">
              <a:solidFill>
                <a:srgbClr val="ffff00"/>
              </a:solidFill>
              <a:latin typeface="Tahoma"/>
            </a:endParaRPr>
          </a:p>
        </p:txBody>
      </p:sp>
      <p:sp>
        <p:nvSpPr>
          <p:cNvPr id="1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high-frequency (3-30-MHz) rang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very-high-frequency (30-300-MHz) rang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ultra-high-frequency (300-MHz to 3-GHz) ran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uper-high-frequency (3-GHz to 30-GHz) ran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DE606419-363A-4B29-91BE-A1E50D73EF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8 What does "time averaging" mean when it applies to RF radiation exposure?</a:t>
            </a:r>
            <a:endParaRPr b="1" lang="en-US" sz="3000" spc="-1" strike="noStrike">
              <a:solidFill>
                <a:srgbClr val="ffff00"/>
              </a:solidFill>
              <a:latin typeface="Tahoma"/>
            </a:endParaRPr>
          </a:p>
        </p:txBody>
      </p:sp>
      <p:sp>
        <p:nvSpPr>
          <p:cNvPr id="1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average time of day when the exposure occu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verage time it takes RF radiation to have any long term effect on the bod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otal time of the exposure, e.g. 6 minutes or 30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total RF exposure averaged over a certain tim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3B7CDB2-69AA-42C4-98F6-A7D41C4AA3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8 What does "time averaging" mean when it applies to RF radiation exposure?</a:t>
            </a:r>
            <a:endParaRPr b="1" lang="en-US" sz="3000" spc="-1" strike="noStrike">
              <a:solidFill>
                <a:srgbClr val="ffff00"/>
              </a:solidFill>
              <a:latin typeface="Tahoma"/>
            </a:endParaRPr>
          </a:p>
        </p:txBody>
      </p:sp>
      <p:sp>
        <p:nvSpPr>
          <p:cNvPr id="1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average time of day when the exposure occu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verage time it takes RF radiation to have any long term effect on the bod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otal time of the exposure, e.g. 6 minutes or 30 minut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total RF exposure averaged over a certain tim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28E4FC98-9851-4BA1-8436-4F08DA2EB0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9 What guideline is used to determine whether or not a routine RF evaluation must be performed for an amateur station?</a:t>
            </a:r>
            <a:endParaRPr b="1" lang="en-US" sz="3000" spc="-1" strike="noStrike">
              <a:solidFill>
                <a:srgbClr val="ffff00"/>
              </a:solidFill>
              <a:latin typeface="Tahoma"/>
            </a:endParaRPr>
          </a:p>
        </p:txBody>
      </p:sp>
      <p:sp>
        <p:nvSpPr>
          <p:cNvPr id="1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4000"/>
          </a:bodyPr>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f the transmitter's PEP is 50 watts or more, an evaluation must always be performed</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f the RF radiation from the antenna system falls within a controlled environment, an evaluation must be performed</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f the RF radiation from the antenna system falls within an uncontrolled environment, an evaluation must be performed</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f the transmitter's PEP and frequency are within certain limits given in Part 97, an evaluation must be perform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DEE6EC16-8E37-4BD5-B3C1-AF5A0EABC3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1 Depending on the wavelength of the signal, the energy density of the RF field, and other factors, in what way can RF energy affect body tissue?</a:t>
            </a:r>
            <a:endParaRPr b="1" lang="en-US" sz="3000" spc="-1" strike="noStrike">
              <a:solidFill>
                <a:srgbClr val="ffff00"/>
              </a:solidFill>
              <a:latin typeface="Tahoma"/>
            </a:endParaRPr>
          </a:p>
        </p:txBody>
      </p:sp>
      <p:sp>
        <p:nvSpPr>
          <p:cNvPr id="1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heats body tissu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causes radiation poison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causes the blood count to reach a dangerously low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cools body tissu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38D6F51D-2014-49E9-91FB-2666902ED5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9 What guideline is used to determine whether or not a routine RF evaluation must be performed for an amateur station?</a:t>
            </a:r>
            <a:endParaRPr b="1" lang="en-US" sz="3000" spc="-1" strike="noStrike">
              <a:solidFill>
                <a:srgbClr val="ffff00"/>
              </a:solidFill>
              <a:latin typeface="Tahoma"/>
            </a:endParaRPr>
          </a:p>
        </p:txBody>
      </p:sp>
      <p:sp>
        <p:nvSpPr>
          <p:cNvPr id="1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f the transmitter's PEP is 50 watts or more, an evaluation must always be performed</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f the RF radiation from the antenna system falls within a controlled environment, an evaluation must be performed</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f the RF radiation from the antenna system falls within an uncontrolled environment, an evaluation must be perform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f the transmitter's PEP and frequency are within certain limits given in Part 97, an evaluation must be performe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5E1F9BC4-0E24-4153-B5FA-C11C21443A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10 If you perform a routine RF evaluation on your station and determine that its RF fields exceed the FCC's exposure limits in human-accessible areas, what are you required to do?</a:t>
            </a:r>
            <a:endParaRPr b="1" lang="en-US" sz="3000" spc="-1" strike="noStrike">
              <a:solidFill>
                <a:srgbClr val="ffff00"/>
              </a:solidFill>
              <a:latin typeface="Tahoma"/>
            </a:endParaRPr>
          </a:p>
        </p:txBody>
      </p:sp>
      <p:sp>
        <p:nvSpPr>
          <p:cNvPr id="146"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ake action to prevent human exposure to the excessive RF fiel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ile an Environmental Impact Statement (EIS-97) with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ecure written permission from your neighbors to operate above the controlled MPE lim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 simply keep the evaluation in your station recor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5B6030C9-CCE8-47BC-84DF-88919EE6FC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10 If you perform a routine RF evaluation on your station and determine that its RF fields exceed the FCC's exposure limits in human-accessible areas, what are you required to do?</a:t>
            </a:r>
            <a:endParaRPr b="1" lang="en-US" sz="3000" spc="-1" strike="noStrike">
              <a:solidFill>
                <a:srgbClr val="ffff00"/>
              </a:solidFill>
              <a:latin typeface="Tahoma"/>
            </a:endParaRPr>
          </a:p>
        </p:txBody>
      </p:sp>
      <p:sp>
        <p:nvSpPr>
          <p:cNvPr id="148"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fontScale="99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ake action to prevent human exposure to the excessive RF fields</a:t>
            </a:r>
            <a:endParaRPr b="1" lang="en-US" sz="2600" spc="-1" strike="noStrike">
              <a:solidFill>
                <a:srgbClr val="ffff00"/>
              </a:solidFill>
              <a:latin typeface="Tahoma"/>
            </a:endParaRPr>
          </a:p>
          <a:p>
            <a:pPr lvl="1" marL="906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ile an Environmental Impact Statement (EIS-97) with the FCC</a:t>
            </a:r>
            <a:endParaRPr b="0" lang="en-US" sz="2400" spc="-1" strike="noStrike">
              <a:solidFill>
                <a:srgbClr val="ffffff"/>
              </a:solidFill>
              <a:latin typeface="Tahoma"/>
            </a:endParaRPr>
          </a:p>
          <a:p>
            <a:pPr lvl="1" marL="906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ecure written permission from your neighbors to operate above the controlled MPE limits</a:t>
            </a:r>
            <a:endParaRPr b="0" lang="en-US" sz="2400" spc="-1" strike="noStrike">
              <a:solidFill>
                <a:srgbClr val="ffffff"/>
              </a:solidFill>
              <a:latin typeface="Tahoma"/>
            </a:endParaRPr>
          </a:p>
          <a:p>
            <a:pPr lvl="1" marL="906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 simply keep the evaluation in your station recor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28FED6A9-DFB9-4422-9A40-88B540E304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11 At a site with multiple transmitters operating at the same time, how is each transmitter included in the RF exposure site evaluation?</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7000"/>
          </a:bodyPr>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the RF field of the most powerful transmitter need be considered</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F fields of all transmitters are multiplied together</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ters that produce more than 5% of the maximum permissible power density exposure limit for that transmitter must be included</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he RF fields from any transmitters operating with high duty-cycle modes (greater than 50%) need to be consider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67D0FFDD-819F-4D19-BDF7-D36428F01F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11 At a site with multiple transmitters operating at the same time, how is each transmitter included in the RF exposure site evaluation?</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7000"/>
          </a:bodyPr>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the RF field of the most powerful transmitter need be considered</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F fields of all transmitters are multiplied togeth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ransmitters that produce more than 5% of the maximum permissible power density exposure limit for that transmitter must be included</a:t>
            </a:r>
            <a:endParaRPr b="1" lang="en-US" sz="2600" spc="-1" strike="noStrike">
              <a:solidFill>
                <a:srgbClr val="ffff00"/>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he RF fields from any transmitters operating with high duty-cycle modes (greater than 50%) need to be consider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C8EF515-2ABA-4F68-84D7-67E4690D7A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12 What factors can affect the thermal aspects of RF energy exposure to human body tissues?</a:t>
            </a:r>
            <a:endParaRPr b="1" lang="en-US" sz="3000" spc="-1" strike="noStrike">
              <a:solidFill>
                <a:srgbClr val="ffff00"/>
              </a:solidFill>
              <a:latin typeface="Tahoma"/>
            </a:endParaRPr>
          </a:p>
        </p:txBody>
      </p:sp>
      <p:sp>
        <p:nvSpPr>
          <p:cNvPr id="1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body part and duration of its exposu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y and power dens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ve polariz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6B6A195-E010-41DD-9968-64860F424F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12 What factors can affect the thermal aspects of RF energy exposure to human body tissues?</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body part and duration of its exposu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y and power dens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ve polariz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F60FF7E-224E-475D-BAA3-74A08C78B1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1 What are the FCC's RF-safety rules designed to control?</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aximum RF radiated electric field str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aximum RF radiated magnetic field str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maximum permissible human exposure to all RF radiated fiel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aximum RF radiated power densit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689D201-FBFB-436E-9F59-67F002B28F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1 What are the FCC's RF-safety rules designed to control?</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aximum RF radiated electric field str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aximum RF radiated magnetic field strength</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maximum permissible human exposure to all RF radiated field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aximum RF radiated power densit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0341273C-506B-4D65-AEEC-FA0F87FB4E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2 At a site with multiple transmitters, who must ensure that all FCC RF-safety regulations are met?</a:t>
            </a:r>
            <a:endParaRPr b="1" lang="en-US" sz="3000" spc="-1" strike="noStrike">
              <a:solidFill>
                <a:srgbClr val="ffff00"/>
              </a:solidFill>
              <a:latin typeface="Tahoma"/>
            </a:endParaRPr>
          </a:p>
        </p:txBody>
      </p:sp>
      <p:sp>
        <p:nvSpPr>
          <p:cNvPr id="1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3000"/>
          </a:bodyPr>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licensees contributing more than 5% of the maximum permissible power density exposure for that transmitter are equally responsible</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the licensee of the station producing the strongest RF field is responsible</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of the stations at the site are equally responsible, regardless of any station's contribution to the total RF field</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he licensees of stations which are producing an RF field exceeding the maximum permissible exposure limit are responsi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F5D45418-5035-430E-868E-5DB68A8CAB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1 Depending on the wavelength of the signal, the energy density of the RF field, and other factors, in what way can RF energy affect body tissue?</a:t>
            </a:r>
            <a:endParaRPr b="1" lang="en-US" sz="3000" spc="-1" strike="noStrike">
              <a:solidFill>
                <a:srgbClr val="ffff00"/>
              </a:solidFill>
              <a:latin typeface="Tahoma"/>
            </a:endParaRPr>
          </a:p>
        </p:txBody>
      </p:sp>
      <p:sp>
        <p:nvSpPr>
          <p:cNvPr id="1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heats body tissu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causes radiation poison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causes the blood count to reach a dangerously low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cools body tissu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5BCC4F3-1628-4231-85F6-AD7D442E55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2 At a site with multiple transmitters, who must ensure that all FCC RF-safety regulations are met?</a:t>
            </a:r>
            <a:endParaRPr b="1" lang="en-US" sz="3000" spc="-1" strike="noStrike">
              <a:solidFill>
                <a:srgbClr val="ffff00"/>
              </a:solidFill>
              <a:latin typeface="Tahoma"/>
            </a:endParaRPr>
          </a:p>
        </p:txBody>
      </p:sp>
      <p:sp>
        <p:nvSpPr>
          <p:cNvPr id="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ll licensees contributing more than 5% of the maximum permissible power density exposure for that transmitter are equally responsible</a:t>
            </a:r>
            <a:endParaRPr b="1" lang="en-US" sz="2600" spc="-1" strike="noStrike">
              <a:solidFill>
                <a:srgbClr val="ffff00"/>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the licensee of the station producing the strongest RF field is responsible</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of the stations at the site are equally responsible, regardless of any station's contribution to the total RF field</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he licensees of stations which are producing an RF field exceeding the maximum permissible exposure limit are responsi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FBB94E84-5BEE-436C-ACC8-45D709BCF6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3 What effect does duty cycle have when evaluating RF exposure?</a:t>
            </a:r>
            <a:endParaRPr b="1" lang="en-US" sz="3000" spc="-1" strike="noStrike">
              <a:solidFill>
                <a:srgbClr val="ffff00"/>
              </a:solidFill>
              <a:latin typeface="Tahoma"/>
            </a:endParaRPr>
          </a:p>
        </p:txBody>
      </p:sp>
      <p:sp>
        <p:nvSpPr>
          <p:cNvPr id="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w duty-cycle emissions permit greater short-term exposure leve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igh duty-cycle emissions permit greater short-term exposure leve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uty cycle is not considered when evaluating RF exposu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duty cycle may be used as long as it is less than 100 perc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C54DA4D3-BD45-4154-88F7-6A47716126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3 What effect does duty cycle have when evaluating RF exposure?</a:t>
            </a:r>
            <a:endParaRPr b="1" lang="en-US" sz="3000" spc="-1" strike="noStrike">
              <a:solidFill>
                <a:srgbClr val="ffff00"/>
              </a:solidFill>
              <a:latin typeface="Tahoma"/>
            </a:endParaRPr>
          </a:p>
        </p:txBody>
      </p:sp>
      <p:sp>
        <p:nvSpPr>
          <p:cNvPr id="1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Low duty-cycle emissions permit greater short-term exposure level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igh duty-cycle emissions permit greater short-term exposure leve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uty cycle is not considered when evaluating RF exposu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duty cycle may be used as long as it is less than 100 perc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E5CA8A55-573C-4F7C-A076-272D2012BA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RF Environmental Limits</a:t>
            </a:r>
            <a:endParaRPr b="1" lang="en-US" sz="3000" spc="-1" strike="noStrike">
              <a:solidFill>
                <a:srgbClr val="ffff00"/>
              </a:solidFill>
              <a:latin typeface="Tahoma"/>
            </a:endParaRPr>
          </a:p>
        </p:txBody>
      </p:sp>
      <p:sp>
        <p:nvSpPr>
          <p:cNvPr id="170"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00"/>
                </a:solidFill>
                <a:latin typeface="Tahoma"/>
              </a:rPr>
              <a:t>Band</a:t>
            </a:r>
            <a:r>
              <a:rPr b="0" lang="en-US" sz="2600" spc="-1" strike="noStrike">
                <a:solidFill>
                  <a:srgbClr val="ffff00"/>
                </a:solidFill>
                <a:latin typeface="Tahoma"/>
              </a:rPr>
              <a:t>	</a:t>
            </a:r>
            <a:r>
              <a:rPr b="0" lang="en-US" sz="2600" spc="-1" strike="noStrike">
                <a:solidFill>
                  <a:srgbClr val="ffff00"/>
                </a:solidFill>
                <a:latin typeface="Tahoma"/>
              </a:rPr>
              <a:t>Power Limit</a:t>
            </a:r>
            <a:r>
              <a:rPr b="0" lang="en-US" sz="2600" spc="-1" strike="noStrike">
                <a:solidFill>
                  <a:srgbClr val="ffff00"/>
                </a:solidFill>
                <a:latin typeface="Tahoma"/>
              </a:rPr>
              <a:t>	</a:t>
            </a:r>
            <a:r>
              <a:rPr b="0" lang="en-US" sz="2600" spc="-1" strike="noStrike">
                <a:solidFill>
                  <a:srgbClr val="ffff00"/>
                </a:solidFill>
                <a:latin typeface="Tahoma"/>
              </a:rPr>
              <a:t>Band</a:t>
            </a:r>
            <a:r>
              <a:rPr b="0" lang="en-US" sz="2600" spc="-1" strike="noStrike">
                <a:solidFill>
                  <a:srgbClr val="ffff00"/>
                </a:solidFill>
                <a:latin typeface="Tahoma"/>
              </a:rPr>
              <a:t>	</a:t>
            </a:r>
            <a:r>
              <a:rPr b="0" lang="en-US" sz="2600" spc="-1" strike="noStrike">
                <a:solidFill>
                  <a:srgbClr val="ffff00"/>
                </a:solidFill>
                <a:latin typeface="Tahoma"/>
              </a:rPr>
              <a:t>Power Limit</a:t>
            </a:r>
            <a:endParaRPr b="1" lang="en-US" sz="2600" spc="-1" strike="noStrike">
              <a:solidFill>
                <a:srgbClr val="ffff00"/>
              </a:solidFill>
              <a:latin typeface="Tahoma"/>
            </a:endParaRPr>
          </a:p>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ff"/>
                </a:solidFill>
                <a:latin typeface="Tahoma"/>
              </a:rPr>
              <a:t>160 m</a:t>
            </a:r>
            <a:r>
              <a:rPr b="0" lang="en-US" sz="2600" spc="-1" strike="noStrike">
                <a:solidFill>
                  <a:srgbClr val="ffffff"/>
                </a:solidFill>
                <a:latin typeface="Tahoma"/>
              </a:rPr>
              <a:t>	</a:t>
            </a:r>
            <a:r>
              <a:rPr b="0" lang="en-US" sz="2600" spc="-1" strike="noStrike">
                <a:solidFill>
                  <a:srgbClr val="ffffff"/>
                </a:solidFill>
                <a:latin typeface="Tahoma"/>
              </a:rPr>
              <a:t>500 watts</a:t>
            </a:r>
            <a:r>
              <a:rPr b="0" lang="en-US" sz="2600" spc="-1" strike="noStrike">
                <a:solidFill>
                  <a:srgbClr val="ffffff"/>
                </a:solidFill>
                <a:latin typeface="Tahoma"/>
              </a:rPr>
              <a:t>	</a:t>
            </a:r>
            <a:r>
              <a:rPr b="0" lang="en-US" sz="2600" spc="-1" strike="noStrike">
                <a:solidFill>
                  <a:srgbClr val="ffffff"/>
                </a:solidFill>
                <a:latin typeface="Tahoma"/>
              </a:rPr>
              <a:t>10 m</a:t>
            </a:r>
            <a:r>
              <a:rPr b="0" lang="en-US" sz="2600" spc="-1" strike="noStrike">
                <a:solidFill>
                  <a:srgbClr val="ffffff"/>
                </a:solidFill>
                <a:latin typeface="Tahoma"/>
              </a:rPr>
              <a:t>	</a:t>
            </a:r>
            <a:r>
              <a:rPr b="0" lang="en-US" sz="2600" spc="-1" strike="noStrike">
                <a:solidFill>
                  <a:srgbClr val="ffffff"/>
                </a:solidFill>
                <a:latin typeface="Tahoma"/>
              </a:rPr>
              <a:t>50 watts</a:t>
            </a:r>
            <a:endParaRPr b="1" lang="en-US" sz="2600" spc="-1" strike="noStrike">
              <a:solidFill>
                <a:srgbClr val="ffff00"/>
              </a:solidFill>
              <a:latin typeface="Tahoma"/>
            </a:endParaRPr>
          </a:p>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ff"/>
                </a:solidFill>
                <a:latin typeface="Tahoma"/>
              </a:rPr>
              <a:t>80/75 m</a:t>
            </a:r>
            <a:r>
              <a:rPr b="0" lang="en-US" sz="2600" spc="-1" strike="noStrike">
                <a:solidFill>
                  <a:srgbClr val="ffffff"/>
                </a:solidFill>
                <a:latin typeface="Tahoma"/>
              </a:rPr>
              <a:t>	</a:t>
            </a:r>
            <a:r>
              <a:rPr b="0" lang="en-US" sz="2600" spc="-1" strike="noStrike">
                <a:solidFill>
                  <a:srgbClr val="ffffff"/>
                </a:solidFill>
                <a:latin typeface="Tahoma"/>
              </a:rPr>
              <a:t>500 watts</a:t>
            </a:r>
            <a:r>
              <a:rPr b="0" lang="en-US" sz="2600" spc="-1" strike="noStrike">
                <a:solidFill>
                  <a:srgbClr val="ffffff"/>
                </a:solidFill>
                <a:latin typeface="Tahoma"/>
              </a:rPr>
              <a:t>	</a:t>
            </a:r>
            <a:r>
              <a:rPr b="0" lang="en-US" sz="2600" spc="-1" strike="noStrike">
                <a:solidFill>
                  <a:srgbClr val="ffffff"/>
                </a:solidFill>
                <a:latin typeface="Tahoma"/>
              </a:rPr>
              <a:t>6 m</a:t>
            </a:r>
            <a:r>
              <a:rPr b="0" lang="en-US" sz="2600" spc="-1" strike="noStrike">
                <a:solidFill>
                  <a:srgbClr val="ffffff"/>
                </a:solidFill>
                <a:latin typeface="Tahoma"/>
              </a:rPr>
              <a:t>	</a:t>
            </a:r>
            <a:r>
              <a:rPr b="0" lang="en-US" sz="2600" spc="-1" strike="noStrike">
                <a:solidFill>
                  <a:srgbClr val="ffffff"/>
                </a:solidFill>
                <a:latin typeface="Tahoma"/>
              </a:rPr>
              <a:t>50 watts</a:t>
            </a:r>
            <a:endParaRPr b="1" lang="en-US" sz="2600" spc="-1" strike="noStrike">
              <a:solidFill>
                <a:srgbClr val="ffff00"/>
              </a:solidFill>
              <a:latin typeface="Tahoma"/>
            </a:endParaRPr>
          </a:p>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ff"/>
                </a:solidFill>
                <a:latin typeface="Tahoma"/>
              </a:rPr>
              <a:t>40 m</a:t>
            </a:r>
            <a:r>
              <a:rPr b="0" lang="en-US" sz="2600" spc="-1" strike="noStrike">
                <a:solidFill>
                  <a:srgbClr val="ffffff"/>
                </a:solidFill>
                <a:latin typeface="Tahoma"/>
              </a:rPr>
              <a:t>	</a:t>
            </a:r>
            <a:r>
              <a:rPr b="0" lang="en-US" sz="2600" spc="-1" strike="noStrike">
                <a:solidFill>
                  <a:srgbClr val="ffffff"/>
                </a:solidFill>
                <a:latin typeface="Tahoma"/>
              </a:rPr>
              <a:t>500 watts</a:t>
            </a:r>
            <a:r>
              <a:rPr b="0" lang="en-US" sz="2600" spc="-1" strike="noStrike">
                <a:solidFill>
                  <a:srgbClr val="ffffff"/>
                </a:solidFill>
                <a:latin typeface="Tahoma"/>
              </a:rPr>
              <a:t>	</a:t>
            </a:r>
            <a:r>
              <a:rPr b="0" lang="en-US" sz="2600" spc="-1" strike="noStrike">
                <a:solidFill>
                  <a:srgbClr val="ffffff"/>
                </a:solidFill>
                <a:latin typeface="Tahoma"/>
              </a:rPr>
              <a:t>2 m</a:t>
            </a:r>
            <a:r>
              <a:rPr b="0" lang="en-US" sz="2600" spc="-1" strike="noStrike">
                <a:solidFill>
                  <a:srgbClr val="ffffff"/>
                </a:solidFill>
                <a:latin typeface="Tahoma"/>
              </a:rPr>
              <a:t>	</a:t>
            </a:r>
            <a:r>
              <a:rPr b="0" lang="en-US" sz="2600" spc="-1" strike="noStrike">
                <a:solidFill>
                  <a:srgbClr val="ffffff"/>
                </a:solidFill>
                <a:latin typeface="Tahoma"/>
              </a:rPr>
              <a:t>50 watts</a:t>
            </a:r>
            <a:endParaRPr b="1" lang="en-US" sz="2600" spc="-1" strike="noStrike">
              <a:solidFill>
                <a:srgbClr val="ffff00"/>
              </a:solidFill>
              <a:latin typeface="Tahoma"/>
            </a:endParaRPr>
          </a:p>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ff"/>
                </a:solidFill>
                <a:latin typeface="Tahoma"/>
              </a:rPr>
              <a:t>30 m</a:t>
            </a:r>
            <a:r>
              <a:rPr b="0" lang="en-US" sz="2600" spc="-1" strike="noStrike">
                <a:solidFill>
                  <a:srgbClr val="ffffff"/>
                </a:solidFill>
                <a:latin typeface="Tahoma"/>
              </a:rPr>
              <a:t>	</a:t>
            </a:r>
            <a:r>
              <a:rPr b="0" lang="en-US" sz="2600" spc="-1" strike="noStrike">
                <a:solidFill>
                  <a:srgbClr val="ffffff"/>
                </a:solidFill>
                <a:latin typeface="Tahoma"/>
              </a:rPr>
              <a:t>425 watts</a:t>
            </a:r>
            <a:r>
              <a:rPr b="0" lang="en-US" sz="2600" spc="-1" strike="noStrike">
                <a:solidFill>
                  <a:srgbClr val="ffffff"/>
                </a:solidFill>
                <a:latin typeface="Tahoma"/>
              </a:rPr>
              <a:t>	</a:t>
            </a:r>
            <a:r>
              <a:rPr b="0" lang="en-US" sz="2600" spc="-1" strike="noStrike">
                <a:solidFill>
                  <a:srgbClr val="ffffff"/>
                </a:solidFill>
                <a:latin typeface="Tahoma"/>
              </a:rPr>
              <a:t>1.25 m</a:t>
            </a:r>
            <a:r>
              <a:rPr b="0" lang="en-US" sz="2600" spc="-1" strike="noStrike">
                <a:solidFill>
                  <a:srgbClr val="ffffff"/>
                </a:solidFill>
                <a:latin typeface="Tahoma"/>
              </a:rPr>
              <a:t>	</a:t>
            </a:r>
            <a:r>
              <a:rPr b="0" lang="en-US" sz="2600" spc="-1" strike="noStrike">
                <a:solidFill>
                  <a:srgbClr val="ffffff"/>
                </a:solidFill>
                <a:latin typeface="Tahoma"/>
              </a:rPr>
              <a:t>50 watts</a:t>
            </a:r>
            <a:endParaRPr b="1" lang="en-US" sz="2600" spc="-1" strike="noStrike">
              <a:solidFill>
                <a:srgbClr val="ffff00"/>
              </a:solidFill>
              <a:latin typeface="Tahoma"/>
            </a:endParaRPr>
          </a:p>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ff"/>
                </a:solidFill>
                <a:latin typeface="Tahoma"/>
              </a:rPr>
              <a:t>20 m</a:t>
            </a:r>
            <a:r>
              <a:rPr b="0" lang="en-US" sz="2600" spc="-1" strike="noStrike">
                <a:solidFill>
                  <a:srgbClr val="ffffff"/>
                </a:solidFill>
                <a:latin typeface="Tahoma"/>
              </a:rPr>
              <a:t>	</a:t>
            </a:r>
            <a:r>
              <a:rPr b="0" lang="en-US" sz="2600" spc="-1" strike="noStrike">
                <a:solidFill>
                  <a:srgbClr val="ffffff"/>
                </a:solidFill>
                <a:latin typeface="Tahoma"/>
              </a:rPr>
              <a:t>225 watts</a:t>
            </a:r>
            <a:r>
              <a:rPr b="0" lang="en-US" sz="2600" spc="-1" strike="noStrike">
                <a:solidFill>
                  <a:srgbClr val="ffffff"/>
                </a:solidFill>
                <a:latin typeface="Tahoma"/>
              </a:rPr>
              <a:t>	</a:t>
            </a:r>
            <a:r>
              <a:rPr b="0" lang="en-US" sz="2600" spc="-1" strike="noStrike">
                <a:solidFill>
                  <a:srgbClr val="ffffff"/>
                </a:solidFill>
                <a:latin typeface="Tahoma"/>
              </a:rPr>
              <a:t>70 cm</a:t>
            </a:r>
            <a:r>
              <a:rPr b="0" lang="en-US" sz="2600" spc="-1" strike="noStrike">
                <a:solidFill>
                  <a:srgbClr val="ffffff"/>
                </a:solidFill>
                <a:latin typeface="Tahoma"/>
              </a:rPr>
              <a:t>	</a:t>
            </a:r>
            <a:r>
              <a:rPr b="0" lang="en-US" sz="2600" spc="-1" strike="noStrike">
                <a:solidFill>
                  <a:srgbClr val="ffffff"/>
                </a:solidFill>
                <a:latin typeface="Tahoma"/>
              </a:rPr>
              <a:t>70 watts</a:t>
            </a:r>
            <a:endParaRPr b="1" lang="en-US" sz="2600" spc="-1" strike="noStrike">
              <a:solidFill>
                <a:srgbClr val="ffff00"/>
              </a:solidFill>
              <a:latin typeface="Tahoma"/>
            </a:endParaRPr>
          </a:p>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ff"/>
                </a:solidFill>
                <a:latin typeface="Tahoma"/>
              </a:rPr>
              <a:t>17 m</a:t>
            </a:r>
            <a:r>
              <a:rPr b="0" lang="en-US" sz="2600" spc="-1" strike="noStrike">
                <a:solidFill>
                  <a:srgbClr val="ffffff"/>
                </a:solidFill>
                <a:latin typeface="Tahoma"/>
              </a:rPr>
              <a:t>	</a:t>
            </a:r>
            <a:r>
              <a:rPr b="0" lang="en-US" sz="2600" spc="-1" strike="noStrike">
                <a:solidFill>
                  <a:srgbClr val="ffffff"/>
                </a:solidFill>
                <a:latin typeface="Tahoma"/>
              </a:rPr>
              <a:t>125 watts</a:t>
            </a:r>
            <a:r>
              <a:rPr b="0" lang="en-US" sz="2600" spc="-1" strike="noStrike">
                <a:solidFill>
                  <a:srgbClr val="ffffff"/>
                </a:solidFill>
                <a:latin typeface="Tahoma"/>
              </a:rPr>
              <a:t>	</a:t>
            </a:r>
            <a:r>
              <a:rPr b="0" lang="en-US" sz="2600" spc="-1" strike="noStrike">
                <a:solidFill>
                  <a:srgbClr val="ffffff"/>
                </a:solidFill>
                <a:latin typeface="Tahoma"/>
              </a:rPr>
              <a:t>33 cm</a:t>
            </a:r>
            <a:r>
              <a:rPr b="0" lang="en-US" sz="2600" spc="-1" strike="noStrike">
                <a:solidFill>
                  <a:srgbClr val="ffffff"/>
                </a:solidFill>
                <a:latin typeface="Tahoma"/>
              </a:rPr>
              <a:t>	</a:t>
            </a:r>
            <a:r>
              <a:rPr b="0" lang="en-US" sz="2600" spc="-1" strike="noStrike">
                <a:solidFill>
                  <a:srgbClr val="ffffff"/>
                </a:solidFill>
                <a:latin typeface="Tahoma"/>
              </a:rPr>
              <a:t>150 watts</a:t>
            </a:r>
            <a:endParaRPr b="1" lang="en-US" sz="2600" spc="-1" strike="noStrike">
              <a:solidFill>
                <a:srgbClr val="ffff00"/>
              </a:solidFill>
              <a:latin typeface="Tahoma"/>
            </a:endParaRPr>
          </a:p>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ff"/>
                </a:solidFill>
                <a:latin typeface="Tahoma"/>
              </a:rPr>
              <a:t>15 m</a:t>
            </a:r>
            <a:r>
              <a:rPr b="0" lang="en-US" sz="2600" spc="-1" strike="noStrike">
                <a:solidFill>
                  <a:srgbClr val="ffffff"/>
                </a:solidFill>
                <a:latin typeface="Tahoma"/>
              </a:rPr>
              <a:t>	</a:t>
            </a:r>
            <a:r>
              <a:rPr b="0" lang="en-US" sz="2600" spc="-1" strike="noStrike">
                <a:solidFill>
                  <a:srgbClr val="ffffff"/>
                </a:solidFill>
                <a:latin typeface="Tahoma"/>
              </a:rPr>
              <a:t>100 watts</a:t>
            </a:r>
            <a:r>
              <a:rPr b="0" lang="en-US" sz="2600" spc="-1" strike="noStrike">
                <a:solidFill>
                  <a:srgbClr val="ffffff"/>
                </a:solidFill>
                <a:latin typeface="Tahoma"/>
              </a:rPr>
              <a:t>	</a:t>
            </a:r>
            <a:r>
              <a:rPr b="0" lang="en-US" sz="2600" spc="-1" strike="noStrike">
                <a:solidFill>
                  <a:srgbClr val="ffffff"/>
                </a:solidFill>
                <a:latin typeface="Tahoma"/>
              </a:rPr>
              <a:t>23 cm</a:t>
            </a:r>
            <a:r>
              <a:rPr b="0" lang="en-US" sz="2600" spc="-1" strike="noStrike">
                <a:solidFill>
                  <a:srgbClr val="ffffff"/>
                </a:solidFill>
                <a:latin typeface="Tahoma"/>
              </a:rPr>
              <a:t>	</a:t>
            </a:r>
            <a:r>
              <a:rPr b="0" lang="en-US" sz="2600" spc="-1" strike="noStrike">
                <a:solidFill>
                  <a:srgbClr val="ffffff"/>
                </a:solidFill>
                <a:latin typeface="Tahoma"/>
              </a:rPr>
              <a:t>200 watts</a:t>
            </a:r>
            <a:endParaRPr b="1" lang="en-US" sz="2600" spc="-1" strike="noStrike">
              <a:solidFill>
                <a:srgbClr val="ffff00"/>
              </a:solidFill>
              <a:latin typeface="Tahoma"/>
            </a:endParaRPr>
          </a:p>
          <a:p>
            <a:pPr indent="0">
              <a:spcBef>
                <a:spcPts val="649"/>
              </a:spcBef>
              <a:buNone/>
              <a:tabLst>
                <a:tab algn="l" pos="0"/>
                <a:tab algn="l" pos="1828800"/>
                <a:tab algn="l" pos="4807080"/>
                <a:tab algn="l" pos="6518160"/>
                <a:tab algn="l" pos="7315200"/>
                <a:tab algn="l" pos="8229600"/>
                <a:tab algn="l" pos="9144000"/>
                <a:tab algn="l" pos="10058400"/>
              </a:tabLst>
            </a:pPr>
            <a:r>
              <a:rPr b="0" lang="en-US" sz="2600" spc="-1" strike="noStrike">
                <a:solidFill>
                  <a:srgbClr val="ffffff"/>
                </a:solidFill>
                <a:latin typeface="Tahoma"/>
              </a:rPr>
              <a:t>12 m</a:t>
            </a:r>
            <a:r>
              <a:rPr b="0" lang="en-US" sz="2600" spc="-1" strike="noStrike">
                <a:solidFill>
                  <a:srgbClr val="ffffff"/>
                </a:solidFill>
                <a:latin typeface="Tahoma"/>
              </a:rPr>
              <a:t>	</a:t>
            </a:r>
            <a:r>
              <a:rPr b="0" lang="en-US" sz="2600" spc="-1" strike="noStrike">
                <a:solidFill>
                  <a:srgbClr val="ffffff"/>
                </a:solidFill>
                <a:latin typeface="Tahoma"/>
              </a:rPr>
              <a:t>75 watts</a:t>
            </a:r>
            <a:r>
              <a:rPr b="0" lang="en-US" sz="2600" spc="-1" strike="noStrike">
                <a:solidFill>
                  <a:srgbClr val="ffffff"/>
                </a:solidFill>
                <a:latin typeface="Tahoma"/>
              </a:rPr>
              <a:t>	</a:t>
            </a:r>
            <a:r>
              <a:rPr b="0" lang="en-US" sz="2600" spc="-1" strike="noStrike">
                <a:solidFill>
                  <a:srgbClr val="ffffff"/>
                </a:solidFill>
                <a:latin typeface="Tahoma"/>
              </a:rPr>
              <a:t>13 cm up</a:t>
            </a:r>
            <a:r>
              <a:rPr b="0" lang="en-US" sz="2600" spc="-1" strike="noStrike">
                <a:solidFill>
                  <a:srgbClr val="ffffff"/>
                </a:solidFill>
                <a:latin typeface="Tahoma"/>
              </a:rPr>
              <a:t>	</a:t>
            </a:r>
            <a:r>
              <a:rPr b="0" lang="en-US" sz="2600" spc="-1" strike="noStrike">
                <a:solidFill>
                  <a:srgbClr val="ffffff"/>
                </a:solidFill>
                <a:latin typeface="Tahoma"/>
              </a:rPr>
              <a:t>250 watts</a:t>
            </a:r>
            <a:endParaRPr b="1" lang="en-US" sz="2600" spc="-1" strike="noStrike">
              <a:solidFill>
                <a:srgbClr val="ffff00"/>
              </a:solidFill>
              <a:latin typeface="Tahoma"/>
            </a:endParaRPr>
          </a:p>
        </p:txBody>
      </p:sp>
      <p:sp>
        <p:nvSpPr>
          <p:cNvPr id="171" name=""/>
          <p:cNvSpPr/>
          <p:nvPr/>
        </p:nvSpPr>
        <p:spPr>
          <a:xfrm>
            <a:off x="4572000" y="175248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DCC6818-0573-46D5-97EF-13C8AFB670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4 What is the threshold power used to determine if an RF environmental evaluation is required when the operation takes place in the 15-meter band?</a:t>
            </a:r>
            <a:endParaRPr b="1" lang="en-US" sz="3000" spc="-1" strike="noStrike">
              <a:solidFill>
                <a:srgbClr val="ffff00"/>
              </a:solidFill>
              <a:latin typeface="Tahoma"/>
            </a:endParaRPr>
          </a:p>
        </p:txBody>
      </p:sp>
      <p:sp>
        <p:nvSpPr>
          <p:cNvPr id="17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25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watts PE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5EC042A0-E9F7-4B4C-BB65-6DD0B6C604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4 What is the threshold power used to determine if an RF environmental evaluation is required when the operation takes place in the 15-meter band?</a:t>
            </a:r>
            <a:endParaRPr b="1" lang="en-US" sz="3000" spc="-1" strike="noStrike">
              <a:solidFill>
                <a:srgbClr val="ffff00"/>
              </a:solidFill>
              <a:latin typeface="Tahoma"/>
            </a:endParaRPr>
          </a:p>
        </p:txBody>
      </p:sp>
      <p:sp>
        <p:nvSpPr>
          <p:cNvPr id="17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watts PEP</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00 watts PEP</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25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watts PE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F5EA760-FD7F-4CC0-891A-F85C7465D0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5 Why do the power levels used to determine if an RF environmental evaluation is required vary with frequency?</a:t>
            </a:r>
            <a:endParaRPr b="1" lang="en-US" sz="3000" spc="-1" strike="noStrike">
              <a:solidFill>
                <a:srgbClr val="ffff00"/>
              </a:solidFill>
              <a:latin typeface="Tahoma"/>
            </a:endParaRPr>
          </a:p>
        </p:txBody>
      </p:sp>
      <p:sp>
        <p:nvSpPr>
          <p:cNvPr id="17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amateur operators may use a variety of power leve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Maximum Permissible Exposure (MPE) limits are frequency depend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provision must be made for signal loss due to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C55687EB-1187-4F0F-8234-E3D2C72E61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5 Why do the power levels used to determine if an RF environmental evaluation is required vary with frequency?</a:t>
            </a:r>
            <a:endParaRPr b="1" lang="en-US" sz="3000" spc="-1" strike="noStrike">
              <a:solidFill>
                <a:srgbClr val="ffff00"/>
              </a:solidFill>
              <a:latin typeface="Tahoma"/>
            </a:endParaRPr>
          </a:p>
        </p:txBody>
      </p:sp>
      <p:sp>
        <p:nvSpPr>
          <p:cNvPr id="17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amateur operators may use a variety of power level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Because Maximum Permissible Exposure (MPE) limits are frequency depend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provision must be made for signal loss due to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7F511DF4-474C-4715-9293-BC7F279780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6 What is the threshold power used to determine if an RF environmental evaluation is required when the operation takes place in the 10-meter band?</a:t>
            </a:r>
            <a:endParaRPr b="1" lang="en-US" sz="3000" spc="-1" strike="noStrike">
              <a:solidFill>
                <a:srgbClr val="ffff00"/>
              </a:solidFill>
              <a:latin typeface="Tahoma"/>
            </a:endParaRPr>
          </a:p>
        </p:txBody>
      </p:sp>
      <p:sp>
        <p:nvSpPr>
          <p:cNvPr id="18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25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watts PE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AAFCC48-D4CE-4461-B7F3-EFEE5E71C4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6 What is the threshold power used to determine if an RF environmental evaluation is required when the operation takes place in the 10-meter band?</a:t>
            </a:r>
            <a:endParaRPr b="1" lang="en-US" sz="3000" spc="-1" strike="noStrike">
              <a:solidFill>
                <a:srgbClr val="ffff00"/>
              </a:solidFill>
              <a:latin typeface="Tahoma"/>
            </a:endParaRPr>
          </a:p>
        </p:txBody>
      </p:sp>
      <p:sp>
        <p:nvSpPr>
          <p:cNvPr id="18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50 watts PEP</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25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watts PE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F309735-0D5C-4A69-8784-A9CB168C7D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2 Which property is NOT important in estimating RF energy's effect on body tissue?</a:t>
            </a:r>
            <a:endParaRPr b="1" lang="en-US" sz="3000" spc="-1" strike="noStrike">
              <a:solidFill>
                <a:srgbClr val="ffff00"/>
              </a:solidFill>
              <a:latin typeface="Tahoma"/>
            </a:endParaRPr>
          </a:p>
        </p:txBody>
      </p:sp>
      <p:sp>
        <p:nvSpPr>
          <p:cNvPr id="1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s duty cyc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s critical ang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s power dens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s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240E649-5926-442B-A026-81886C0FB3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7 What is the threshold power used to determine if an RF environmental evaluation is required for transmissions in the amateur bands with frequencies less than 10 MHz?</a:t>
            </a:r>
            <a:endParaRPr b="1" lang="en-US" sz="3000" spc="-1" strike="noStrike">
              <a:solidFill>
                <a:srgbClr val="ffff00"/>
              </a:solidFill>
              <a:latin typeface="Tahoma"/>
            </a:endParaRPr>
          </a:p>
        </p:txBody>
      </p:sp>
      <p:sp>
        <p:nvSpPr>
          <p:cNvPr id="18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25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watts PE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21F06D9-10E0-4E0E-B56A-5BDA3A9840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7 What is the threshold power used to determine if an RF environmental evaluation is required for transmissions in the amateur bands with frequencies less than 10 MHz?</a:t>
            </a:r>
            <a:endParaRPr b="1" lang="en-US" sz="3000" spc="-1" strike="noStrike">
              <a:solidFill>
                <a:srgbClr val="ffff00"/>
              </a:solidFill>
              <a:latin typeface="Tahoma"/>
            </a:endParaRPr>
          </a:p>
        </p:txBody>
      </p:sp>
      <p:sp>
        <p:nvSpPr>
          <p:cNvPr id="1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25 watts PEP</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500 watts PEP</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5D7A187-A02C-4EB5-85DC-75C5C249D7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8 What amateur frequency bands have the lowest power limits above which an RF environmental evaluation is required?</a:t>
            </a:r>
            <a:endParaRPr b="1" lang="en-US" sz="3000" spc="-1" strike="noStrike">
              <a:solidFill>
                <a:srgbClr val="ffff00"/>
              </a:solidFill>
              <a:latin typeface="Tahoma"/>
            </a:endParaRPr>
          </a:p>
        </p:txBody>
      </p:sp>
      <p:sp>
        <p:nvSpPr>
          <p:cNvPr id="1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bands between 17 and 3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ll bands between 10 and 15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bands between 40 and 16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bands between 1.25 and 10 met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6858714D-14B2-4C8B-8E98-7EA1E50F1E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8 What amateur frequency bands have the lowest power limits above which an RF environmental evaluation is required?</a:t>
            </a:r>
            <a:endParaRPr b="1" lang="en-US" sz="3000" spc="-1" strike="noStrike">
              <a:solidFill>
                <a:srgbClr val="ffff00"/>
              </a:solidFill>
              <a:latin typeface="Tahoma"/>
            </a:endParaRPr>
          </a:p>
        </p:txBody>
      </p:sp>
      <p:sp>
        <p:nvSpPr>
          <p:cNvPr id="1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bands between 17 and 3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ll bands between 10 and 15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bands between 40 and 160 mete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bands between 1.25 and 10 meter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D51D77EE-D196-465D-8400-FF129A8E24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09 What is the threshold power used to determine if an RF safety evaluation is required when the operation takes place in the 20-meter band?</a:t>
            </a:r>
            <a:endParaRPr b="1" lang="en-US" sz="3000" spc="-1" strike="noStrike">
              <a:solidFill>
                <a:srgbClr val="ffff00"/>
              </a:solidFill>
              <a:latin typeface="Tahoma"/>
            </a:endParaRPr>
          </a:p>
        </p:txBody>
      </p:sp>
      <p:sp>
        <p:nvSpPr>
          <p:cNvPr id="1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25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watts PE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8BFC2F0-785D-461A-8C90-22F112CE96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09 What is the threshold power used to determine if an RF safety evaluation is required when the operation takes place in the 20-meter band?</a:t>
            </a:r>
            <a:endParaRPr b="1" lang="en-US" sz="3000" spc="-1" strike="noStrike">
              <a:solidFill>
                <a:srgbClr val="ffff00"/>
              </a:solidFill>
              <a:latin typeface="Tahoma"/>
            </a:endParaRPr>
          </a:p>
        </p:txBody>
      </p:sp>
      <p:sp>
        <p:nvSpPr>
          <p:cNvPr id="1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watts PEP</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25 watts PEP</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watts PE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75002B86-DBFF-4E40-BABB-079AAC9C65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B10 Which of the following amateur radio stations are subject to routine environmental evaluation?</a:t>
            </a:r>
            <a:endParaRPr b="1" lang="en-US" sz="3000" spc="-1" strike="noStrike">
              <a:solidFill>
                <a:srgbClr val="ffff00"/>
              </a:solidFill>
              <a:latin typeface="Tahoma"/>
            </a:endParaRPr>
          </a:p>
        </p:txBody>
      </p:sp>
      <p:sp>
        <p:nvSpPr>
          <p:cNvPr id="1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ose stations that use gain-type antennas at HF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ll except portable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except those stations where no one is exposed to RF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ose stations with transmitter output levels exceeding 500-watts PEP on the 40, 75/80 and 160 meter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B6E7DFA3-5DCC-4C07-B6DC-42D0A7A2E0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B10 Which of the following amateur radio stations are subject to routine environmental evaluation?</a:t>
            </a:r>
            <a:endParaRPr b="1" lang="en-US" sz="3000" spc="-1" strike="noStrike">
              <a:solidFill>
                <a:srgbClr val="ffff00"/>
              </a:solidFill>
              <a:latin typeface="Tahoma"/>
            </a:endParaRPr>
          </a:p>
        </p:txBody>
      </p:sp>
      <p:sp>
        <p:nvSpPr>
          <p:cNvPr id="1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ose stations that use gain-type antennas at HF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ll except portable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except those stations where no one is exposed to RF radi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ose stations with transmitter output levels exceeding 500-watts PEP on the 40, 75/80 and 160 meter band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EB20E167-2DC5-4EED-B7E8-AFB1CD9171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1 If the free-space far-field strength of a 10-MHz dipole antenna measures 1.0 millivolts per meter at a distance of 5 wavelengths, what will the field strength measure at a distance of 10 wavelengths?</a:t>
            </a:r>
            <a:endParaRPr b="1" lang="en-US" sz="3000" spc="-1" strike="noStrike">
              <a:solidFill>
                <a:srgbClr val="ffff00"/>
              </a:solidFill>
              <a:latin typeface="Tahoma"/>
            </a:endParaRPr>
          </a:p>
        </p:txBody>
      </p:sp>
      <p:sp>
        <p:nvSpPr>
          <p:cNvPr id="201"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10 milli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25 milli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50 milli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 millivolts per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E5577018-BFC2-4C8A-9CC7-E4BD092798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1 If the free-space far-field strength of a 10-MHz dipole antenna measures 1.0 millivolts per meter at a distance of 5 wavelengths, what will the field strength measure at a distance of 10 wavelengths?</a:t>
            </a:r>
            <a:endParaRPr b="1" lang="en-US" sz="3000" spc="-1" strike="noStrike">
              <a:solidFill>
                <a:srgbClr val="ffff00"/>
              </a:solidFill>
              <a:latin typeface="Tahoma"/>
            </a:endParaRPr>
          </a:p>
        </p:txBody>
      </p:sp>
      <p:sp>
        <p:nvSpPr>
          <p:cNvPr id="203"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10 milli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25 millivolts per 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0.50 millivolts per me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 millivolts per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F7EAB716-56B0-495D-B2A7-62AD4A1FEE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ime Averaged Exposure Calculations</a:t>
            </a:r>
            <a:endParaRPr b="1" lang="en-US" sz="3000" spc="-1" strike="noStrike">
              <a:solidFill>
                <a:srgbClr val="ffff00"/>
              </a:solidFill>
              <a:latin typeface="Tahoma"/>
            </a:endParaRPr>
          </a:p>
        </p:txBody>
      </p:sp>
      <p:pic>
        <p:nvPicPr>
          <p:cNvPr id="114" name="" descr=""/>
          <p:cNvPicPr/>
          <p:nvPr/>
        </p:nvPicPr>
        <p:blipFill>
          <a:blip r:embed="rId1"/>
          <a:stretch/>
        </p:blipFill>
        <p:spPr>
          <a:xfrm>
            <a:off x="228600" y="2209680"/>
            <a:ext cx="8610480" cy="3213360"/>
          </a:xfrm>
          <a:prstGeom prst="rect">
            <a:avLst/>
          </a:prstGeom>
          <a:ln w="0">
            <a:noFill/>
          </a:ln>
        </p:spPr>
      </p:pic>
      <p:sp>
        <p:nvSpPr>
          <p:cNvPr id="3" name="PlaceHolder 2"/>
          <p:cNvSpPr>
            <a:spLocks noGrp="1"/>
          </p:cNvSpPr>
          <p:nvPr>
            <p:ph type="ftr" idx="1"/>
          </p:nvPr>
        </p:nvSpPr>
        <p:spPr/>
        <p:txBody>
          <a:bodyPr/>
          <a:p>
            <a:r>
              <a:t>RF Safety</a:t>
            </a:r>
          </a:p>
        </p:txBody>
      </p:sp>
      <p:sp>
        <p:nvSpPr>
          <p:cNvPr id="4" name="PlaceHolder 3"/>
          <p:cNvSpPr>
            <a:spLocks noGrp="1"/>
          </p:cNvSpPr>
          <p:nvPr>
            <p:ph type="sldNum" idx="2"/>
          </p:nvPr>
        </p:nvSpPr>
        <p:spPr/>
        <p:txBody>
          <a:bodyPr/>
          <a:p>
            <a:fld id="{E3008D18-BBA8-4535-9489-6CB1864F07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2 If the free-space far-field strength of a 28-MHz Yagi antenna measures 4.0 millivolts per meter at a distance of 5 wavelengths, what will the field strength measure at a distance of 20 wavelengths?</a:t>
            </a:r>
            <a:endParaRPr b="1" lang="en-US" sz="3000" spc="-1" strike="noStrike">
              <a:solidFill>
                <a:srgbClr val="ffff00"/>
              </a:solidFill>
              <a:latin typeface="Tahoma"/>
            </a:endParaRPr>
          </a:p>
        </p:txBody>
      </p:sp>
      <p:sp>
        <p:nvSpPr>
          <p:cNvPr id="205"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 milli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milli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50 milli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0.25 millivolts per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DF91B8F-83A8-48F5-B620-F3E5605A53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2 If the free-space far-field strength of a 28-MHz Yagi antenna measures 4.0 millivolts per meter at a distance of 5 wavelengths, what will the field strength measure at a distance of 20 wavelengths?</a:t>
            </a:r>
            <a:endParaRPr b="1" lang="en-US" sz="3000" spc="-1" strike="noStrike">
              <a:solidFill>
                <a:srgbClr val="ffff00"/>
              </a:solidFill>
              <a:latin typeface="Tahoma"/>
            </a:endParaRPr>
          </a:p>
        </p:txBody>
      </p:sp>
      <p:sp>
        <p:nvSpPr>
          <p:cNvPr id="207"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 millivolts per 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0 millivolts per me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50 milli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0.25 millivolts per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D7EE9EE-630A-4D9E-8BF4-FEF3770746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3 If the free-space far-field strength of a 1.8-MHz dipole antenna measures 9 microvolts per meter at a distance of 4 wavelengths, what will the field strength measure at a distance of 12 wavelengths?</a:t>
            </a:r>
            <a:endParaRPr b="1" lang="en-US" sz="3000" spc="-1" strike="noStrike">
              <a:solidFill>
                <a:srgbClr val="ffff00"/>
              </a:solidFill>
              <a:latin typeface="Tahoma"/>
            </a:endParaRPr>
          </a:p>
        </p:txBody>
      </p:sp>
      <p:sp>
        <p:nvSpPr>
          <p:cNvPr id="209"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 micro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6 micro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8 micro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 microvolts per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FDA742E-19B5-41FD-B7EC-AB88B79E18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3 If the free-space far-field strength of a 1.8-MHz dipole antenna measures 9 microvolts per meter at a distance of 4 wavelengths, what will the field strength measure at a distance of 12 wavelengths?</a:t>
            </a:r>
            <a:endParaRPr b="1" lang="en-US" sz="3000" spc="-1" strike="noStrike">
              <a:solidFill>
                <a:srgbClr val="ffff00"/>
              </a:solidFill>
              <a:latin typeface="Tahoma"/>
            </a:endParaRPr>
          </a:p>
        </p:txBody>
      </p:sp>
      <p:sp>
        <p:nvSpPr>
          <p:cNvPr id="211"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3 microvolts per me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6 micro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8 microvolts pe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 microvolts per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98DF371C-F00D-40C6-98E4-F72A36CB74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4 If the free-space far-field power density of a 18-MHz Yagi antenna measures 10 milliwatts per square meter at a distance of 3 wavelengths, what will it measure at a distance of 6 wavelengths?</a:t>
            </a:r>
            <a:endParaRPr b="1" lang="en-US" sz="3000" spc="-1" strike="noStrike">
              <a:solidFill>
                <a:srgbClr val="ffff00"/>
              </a:solidFill>
              <a:latin typeface="Tahoma"/>
            </a:endParaRPr>
          </a:p>
        </p:txBody>
      </p:sp>
      <p:sp>
        <p:nvSpPr>
          <p:cNvPr id="213"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1 milliwatts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milliwatts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3 milliwatts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5 milliwatts per square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F368068-F892-4B93-A2B2-F33E2F3F3F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4 If the free-space far-field power density of a 18-MHz Yagi antenna measures 10 milliwatts per square meter at a distance of 3 wavelengths, what will it measure at a distance of 6 wavelengths?</a:t>
            </a:r>
            <a:endParaRPr b="1" lang="en-US" sz="3000" spc="-1" strike="noStrike">
              <a:solidFill>
                <a:srgbClr val="ffff00"/>
              </a:solidFill>
              <a:latin typeface="Tahoma"/>
            </a:endParaRPr>
          </a:p>
        </p:txBody>
      </p:sp>
      <p:sp>
        <p:nvSpPr>
          <p:cNvPr id="215"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1 milliwatts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milliwatts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3 milliwatts per square 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2.5 milliwatts per square met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253CCCE3-BA92-4D56-9F61-F519950B9B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5 If the free-space far-field power density of an antenna measures 9 milliwatts per square meter at a distance of 5 wavelengths, what will the field strength measure at a distance of 15 wavelengths?</a:t>
            </a:r>
            <a:endParaRPr b="1" lang="en-US" sz="3000" spc="-1" strike="noStrike">
              <a:solidFill>
                <a:srgbClr val="ffff00"/>
              </a:solidFill>
              <a:latin typeface="Tahoma"/>
            </a:endParaRPr>
          </a:p>
        </p:txBody>
      </p:sp>
      <p:sp>
        <p:nvSpPr>
          <p:cNvPr id="217"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 milliwatts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milliwatt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9 milliwatt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0.09 milliwatt per square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AFA53C9-79D3-49AE-9D5B-436516EB33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5 If the free-space far-field power density of an antenna measures 9 milliwatts per square meter at a distance of 5 wavelengths, what will the field strength measure at a distance of 15 wavelengths?</a:t>
            </a:r>
            <a:endParaRPr b="1" lang="en-US" sz="3000" spc="-1" strike="noStrike">
              <a:solidFill>
                <a:srgbClr val="ffff00"/>
              </a:solidFill>
              <a:latin typeface="Tahoma"/>
            </a:endParaRPr>
          </a:p>
        </p:txBody>
      </p:sp>
      <p:sp>
        <p:nvSpPr>
          <p:cNvPr id="219"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 milliwatts per square 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 milliwatt per square me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9 milliwatt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0.09 milliwatt per square 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F29C9066-0F86-4FC1-A1A9-3648BC7266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6 What factors determine the location of the boundary between the near and far fields of an antenna?</a:t>
            </a:r>
            <a:endParaRPr b="1" lang="en-US" sz="3000" spc="-1" strike="noStrike">
              <a:solidFill>
                <a:srgbClr val="ffff00"/>
              </a:solidFill>
              <a:latin typeface="Tahoma"/>
            </a:endParaRPr>
          </a:p>
        </p:txBody>
      </p:sp>
      <p:sp>
        <p:nvSpPr>
          <p:cNvPr id="2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avelength of the signal and physical size of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tenna height and element materi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oom length and element materi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ter power and antenna gai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B66D47AC-CEC1-4149-9F50-E03B8E4ECD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6 What factors determine the location of the boundary between the near and far fields of an antenna?</a:t>
            </a:r>
            <a:endParaRPr b="1" lang="en-US" sz="3000" spc="-1" strike="noStrike">
              <a:solidFill>
                <a:srgbClr val="ffff00"/>
              </a:solidFill>
              <a:latin typeface="Tahoma"/>
            </a:endParaRPr>
          </a:p>
        </p:txBody>
      </p:sp>
      <p:sp>
        <p:nvSpPr>
          <p:cNvPr id="2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Wavelength of the signal and physical size of the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tenna height and element materi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oom length and element materi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ter power and antenna gai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3B00EE33-5342-404E-92D1-6E7993B394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2 Which property is NOT important in estimating RF energy's effect on body tissue?</a:t>
            </a:r>
            <a:endParaRPr b="1" lang="en-US" sz="3000" spc="-1" strike="noStrike">
              <a:solidFill>
                <a:srgbClr val="ffff00"/>
              </a:solidFill>
              <a:latin typeface="Tahoma"/>
            </a:endParaRPr>
          </a:p>
        </p:txBody>
      </p:sp>
      <p:sp>
        <p:nvSpPr>
          <p:cNvPr id="1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s duty cyc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s critical angl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s power dens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s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7DF08351-D28D-43EF-86AE-79A4502A69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7 Which of the following steps might an amateur operator take to ensure compliance with the RF safety regulations?</a:t>
            </a:r>
            <a:endParaRPr b="1" lang="en-US" sz="3000" spc="-1" strike="noStrike">
              <a:solidFill>
                <a:srgbClr val="ffff00"/>
              </a:solidFill>
              <a:latin typeface="Tahoma"/>
            </a:endParaRPr>
          </a:p>
        </p:txBody>
      </p:sp>
      <p:sp>
        <p:nvSpPr>
          <p:cNvPr id="2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ost a copy of FCC Part 97 in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st a copy of OET Bulletin 65 in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thing; amateur compliance is volunta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erform a routine RF exposure evalu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0BCE50FA-B8C9-41C2-8112-4142A4CD958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7 Which of the following steps might an amateur operator take to ensure compliance with the RF safety regulations?</a:t>
            </a:r>
            <a:endParaRPr b="1" lang="en-US" sz="3000" spc="-1" strike="noStrike">
              <a:solidFill>
                <a:srgbClr val="ffff00"/>
              </a:solidFill>
              <a:latin typeface="Tahoma"/>
            </a:endParaRPr>
          </a:p>
        </p:txBody>
      </p:sp>
      <p:sp>
        <p:nvSpPr>
          <p:cNvPr id="2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ost a copy of FCC Part 97 in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st a copy of OET Bulletin 65 in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thing; amateur compliance is voluntar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Perform a routine RF exposure evalu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D8CDC76-EF8C-4346-BC14-13C459326B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8 In the free-space far field, what is the relationship between the electric field (E field) and magnetic field (H field)?</a:t>
            </a:r>
            <a:endParaRPr b="1" lang="en-US" sz="3000" spc="-1" strike="noStrike">
              <a:solidFill>
                <a:srgbClr val="ffff00"/>
              </a:solidFill>
              <a:latin typeface="Tahoma"/>
            </a:endParaRPr>
          </a:p>
        </p:txBody>
      </p:sp>
      <p:sp>
        <p:nvSpPr>
          <p:cNvPr id="2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electric field strength is equal to the square of the magnetic field str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electric field strength is equal to the cube of the magnetic field str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electric and magnetic field strength has a fixed impedance relationship of 377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electric field strength times the magnetic field strength equals 377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6A468B9-2FDE-400B-BD4F-825A496A72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8 In the free-space far field, what is the relationship between the electric field (E field) and magnetic field (H field)?</a:t>
            </a:r>
            <a:endParaRPr b="1" lang="en-US" sz="3000" spc="-1" strike="noStrike">
              <a:solidFill>
                <a:srgbClr val="ffff00"/>
              </a:solidFill>
              <a:latin typeface="Tahoma"/>
            </a:endParaRPr>
          </a:p>
        </p:txBody>
      </p:sp>
      <p:sp>
        <p:nvSpPr>
          <p:cNvPr id="2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electric field strength is equal to the square of the magnetic field str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electric field strength is equal to the cube of the magnetic field strength</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electric and magnetic field strength has a fixed impedance relationship of 377 ohm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electric field strength times the magnetic field strength equals 377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B30DF912-F811-42BD-B33B-8F5E346CCC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09 What type of instrument can be used to accurately measure an RF field?</a:t>
            </a:r>
            <a:endParaRPr b="1" lang="en-US" sz="3000" spc="-1" strike="noStrike">
              <a:solidFill>
                <a:srgbClr val="ffff00"/>
              </a:solidFill>
              <a:latin typeface="Tahoma"/>
            </a:endParaRPr>
          </a:p>
        </p:txBody>
      </p:sp>
      <p:sp>
        <p:nvSpPr>
          <p:cNvPr id="2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receiver with an S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calibrated field-strength meter with a calibrate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betascope with a dummy antenna calibrated at 5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oscilloscope with a high-stability crystal marker gen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75FB4277-DBC1-4D2C-A1EA-63D73AF8AA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09 What type of instrument can be used to accurately measure an RF field?</a:t>
            </a:r>
            <a:endParaRPr b="1" lang="en-US" sz="3000" spc="-1" strike="noStrike">
              <a:solidFill>
                <a:srgbClr val="ffff00"/>
              </a:solidFill>
              <a:latin typeface="Tahoma"/>
            </a:endParaRPr>
          </a:p>
        </p:txBody>
      </p:sp>
      <p:sp>
        <p:nvSpPr>
          <p:cNvPr id="2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receiver with an S 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calibrated field-strength meter with a calibrated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betascope with a dummy antenna calibrated at 5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oscilloscope with a high-stability crystal marker gen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925755E8-320A-4E7E-B88B-9BC1D221F3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10 If your station complies with the RF safety rules and you reduce its power output from 500 to 40 watts, how would the RF safety rules apply to your operations?</a:t>
            </a:r>
            <a:endParaRPr b="1" lang="en-US" sz="3000" spc="-1" strike="noStrike">
              <a:solidFill>
                <a:srgbClr val="ffff00"/>
              </a:solidFill>
              <a:latin typeface="Tahoma"/>
            </a:endParaRPr>
          </a:p>
        </p:txBody>
      </p:sp>
      <p:sp>
        <p:nvSpPr>
          <p:cNvPr id="2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87000"/>
          </a:bodyPr>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would need to reevaluate your station for compliance with the RF safety rules because the power output changed</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would need to reevaluate your station for compliance with the RF safety rules because the transmitting parameters changed</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would not need to perform an RF safety evaluation, but your station would still need to be in compliance with the RF safety rules</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F safety rules would no longer apply to your station because it would be operating with less than 50 watts of pow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61B89429-27A9-4146-A417-04A44EA8384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10 If your station complies with the RF safety rules and you reduce its power output from 500 to 40 watts, how would the RF safety rules apply to your operations?</a:t>
            </a:r>
            <a:endParaRPr b="1" lang="en-US" sz="3000" spc="-1" strike="noStrike">
              <a:solidFill>
                <a:srgbClr val="ffff00"/>
              </a:solidFill>
              <a:latin typeface="Tahoma"/>
            </a:endParaRPr>
          </a:p>
        </p:txBody>
      </p:sp>
      <p:sp>
        <p:nvSpPr>
          <p:cNvPr id="2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85000"/>
          </a:bodyPr>
          <a:p>
            <a:pPr lvl="1" marL="778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would need to reevaluate your station for compliance with the RF safety rules because the power output changed</a:t>
            </a:r>
            <a:endParaRPr b="0" lang="en-US" sz="2400" spc="-1" strike="noStrike">
              <a:solidFill>
                <a:srgbClr val="ffffff"/>
              </a:solidFill>
              <a:latin typeface="Tahoma"/>
            </a:endParaRPr>
          </a:p>
          <a:p>
            <a:pPr lvl="1" marL="778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would need to reevaluate your station for compliance with the RF safety rules because the transmitting parameters chang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You would not need to perform an RF safety evaluation, but your station would still need to be in compliance with the RF safety rules</a:t>
            </a:r>
            <a:endParaRPr b="1" lang="en-US" sz="2600" spc="-1" strike="noStrike">
              <a:solidFill>
                <a:srgbClr val="ffff00"/>
              </a:solidFill>
              <a:latin typeface="Tahoma"/>
            </a:endParaRPr>
          </a:p>
          <a:p>
            <a:pPr lvl="1" marL="778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F safety rules would no longer apply to your station because it would be operating with less than 50 watts of pow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E74974A6-4B67-426D-8CC7-CB883734D8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C11 If your station complies with the RF safety rules and you reduce its power output from 1000 to 500 watts, how would the RF safety rules apply to your operations?</a:t>
            </a:r>
            <a:endParaRPr b="1" lang="en-US" sz="3000" spc="-1" strike="noStrike">
              <a:solidFill>
                <a:srgbClr val="ffff00"/>
              </a:solidFill>
              <a:latin typeface="Tahoma"/>
            </a:endParaRPr>
          </a:p>
        </p:txBody>
      </p:sp>
      <p:sp>
        <p:nvSpPr>
          <p:cNvPr id="241" name="PlaceHolder 2"/>
          <p:cNvSpPr>
            <a:spLocks noGrp="1"/>
          </p:cNvSpPr>
          <p:nvPr>
            <p:ph/>
          </p:nvPr>
        </p:nvSpPr>
        <p:spPr>
          <a:xfrm>
            <a:off x="0" y="2285640"/>
            <a:ext cx="9144000" cy="43434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would need to reevaluate your station for compliance with the RF safety rules because the power output changed</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would need to reevaluate your station for compliance with the RF safety rules because the transmitting parameters changed</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would need to perform an RF safety evaluation to ensure your station would still be in compliance with the RF safety rules</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ince your station was in compliance with RF safety rules at a higher power output, you need to do nothing mo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0B900D7A-B266-459F-9998-140B9C5FEC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C11 If your station complies with the RF safety rules and you reduce its power output from 1000 to 500 watts, how would the RF safety rules apply to your operations?</a:t>
            </a:r>
            <a:endParaRPr b="1" lang="en-US" sz="3000" spc="-1" strike="noStrike">
              <a:solidFill>
                <a:srgbClr val="ffff00"/>
              </a:solidFill>
              <a:latin typeface="Tahoma"/>
            </a:endParaRPr>
          </a:p>
        </p:txBody>
      </p:sp>
      <p:sp>
        <p:nvSpPr>
          <p:cNvPr id="243" name="PlaceHolder 2"/>
          <p:cNvSpPr>
            <a:spLocks noGrp="1"/>
          </p:cNvSpPr>
          <p:nvPr>
            <p:ph/>
          </p:nvPr>
        </p:nvSpPr>
        <p:spPr>
          <a:xfrm>
            <a:off x="0" y="2285640"/>
            <a:ext cx="9144000" cy="4343400"/>
          </a:xfrm>
          <a:prstGeom prst="rect">
            <a:avLst/>
          </a:prstGeom>
          <a:noFill/>
          <a:ln w="0">
            <a:noFill/>
          </a:ln>
        </p:spPr>
        <p:txBody>
          <a:bodyPr lIns="90000" rIns="90000" tIns="46800" bIns="46800" anchor="t">
            <a:normAutofit fontScale="90000"/>
          </a:bodyPr>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would need to reevaluate your station for compliance with the RF safety rules because the power output changed</a:t>
            </a:r>
            <a:endParaRPr b="0" lang="en-US" sz="2400" spc="-1" strike="noStrike">
              <a:solidFill>
                <a:srgbClr val="ffffff"/>
              </a:solidFill>
              <a:latin typeface="Tahoma"/>
            </a:endParaRPr>
          </a:p>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would need to reevaluate your station for compliance with the RF safety rules because the transmitting parameters changed</a:t>
            </a:r>
            <a:endParaRPr b="0" lang="en-US" sz="2400" spc="-1" strike="noStrike">
              <a:solidFill>
                <a:srgbClr val="ffffff"/>
              </a:solidFill>
              <a:latin typeface="Tahoma"/>
            </a:endParaRPr>
          </a:p>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would need to perform an RF safety evaluation to ensure your station would still be in compliance with the RF safety rul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Since your station was in compliance with RF safety rules at a higher power output, you need to do nothing mor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3C42D7E-0997-487E-9D82-0D855628E2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3 Which of the following has the most direct effect on the permitted exposure level of RF radiation?</a:t>
            </a:r>
            <a:endParaRPr b="1" lang="en-US" sz="3000" spc="-1" strike="noStrike">
              <a:solidFill>
                <a:srgbClr val="ffff00"/>
              </a:solidFill>
              <a:latin typeface="Tahoma"/>
            </a:endParaRPr>
          </a:p>
        </p:txBody>
      </p:sp>
      <p:sp>
        <p:nvSpPr>
          <p:cNvPr id="1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aximum usable frequency of the ionosph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requency (or wavelength) of the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environment near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distance from th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51E489E-90D0-469B-8619-672F48F588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1 Considering RF safety, what precaution should you take if you install an indoor transmitting antenna?</a:t>
            </a:r>
            <a:endParaRPr b="1" lang="en-US" sz="3000" spc="-1" strike="noStrike">
              <a:solidFill>
                <a:srgbClr val="ffff00"/>
              </a:solidFill>
              <a:latin typeface="Tahoma"/>
            </a:endParaRPr>
          </a:p>
        </p:txBody>
      </p:sp>
      <p:sp>
        <p:nvSpPr>
          <p:cNvPr id="2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4000"/>
          </a:bodyPr>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te the antenna close to your operating position to minimize feed line losse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sition the antenna along the edge of a wall where it meets the floor or ceiling to reduce parasitic radiation</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ocate the antenna as far away as possible from living spaces that will be occupied while you are operating</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sition the antenna parallel to electrical power wires to take advantage of parasitic effec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94D1E561-3C73-41D3-B77F-1706EE0236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1 Considering RF safety, what precaution should you take if you install an indoor transmitting antenna?</a:t>
            </a:r>
            <a:endParaRPr b="1" lang="en-US" sz="3000" spc="-1" strike="noStrike">
              <a:solidFill>
                <a:srgbClr val="ffff00"/>
              </a:solidFill>
              <a:latin typeface="Tahoma"/>
            </a:endParaRPr>
          </a:p>
        </p:txBody>
      </p:sp>
      <p:sp>
        <p:nvSpPr>
          <p:cNvPr id="2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te the antenna close to your operating position to minimize feed line losses</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sition the antenna along the edge of a wall where it meets the floor or ceiling to reduce parasitic radi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Locate the antenna as far away as possible from living spaces that will be occupied while you are operating</a:t>
            </a:r>
            <a:endParaRPr b="1" lang="en-US" sz="2600" spc="-1" strike="noStrike">
              <a:solidFill>
                <a:srgbClr val="ffff00"/>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sition the antenna parallel to electrical power wires to take advantage of parasitic effec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BF20A76-F212-4823-8B57-F906DAA5DB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2 Considering RF safety, what precaution should you take whenever you make adjustments to the feed line of a directional antenna system?</a:t>
            </a:r>
            <a:endParaRPr b="1" lang="en-US" sz="3000" spc="-1" strike="noStrike">
              <a:solidFill>
                <a:srgbClr val="ffff00"/>
              </a:solidFill>
              <a:latin typeface="Tahoma"/>
            </a:endParaRPr>
          </a:p>
        </p:txBody>
      </p:sp>
      <p:sp>
        <p:nvSpPr>
          <p:cNvPr id="2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 sure no one can activate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sconnect the antenna-positioning mechanis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int the antenna away from the sun so it doesn't concentrate solar energy on you</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 sure you and the antenna structure are properly ground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D5EFD182-98D7-415C-9691-1499CF0A79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2 Considering RF safety, what precaution should you take whenever you make adjustments to the feed line of a directional antenna system?</a:t>
            </a:r>
            <a:endParaRPr b="1" lang="en-US" sz="3000" spc="-1" strike="noStrike">
              <a:solidFill>
                <a:srgbClr val="ffff00"/>
              </a:solidFill>
              <a:latin typeface="Tahoma"/>
            </a:endParaRPr>
          </a:p>
        </p:txBody>
      </p:sp>
      <p:sp>
        <p:nvSpPr>
          <p:cNvPr id="25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Be sure no one can activate the transmit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sconnect the antenna-positioning mechanis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int the antenna away from the sun so it doesn't concentrate solar energy on you</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 sure you and the antenna structure are properly ground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350BE590-AE11-4504-B6D6-6B744130B7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3 What is the best reason to place a protective fence around the base of a ground-mounted transmitting antenna?</a:t>
            </a:r>
            <a:endParaRPr b="1" lang="en-US" sz="3000" spc="-1" strike="noStrike">
              <a:solidFill>
                <a:srgbClr val="ffff00"/>
              </a:solidFill>
              <a:latin typeface="Tahoma"/>
            </a:endParaRPr>
          </a:p>
        </p:txBody>
      </p:sp>
      <p:sp>
        <p:nvSpPr>
          <p:cNvPr id="25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reduce the possibility of persons being exposed to levels of RF in excess of the maximum permissible exposure (MPE) lim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educe the possibility of animals damaging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reduce the possibility of persons vandalizing expensive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improve the antenna's grounding system and thereby reduce the possibility of lightning dam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A7BD8E33-D020-4E08-94CD-FD2FFF5DCF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3 What is the best reason to place a protective fence around the base of a ground-mounted transmitting antenna?</a:t>
            </a:r>
            <a:endParaRPr b="1" lang="en-US" sz="3000" spc="-1" strike="noStrike">
              <a:solidFill>
                <a:srgbClr val="ffff00"/>
              </a:solidFill>
              <a:latin typeface="Tahoma"/>
            </a:endParaRPr>
          </a:p>
        </p:txBody>
      </p:sp>
      <p:sp>
        <p:nvSpPr>
          <p:cNvPr id="2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o reduce the possibility of persons being exposed to levels of RF in excess of the maximum permissible exposure (MPE) limi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educe the possibility of animals damaging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reduce the possibility of persons vandalizing expensive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improve the antenna's grounding system and thereby reduce the possibility of lightning dam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2B86B490-4EB2-41B1-AAC5-CC2C863298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4 What RF-safety precautions should you take before beginning repairs on an antenna?</a:t>
            </a:r>
            <a:endParaRPr b="1" lang="en-US" sz="3000" spc="-1" strike="noStrike">
              <a:solidFill>
                <a:srgbClr val="ffff00"/>
              </a:solidFill>
              <a:latin typeface="Tahoma"/>
            </a:endParaRPr>
          </a:p>
        </p:txBody>
      </p:sp>
      <p:sp>
        <p:nvSpPr>
          <p:cNvPr id="25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 sure you and the antenna structure are groun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 sure to turn off the transmitter and disconnect the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form your neighbors so they are aware of your inten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ff the main power switch in your hou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7BCF706E-CEEC-4A9C-9A03-966082BCC5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4 What RF-safety precautions should you take before beginning repairs on an antenna?</a:t>
            </a:r>
            <a:endParaRPr b="1" lang="en-US" sz="3000" spc="-1" strike="noStrike">
              <a:solidFill>
                <a:srgbClr val="ffff00"/>
              </a:solidFill>
              <a:latin typeface="Tahoma"/>
            </a:endParaRPr>
          </a:p>
        </p:txBody>
      </p:sp>
      <p:sp>
        <p:nvSpPr>
          <p:cNvPr id="25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 sure you and the antenna structure are ground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Be sure to turn off the transmitter and disconnect the feed-li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form your neighbors so they are aware of your inten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ff the main power switch in your hou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C2696DA9-FA49-46F8-888B-16BEFA5B49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5 What precaution should be taken when installing a ground-mounted antenna?</a:t>
            </a:r>
            <a:endParaRPr b="1" lang="en-US" sz="3000" spc="-1" strike="noStrike">
              <a:solidFill>
                <a:srgbClr val="ffff00"/>
              </a:solidFill>
              <a:latin typeface="Tahoma"/>
            </a:endParaRPr>
          </a:p>
        </p:txBody>
      </p:sp>
      <p:sp>
        <p:nvSpPr>
          <p:cNvPr id="26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should not be installed higher than you can rea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should not be installed in a wet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should be painted so people or animals do not accidentally run into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should be installed so no one can be exposed to RF radiation in excess of the maximum permissible exposure (MPE) limi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76AAC538-7A01-444E-B524-342CC8404C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5 What precaution should be taken when installing a ground-mounted antenna?</a:t>
            </a:r>
            <a:endParaRPr b="1" lang="en-US" sz="3000" spc="-1" strike="noStrike">
              <a:solidFill>
                <a:srgbClr val="ffff00"/>
              </a:solidFill>
              <a:latin typeface="Tahoma"/>
            </a:endParaRPr>
          </a:p>
        </p:txBody>
      </p:sp>
      <p:sp>
        <p:nvSpPr>
          <p:cNvPr id="26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should not be installed higher than you can rea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should not be installed in a wet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should be painted so people or animals do not accidentally run into i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should be installed so no one can be exposed to RF radiation in excess of the maximum permissible exposure (MPE) limit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F609F177-2B6C-4328-905E-DE86DFE72F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A03 Which of the following has the most direct effect on the permitted exposure level of RF radiation?</a:t>
            </a:r>
            <a:endParaRPr b="1" lang="en-US" sz="3000" spc="-1" strike="noStrike">
              <a:solidFill>
                <a:srgbClr val="ffff00"/>
              </a:solidFill>
              <a:latin typeface="Tahoma"/>
            </a:endParaRPr>
          </a:p>
        </p:txBody>
      </p:sp>
      <p:sp>
        <p:nvSpPr>
          <p:cNvPr id="1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aximum usable frequency of the ionospher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frequency (or wavelength) of the energ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environment near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distance from th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DC31F0AA-5443-40D2-B23C-D33467C82F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6 What precaution should you take before beginning repairs on a microwave feed horn or waveguide?</a:t>
            </a:r>
            <a:endParaRPr b="1" lang="en-US" sz="3000" spc="-1" strike="noStrike">
              <a:solidFill>
                <a:srgbClr val="ffff00"/>
              </a:solidFill>
              <a:latin typeface="Tahoma"/>
            </a:endParaRPr>
          </a:p>
        </p:txBody>
      </p:sp>
      <p:sp>
        <p:nvSpPr>
          <p:cNvPr id="2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ear tight-fitting clothes and gloves to protect your body and hands from sharp ed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 sure the transmitter is turned off and the power source is disconnec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it until the weather is dry and sunn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 sure propagation conditions are not favorable for troposphere duc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98C813C3-8D8B-4CE9-B676-B060AD7313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6 What precaution should you take before beginning repairs on a microwave feed horn or waveguide?</a:t>
            </a:r>
            <a:endParaRPr b="1" lang="en-US" sz="3000" spc="-1" strike="noStrike">
              <a:solidFill>
                <a:srgbClr val="ffff00"/>
              </a:solidFill>
              <a:latin typeface="Tahoma"/>
            </a:endParaRPr>
          </a:p>
        </p:txBody>
      </p:sp>
      <p:sp>
        <p:nvSpPr>
          <p:cNvPr id="26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ear tight-fitting clothes and gloves to protect your body and hands from sharp edg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Be sure the transmitter is turned off and the power source is disconnect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it until the weather is dry and sunn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 sure propagation conditions are not favorable for troposphere duc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33F7A565-F7AE-4F39-8857-C5D4538B69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7 Why should directional high-gain antennas be mounted higher than nearby structures?</a:t>
            </a:r>
            <a:endParaRPr b="1" lang="en-US" sz="3000" spc="-1" strike="noStrike">
              <a:solidFill>
                <a:srgbClr val="ffff00"/>
              </a:solidFill>
              <a:latin typeface="Tahoma"/>
            </a:endParaRPr>
          </a:p>
        </p:txBody>
      </p:sp>
      <p:sp>
        <p:nvSpPr>
          <p:cNvPr id="26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eliminate inversion of the major and minor lob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 they will not damage nearby structures with RF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o they will receive more sky waves and fewer ground wa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o they will not direct excessive amounts of RF energy toward people in nearby structu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DE7C2EF5-D37A-4C68-9D83-0B98BC9A73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7 Why should directional high-gain antennas be mounted higher than nearby structures?</a:t>
            </a:r>
            <a:endParaRPr b="1" lang="en-US" sz="3000" spc="-1" strike="noStrike">
              <a:solidFill>
                <a:srgbClr val="ffff00"/>
              </a:solidFill>
              <a:latin typeface="Tahoma"/>
            </a:endParaRPr>
          </a:p>
        </p:txBody>
      </p:sp>
      <p:sp>
        <p:nvSpPr>
          <p:cNvPr id="27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eliminate inversion of the major and minor lob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 they will not damage nearby structures with RF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o they will receive more sky waves and fewer ground wav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So they will not direct excessive amounts of RF energy toward people in nearby structur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6131676B-9894-423E-B1BA-F47BBBBF76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8 For best RF safety, where should the ends and center of a dipole antenna be located?</a:t>
            </a:r>
            <a:endParaRPr b="1" lang="en-US" sz="3000" spc="-1" strike="noStrike">
              <a:solidFill>
                <a:srgbClr val="ffff00"/>
              </a:solidFill>
              <a:latin typeface="Tahoma"/>
            </a:endParaRPr>
          </a:p>
        </p:txBody>
      </p:sp>
      <p:sp>
        <p:nvSpPr>
          <p:cNvPr id="27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ear or over moist ground so RF energy will be radiated away from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s close to the transmitter as possible so RF energy will be concentrated near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 far away as possible to minimize RF exposure to people near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lose to the ground so simple adjustments can be easily made without climbing a ladd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C081859B-C43F-4778-889E-0E6AAE7754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8 For best RF safety, where should the ends and center of a dipole antenna be located?</a:t>
            </a:r>
            <a:endParaRPr b="1" lang="en-US" sz="3000" spc="-1" strike="noStrike">
              <a:solidFill>
                <a:srgbClr val="ffff00"/>
              </a:solidFill>
              <a:latin typeface="Tahoma"/>
            </a:endParaRPr>
          </a:p>
        </p:txBody>
      </p:sp>
      <p:sp>
        <p:nvSpPr>
          <p:cNvPr id="27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ear or over moist ground so RF energy will be radiated away from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s close to the transmitter as possible so RF energy will be concentrated near the transmit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s far away as possible to minimize RF exposure to people near the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lose to the ground so simple adjustments can be easily made without climbing a ladd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F57350C4-AEC9-46A6-A93D-D3C66B85DF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09 What should you do to reduce RF radiation exposure when operating at 1270 MHz?</a:t>
            </a:r>
            <a:endParaRPr b="1" lang="en-US" sz="3000" spc="-1" strike="noStrike">
              <a:solidFill>
                <a:srgbClr val="ffff00"/>
              </a:solidFill>
              <a:latin typeface="Tahoma"/>
            </a:endParaRPr>
          </a:p>
        </p:txBody>
      </p:sp>
      <p:sp>
        <p:nvSpPr>
          <p:cNvPr id="27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ke sure that an RF leakage filter is installed at the antenna feed poi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Keep the antenna away from your eyes when RF is appli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ake sure the standing wave ratio is low before you conduct a tes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ever use a shielded horizontally polarized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A713AFB-DCDD-48DA-906C-73FD144CF6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09 What should you do to reduce RF radiation exposure when operating at 1270 MHz?</a:t>
            </a:r>
            <a:endParaRPr b="1" lang="en-US" sz="3000" spc="-1" strike="noStrike">
              <a:solidFill>
                <a:srgbClr val="ffff00"/>
              </a:solidFill>
              <a:latin typeface="Tahoma"/>
            </a:endParaRPr>
          </a:p>
        </p:txBody>
      </p:sp>
      <p:sp>
        <p:nvSpPr>
          <p:cNvPr id="27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ke sure that an RF leakage filter is installed at the antenna feed poi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Keep the antenna away from your eyes when RF is appli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ake sure the standing wave ratio is low before you conduct a tes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ever use a shielded horizontally polarized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E2EE542F-5838-4074-ABB1-A2D9C7CED8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10 Considering RF safety, which of the following is the best reason to mount the antenna of a mobile VHF transceiver in the center of a metal roof?</a:t>
            </a:r>
            <a:endParaRPr b="1" lang="en-US" sz="3000" spc="-1" strike="noStrike">
              <a:solidFill>
                <a:srgbClr val="ffff00"/>
              </a:solidFill>
              <a:latin typeface="Tahoma"/>
            </a:endParaRPr>
          </a:p>
        </p:txBody>
      </p:sp>
      <p:sp>
        <p:nvSpPr>
          <p:cNvPr id="28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oof will greatly shield the driver and passengers from RF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ntenna will be out of the driver's line of s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center of a metal roof is the sturdiest mounting place for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wind resistance of the antenna will be centered between the wheels and not drag on one side or the oth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52BB508B-D99E-47F7-BC66-57AC4AC005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10 Considering RF safety, which of the following is the best reason to mount the antenna of a mobile VHF transceiver in the center of a metal roof?</a:t>
            </a:r>
            <a:endParaRPr b="1" lang="en-US" sz="3000" spc="-1" strike="noStrike">
              <a:solidFill>
                <a:srgbClr val="ffff00"/>
              </a:solidFill>
              <a:latin typeface="Tahoma"/>
            </a:endParaRPr>
          </a:p>
        </p:txBody>
      </p:sp>
      <p:sp>
        <p:nvSpPr>
          <p:cNvPr id="28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roof will greatly shield the driver and passengers from RF radi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ntenna will be out of the driver's line of s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center of a metal roof is the sturdiest mounting place for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wind resistance of the antenna will be centered between the wheels and not drag on one side or the oth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BF0A7167-E78D-4FF3-AAEF-802C150E0E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A04 What unit of measurement best describes the biological effects of RF fields at frequencies used by amateur operators?</a:t>
            </a:r>
            <a:endParaRPr b="1" lang="en-US" sz="3000" spc="-1" strike="noStrike">
              <a:solidFill>
                <a:srgbClr val="ffff00"/>
              </a:solidFill>
              <a:latin typeface="Tahoma"/>
            </a:endParaRPr>
          </a:p>
        </p:txBody>
      </p:sp>
      <p:sp>
        <p:nvSpPr>
          <p:cNvPr id="1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lectric field strength (V/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agnetic field strength (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pecific absorption rate (W/k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wer density (W/cm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53744AA-A171-47FE-AD8B-87325D1848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11 Why should you avoid using attic-mounted antennas?</a:t>
            </a:r>
            <a:endParaRPr b="1" lang="en-US" sz="3000" spc="-1" strike="noStrike">
              <a:solidFill>
                <a:srgbClr val="ffff00"/>
              </a:solidFill>
              <a:latin typeface="Tahoma"/>
            </a:endParaRPr>
          </a:p>
        </p:txBody>
      </p:sp>
      <p:sp>
        <p:nvSpPr>
          <p:cNvPr id="28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may expose people in the house to strong, near field RF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ttic may not have adequate thermal insulation for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eople moving around in the house might detune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88F0B79D-71D1-4398-BC64-C809D6605C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11 Why should you avoid using attic-mounted antennas?</a:t>
            </a:r>
            <a:endParaRPr b="1" lang="en-US" sz="3000" spc="-1" strike="noStrike">
              <a:solidFill>
                <a:srgbClr val="ffff00"/>
              </a:solidFill>
              <a:latin typeface="Tahoma"/>
            </a:endParaRPr>
          </a:p>
        </p:txBody>
      </p:sp>
      <p:sp>
        <p:nvSpPr>
          <p:cNvPr id="2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y may expose people in the house to strong, near field RF energ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ttic may not have adequate thermal insulation for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eople moving around in the house might detune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E1C86504-8724-425E-9B13-8127230BD5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D12 Why must you be careful when aiming EME (moonbounce) arrays toward the horizon?</a:t>
            </a:r>
            <a:endParaRPr b="1" lang="en-US" sz="3000" spc="-1" strike="noStrike">
              <a:solidFill>
                <a:srgbClr val="ffff00"/>
              </a:solidFill>
              <a:latin typeface="Tahoma"/>
            </a:endParaRPr>
          </a:p>
        </p:txBody>
      </p:sp>
      <p:sp>
        <p:nvSpPr>
          <p:cNvPr id="2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ir high ERP may produce hazardous RF fields in uncontrolled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could cause TVI/RFI for your neighb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flections from nearby objects could detune the arra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1062F31C-B19E-4CED-BCA5-D425BC4471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D12 Why must you be careful when aiming EME (moonbounce) arrays toward the horizon?</a:t>
            </a:r>
            <a:endParaRPr b="1" lang="en-US" sz="3000" spc="-1" strike="noStrike">
              <a:solidFill>
                <a:srgbClr val="ffff00"/>
              </a:solidFill>
              <a:latin typeface="Tahoma"/>
            </a:endParaRPr>
          </a:p>
        </p:txBody>
      </p:sp>
      <p:sp>
        <p:nvSpPr>
          <p:cNvPr id="2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ir high ERP may produce hazardous RF fields in uncontrolled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could cause TVI/RFI for your neighb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flections from nearby objects could detune the arra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40DC0822-4141-4E44-9A37-CE7F65173B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1 If you receive minor burns every time you touch your microphone while you are transmitting, which of the following statements is true?</a:t>
            </a:r>
            <a:endParaRPr b="1" lang="en-US" sz="3000" spc="-1" strike="noStrike">
              <a:solidFill>
                <a:srgbClr val="ffff00"/>
              </a:solidFill>
              <a:latin typeface="Tahoma"/>
            </a:endParaRPr>
          </a:p>
        </p:txBody>
      </p:sp>
      <p:sp>
        <p:nvSpPr>
          <p:cNvPr id="2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need to use a low-impedance microph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and others in your station may be exposed to more than the maximum permissible level of RF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need to use a surge suppressor on your station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B7BDDC3A-ECC3-4561-8165-46BF8B9052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1 If you receive minor burns every time you touch your microphone while you are transmitting, which of the following statements is true?</a:t>
            </a:r>
            <a:endParaRPr b="1" lang="en-US" sz="3000" spc="-1" strike="noStrike">
              <a:solidFill>
                <a:srgbClr val="ffff00"/>
              </a:solidFill>
              <a:latin typeface="Tahoma"/>
            </a:endParaRPr>
          </a:p>
        </p:txBody>
      </p:sp>
      <p:sp>
        <p:nvSpPr>
          <p:cNvPr id="2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need to use a low-impedance microphon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You and others in your station may be exposed to more than the maximum permissible level of RF radi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need to use a surge suppressor on your station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C5F8C114-8050-4DB5-B3D3-A1C03D9E25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2 If measurements indicate that individuals in your station are exposed to more than the maximum permissible level of radiation, which of the following corrective measures would be effective?</a:t>
            </a:r>
            <a:endParaRPr b="1" lang="en-US" sz="3000" spc="-1" strike="noStrike">
              <a:solidFill>
                <a:srgbClr val="ffff00"/>
              </a:solidFill>
              <a:latin typeface="Tahoma"/>
            </a:endParaRPr>
          </a:p>
        </p:txBody>
      </p:sp>
      <p:sp>
        <p:nvSpPr>
          <p:cNvPr id="297"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nsure proper grounding of the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nsure that all equipment covers are tightly fasten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the minimum amount of transmitting power necessa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02255563-C53D-4666-962B-7AA76BF3ED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2 If measurements indicate that individuals in your station are exposed to more than the maximum permissible level of radiation, which of the following corrective measures would be effective?</a:t>
            </a:r>
            <a:endParaRPr b="1" lang="en-US" sz="3000" spc="-1" strike="noStrike">
              <a:solidFill>
                <a:srgbClr val="ffff00"/>
              </a:solidFill>
              <a:latin typeface="Tahoma"/>
            </a:endParaRPr>
          </a:p>
        </p:txBody>
      </p:sp>
      <p:sp>
        <p:nvSpPr>
          <p:cNvPr id="299"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nsure proper grounding of the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nsure that all equipment covers are tightly fasten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the minimum amount of transmitting power necessar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C46B2D72-2237-4203-99C7-B6FB9C75FF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0E03 If calculations show that you and your family may be receiving more than the maximum permissible RF radiation exposure from your 20-meter indoor dipole, which of the following steps might be appropriate?</a:t>
            </a:r>
            <a:endParaRPr b="1" lang="en-US" sz="3000" spc="-1" strike="noStrike">
              <a:solidFill>
                <a:srgbClr val="ffff00"/>
              </a:solidFill>
              <a:latin typeface="Tahoma"/>
            </a:endParaRPr>
          </a:p>
        </p:txBody>
      </p:sp>
      <p:sp>
        <p:nvSpPr>
          <p:cNvPr id="301"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RTTY instead of CW or SSB voice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ove the antenna to a safe outdoor environ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n antenna-matching network to reduce your transmitted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089A956E-5B64-4CE7-9348-AC0007ADD5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0E03 If calculations show that you and your family may be receiving more than the maximum permissible RF radiation exposure from your 20-meter indoor dipole, which of the following steps might be appropriate?</a:t>
            </a:r>
            <a:endParaRPr b="1" lang="en-US" sz="3000" spc="-1" strike="noStrike">
              <a:solidFill>
                <a:srgbClr val="ffff00"/>
              </a:solidFill>
              <a:latin typeface="Tahoma"/>
            </a:endParaRPr>
          </a:p>
        </p:txBody>
      </p:sp>
      <p:sp>
        <p:nvSpPr>
          <p:cNvPr id="303"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RTTY instead of CW or SSB voice emiss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Move the antenna to a safe outdoor environm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n antenna-matching network to reduce your transmitted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F Safety</a:t>
            </a:r>
          </a:p>
        </p:txBody>
      </p:sp>
      <p:sp>
        <p:nvSpPr>
          <p:cNvPr id="5" name="PlaceHolder 4"/>
          <p:cNvSpPr>
            <a:spLocks noGrp="1"/>
          </p:cNvSpPr>
          <p:nvPr>
            <p:ph type="sldNum" idx="2"/>
          </p:nvPr>
        </p:nvSpPr>
        <p:spPr/>
        <p:txBody>
          <a:bodyPr/>
          <a:p>
            <a:fld id="{BC96A1F6-3C17-48AC-8289-FBE3AF512B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1:18:23Z</dcterms:modified>
  <cp:revision>1</cp:revision>
  <dc:subject/>
  <dc:title>G0 -- RF SAFETY [5 Exam Questions – 5 Groups]</dc:title>
</cp:coreProperties>
</file>