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1.xml.rels" ContentType="application/vnd.openxmlformats-package.relationships+xml"/>
  <Override PartName="/ppt/notesSlides/_rels/notesSlide4.xml.rels" ContentType="application/vnd.openxmlformats-package.relationships+xml"/>
  <Override PartName="/ppt/notesSlides/_rels/notesSlide12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30.xml.rels" ContentType="application/vnd.openxmlformats-package.relationships+xml"/>
  <Override PartName="/ppt/notesSlides/_rels/notesSlide2.xml.rels" ContentType="application/vnd.openxmlformats-package.relationships+xml"/>
  <Override PartName="/ppt/notesSlides/_rels/notesSlide133.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21.xml.rels" ContentType="application/vnd.openxmlformats-package.relationships+xml"/>
  <Override PartName="/ppt/notesSlides/_rels/notesSlide134.xml.rels" ContentType="application/vnd.openxmlformats-package.relationships+xml"/>
  <Override PartName="/ppt/notesSlides/_rels/notesSlide137.xml.rels" ContentType="application/vnd.openxmlformats-package.relationships+xml"/>
  <Override PartName="/ppt/notesSlides/_rels/notesSlide135.xml.rels" ContentType="application/vnd.openxmlformats-package.relationships+xml"/>
  <Override PartName="/ppt/notesSlides/_rels/notesSlide69.xml.rels" ContentType="application/vnd.openxmlformats-package.relationships+xml"/>
  <Override PartName="/ppt/notesSlides/_rels/notesSlide138.xml.rels" ContentType="application/vnd.openxmlformats-package.relationships+xml"/>
  <Override PartName="/ppt/notesSlides/notesSlide132.xml" ContentType="application/vnd.openxmlformats-officedocument.presentationml.notesSlide+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133.xml" ContentType="application/vnd.openxmlformats-officedocument.presentationml.notesSlide+xml"/>
  <Override PartName="/ppt/notesSlides/notesSlide121.xml" ContentType="application/vnd.openxmlformats-officedocument.presentationml.notesSlide+xml"/>
  <Override PartName="/ppt/notesSlides/notesSlide135.xml" ContentType="application/vnd.openxmlformats-officedocument.presentationml.notesSlide+xml"/>
  <Override PartName="/ppt/notesSlides/notesSlide134.xml" ContentType="application/vnd.openxmlformats-officedocument.presentationml.notesSlide+xml"/>
  <Override PartName="/ppt/notesSlides/notesSlide137.xml" ContentType="application/vnd.openxmlformats-officedocument.presentationml.notesSlide+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136.xml" ContentType="application/vnd.openxmlformats-officedocument.presentationml.notesSlide+xml"/>
  <Override PartName="/ppt/notesSlides/notesSlide1.xml" ContentType="application/vnd.openxmlformats-officedocument.presentationml.notesSlide+xml"/>
  <Override PartName="/ppt/notesSlides/notesSlide138.xml" ContentType="application/vnd.openxmlformats-officedocument.presentationml.notesSlide+xml"/>
  <Override PartName="/ppt/notesSlides/notesSlide3.xml" ContentType="application/vnd.openxmlformats-officedocument.presentationml.notesSlide+xml"/>
  <Override PartName="/ppt/notesSlides/notesSlide129.xml" ContentType="application/vnd.openxmlformats-officedocument.presentationml.notesSlide+xml"/>
  <Override PartName="/ppt/notesSlides/notesSlide131.xml" ContentType="application/vnd.openxmlformats-officedocument.presentationml.notesSlide+xml"/>
  <Override PartName="/ppt/notesSlides/notesSlide74.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5729-0D89-48F6-B863-A848A2D1E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3 - GENERAL CLASS as released by the Question Pool Committee of the National Conference of Volunteer Examiner Coordinators December 1,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contained within this pool must be used in all General class examinations beginning July 1, 2004, and is intended to be used up through June 30,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ne Tokyo Hy-Power linear amplifier cannot be sold retail in the US.  It provides 50 watts output for 5 watts drive on any mode on all the HF bands and 6 meters.  Legal linear amplifiers sold at retail in the US cannot amplify frequencies between 24 and 35 MHz or use less than 50 watts drive power.  This is to prevent them being used on CB radios.  Most amplifiers can be easily modified to add the 12 and 10 or 6 meter ham bands.  You are also allowed to build or modify 1 amplifier per year (for personal use) without getting FCC appr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ont of these units generally have a power switch and may have a mode switch (FM/SSB) and a receive preamplifier.  This unit doesn’t have a preamp but does have an SWR warning light, power level meter and lighted band indicator.  The back will have an input and output antenna connector and possibly some remote PTT switching capability.  The large heat sink is very common.</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aximum speeds correspond to bandwidth available to data channels on these bands.  As the bands get higher, they tend to get larger and this permits using wider bandwidth (faster) signals.  On 6 and 2 meters for example this maximum width is 20Khz – the same as an FM voice channel.  On 1.25 meters and 70cm this becomes 100Khz maximum bandwidth permitting 56 K baud transmissions.  The 802.11b/g wireless networking operates partly in the 2.4 GHz amateur band and provides an 54 MEGAbaud data rate via a 20 MHz wide channel!</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of an FM channel – the widest mode permitted on those bands</a:t>
            </a: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he Study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waves are a shared resource that must  be coordinated worldwide.  The ITU is the body that does this.  It’s important to recognize that the Americas are in Region 2.  Europe including Russia and Africa are Region 1 and the rest of Asia is Region 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se and point to band plans and the study gu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s are allowed 1500 watts PEP with a few exceptions.  These limitations also apply to Advanced and Extra class licensees.  There is a level playing field on these frequencie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 General class licensee can be a VE but only prepare and administer element 1 and 2 exam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urrent license classes that can be earned are visible in the middle.  If you pass element 1, this is upgrade credit for 365 days but offers operating privileges forever.  The three VE signature lines are visible on the bottom as is the issuing VEC organization (ARRL) across the t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2C2F7D-E65A-4995-BEE1-30B8781968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610B5B-D515-4835-B69E-C0E767EB7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C2EA3B-36C1-4AD7-9FE3-33CECE129B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8881D4-9FF5-4A7D-871A-C0A30E26DF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42AA34-365F-4B84-BF77-2475BA421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36F39D-1EEC-4C94-BE6C-96619B1DC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24396D-5C91-4C52-8071-147A9AF598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9C5E34-8C79-42A5-A9B6-2AA461504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62CF3-A3FE-45A1-9F55-ED3A428DC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893232-C5CE-40CD-A406-8AE3EDE46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133320-3DB5-451B-84E5-2BD6910ACB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CC1CE7-45EE-4E95-AD76-A28F84695E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76D91-97D0-4A5D-BE31-1448B46E8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78E9B7-5658-4FFB-B793-161A992CB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9E6F60-149D-40B1-AC42-C4B818861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E1CBC1-EB7A-41D0-B61E-B54D4DDCA3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581EF7-FDF7-49FD-95B8-FA299EBFB6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17AC58-EFE8-47C0-BDEE-7ADE84F0B7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24761F-4B9E-4CAE-A85B-3176E1BA7F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1B4EE3-C0BD-4005-8867-6810C729A0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F90DDC-C6E6-4D27-BDDF-E0524CBF49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CFF287-91D4-419E-BFD9-535F2AB134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0A5A1D-9F72-423F-86F4-4ECE7515A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D11F10-1B56-4072-BCA1-AAD712AA9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DB6E-A696-4623-8F14-F9DC2A9994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20C5A-53B8-4D88-93EF-F9048A41F13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0"/>
            <a:ext cx="88394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 -- COMMISSION'S RULES </a:t>
            </a:r>
            <a:br>
              <a:rPr sz="3000"/>
            </a:br>
            <a:r>
              <a:rPr b="1" lang="en-US" sz="3000" spc="-1" strike="noStrike">
                <a:solidFill>
                  <a:srgbClr val="ffff00"/>
                </a:solidFill>
                <a:latin typeface="Tahoma"/>
              </a:rPr>
              <a:t>[6 Exam Questions -- 6 Groups]</a:t>
            </a:r>
            <a:endParaRPr b="1" lang="en-US" sz="3000" spc="-1" strike="noStrike">
              <a:solidFill>
                <a:srgbClr val="ffff00"/>
              </a:solidFill>
              <a:latin typeface="Tahoma"/>
            </a:endParaRPr>
          </a:p>
        </p:txBody>
      </p:sp>
      <p:sp>
        <p:nvSpPr>
          <p:cNvPr id="106"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1000"/>
          </a:bodyPr>
          <a:p>
            <a:pPr lvl="1" marL="8841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884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1A  General control operator frequency privileges</a:t>
            </a:r>
            <a:endParaRPr b="0" lang="en-US" sz="2200" spc="-1" strike="noStrike">
              <a:solidFill>
                <a:srgbClr val="ffffff"/>
              </a:solidFill>
              <a:latin typeface="Tahoma"/>
            </a:endParaRPr>
          </a:p>
          <a:p>
            <a:pPr lvl="1" marL="884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1B  Antenna structure limitations; good engineering and good amateur practice; beacon operation; restricted operation; retransmitting radio signals</a:t>
            </a:r>
            <a:endParaRPr b="0" lang="en-US" sz="2200" spc="-1" strike="noStrike">
              <a:solidFill>
                <a:srgbClr val="ffffff"/>
              </a:solidFill>
              <a:latin typeface="Tahoma"/>
            </a:endParaRPr>
          </a:p>
          <a:p>
            <a:pPr lvl="1" marL="884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1C  Transmitter power standards; certification of external RF-power amplifiers; standards for certification of external RF-power amplifiers; HF data emission standards</a:t>
            </a:r>
            <a:endParaRPr b="0" lang="en-US" sz="2200" spc="-1" strike="noStrike">
              <a:solidFill>
                <a:srgbClr val="ffffff"/>
              </a:solidFill>
              <a:latin typeface="Tahoma"/>
            </a:endParaRPr>
          </a:p>
          <a:p>
            <a:pPr lvl="1" marL="884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1D  Examination element preparation; examination administration; temporary station identification</a:t>
            </a:r>
            <a:endParaRPr b="0" lang="en-US" sz="2200" spc="-1" strike="noStrike">
              <a:solidFill>
                <a:srgbClr val="ffffff"/>
              </a:solidFill>
              <a:latin typeface="Tahoma"/>
            </a:endParaRPr>
          </a:p>
          <a:p>
            <a:pPr lvl="1" marL="884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1E  Local control; repeater and harmful interference definitions; third party communications</a:t>
            </a:r>
            <a:endParaRPr b="0" lang="en-US" sz="2200" spc="-1" strike="noStrike">
              <a:solidFill>
                <a:srgbClr val="ffffff"/>
              </a:solidFill>
              <a:latin typeface="Tahoma"/>
            </a:endParaRPr>
          </a:p>
          <a:p>
            <a:pPr lvl="1" marL="884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G1F Certification of external RF-power amplifiers; standards for certification of external RF-power amplifiers; HF data emission standards</a:t>
            </a:r>
            <a:endParaRPr b="0" lang="en-US" sz="22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8793C264-FB6F-450E-8D5C-DB05B3B2AE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3 What are the frequency privileges for a General Class control operator in the 40-meter band (ITU Region 2)?</a:t>
            </a:r>
            <a:endParaRPr b="1" lang="en-US" sz="3000" spc="-1" strike="noStrike">
              <a:solidFill>
                <a:srgbClr val="ffff00"/>
              </a:solidFill>
              <a:latin typeface="Tahoma"/>
            </a:endParaRPr>
          </a:p>
        </p:txBody>
      </p:sp>
      <p:sp>
        <p:nvSpPr>
          <p:cNvPr id="1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7025 - 7175-kHz and 7200 - 73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7025 - 7175-kHz and 7225 - 73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7025 - 7150-kHz and 7200 - 7300-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7025 - 7150-kHz and 7225 - 7300-k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3BCC76C-3D65-4CEB-844F-A8FB2C53F6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3 What kind of amateur station simultaneously retransmits the signals of other stations on a different channel?</a:t>
            </a:r>
            <a:endParaRPr b="1" lang="en-US" sz="3000" spc="-1" strike="noStrike">
              <a:solidFill>
                <a:srgbClr val="ffff00"/>
              </a:solidFill>
              <a:latin typeface="Tahoma"/>
            </a:endParaRPr>
          </a:p>
        </p:txBody>
      </p:sp>
      <p:sp>
        <p:nvSpPr>
          <p:cNvPr id="3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Repeater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pac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lecommand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lay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88B824CC-BAE8-4FD0-83DC-9C4BBD3089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4 What name is given to a form of interference that seriously degrades, obstructs or repeatedly interrupts a radiocommunication service?</a:t>
            </a:r>
            <a:endParaRPr b="1" lang="en-US" sz="3000" spc="-1" strike="noStrike">
              <a:solidFill>
                <a:srgbClr val="ffff00"/>
              </a:solidFill>
              <a:latin typeface="Tahoma"/>
            </a:endParaRPr>
          </a:p>
        </p:txBody>
      </p:sp>
      <p:sp>
        <p:nvSpPr>
          <p:cNvPr id="3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tentional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armful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jacent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isruptive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EF5FA562-C966-48F8-929A-9034324B3F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4 What name is given to a form of interference that seriously degrades, obstructs or repeatedly interrupts a radiocommunication service?</a:t>
            </a:r>
            <a:endParaRPr b="1" lang="en-US" sz="3000" spc="-1" strike="noStrike">
              <a:solidFill>
                <a:srgbClr val="ffff00"/>
              </a:solidFill>
              <a:latin typeface="Tahoma"/>
            </a:endParaRPr>
          </a:p>
        </p:txBody>
      </p:sp>
      <p:sp>
        <p:nvSpPr>
          <p:cNvPr id="3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tentional interfere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Harmful interfere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jacent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isruptive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F4EBA6A-8911-4B69-B8B1-87CA6C0F23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5 What types of messages for a third party may be transmitted by an amateur station to a foreign country?</a:t>
            </a:r>
            <a:endParaRPr b="1" lang="en-US" sz="3000" spc="-1" strike="noStrike">
              <a:solidFill>
                <a:srgbClr val="ffff00"/>
              </a:solidFill>
              <a:latin typeface="Tahoma"/>
            </a:endParaRPr>
          </a:p>
        </p:txBody>
      </p:sp>
      <p:sp>
        <p:nvSpPr>
          <p:cNvPr id="3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essages for which the amateur operator is pa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essages facilitating the business affairs of any par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essages of a technical nature or remarks of a personal charac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 messages may be transmitted to foreign countries for third part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0332C9C-AD52-4076-9DC1-7CEBA82FD3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5 What types of messages for a third party may be transmitted by an amateur station to a foreign country?</a:t>
            </a:r>
            <a:endParaRPr b="1" lang="en-US" sz="3000" spc="-1" strike="noStrike">
              <a:solidFill>
                <a:srgbClr val="ffff00"/>
              </a:solidFill>
              <a:latin typeface="Tahoma"/>
            </a:endParaRPr>
          </a:p>
        </p:txBody>
      </p:sp>
      <p:sp>
        <p:nvSpPr>
          <p:cNvPr id="3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essages for which the amateur operator is pa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essages facilitating the business affairs of any part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Messages of a technical nature or remarks of a personal charac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 messages may be transmitted to foreign countries for third part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0C828282-5097-4704-B5F1-3BBED72D54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6 Should a repeater cause harmful interference to another repeater when a frequency coordinator has recommended the operation of one station only, who is responsible for resolving the interference?</a:t>
            </a:r>
            <a:endParaRPr b="1" lang="en-US" sz="3000" spc="-1" strike="noStrike">
              <a:solidFill>
                <a:srgbClr val="ffff00"/>
              </a:solidFill>
              <a:latin typeface="Tahoma"/>
            </a:endParaRPr>
          </a:p>
        </p:txBody>
      </p:sp>
      <p:sp>
        <p:nvSpPr>
          <p:cNvPr id="314"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icensee of the uncoordinated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oth repeater licens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licensee of the recommended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requency coordin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8C4286A6-CEFA-4C8D-B1FC-2A5FB05FA09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6 Should a repeater cause harmful interference to another repeater when a frequency coordinator has recommended the operation of one station only, who is responsible for resolving the interference?</a:t>
            </a:r>
            <a:endParaRPr b="1" lang="en-US" sz="3000" spc="-1" strike="noStrike">
              <a:solidFill>
                <a:srgbClr val="ffff00"/>
              </a:solidFill>
              <a:latin typeface="Tahoma"/>
            </a:endParaRPr>
          </a:p>
        </p:txBody>
      </p:sp>
      <p:sp>
        <p:nvSpPr>
          <p:cNvPr id="316"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licensee of the uncoordinated repea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oth repeater licens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licensee of the recommended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requency coordin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54FFD93-C27F-4051-9767-39C9376A2A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7 What does it mean where the FCC rules say that the amateur service is a secondary user and another service is a primary user?</a:t>
            </a:r>
            <a:endParaRPr b="1" lang="en-US" sz="3000" spc="-1" strike="noStrike">
              <a:solidFill>
                <a:srgbClr val="ffff00"/>
              </a:solidFill>
              <a:latin typeface="Tahoma"/>
            </a:endParaRPr>
          </a:p>
        </p:txBody>
      </p:sp>
      <p:sp>
        <p:nvSpPr>
          <p:cNvPr id="3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thing special; all users of the frequency band have equal rights to ope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 stations are only allowed to use the frequency band during emerg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ateur stations are allowed to use the frequency band only if they do not cause harmful interference to primary us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ateur stations must increase transmitter power to overcome any interference caused by primary us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8D1B04A3-31D1-47A2-8D03-1002330823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7 What does it mean where the FCC rules say that the amateur service is a secondary user and another service is a primary user?</a:t>
            </a:r>
            <a:endParaRPr b="1" lang="en-US" sz="3000" spc="-1" strike="noStrike">
              <a:solidFill>
                <a:srgbClr val="ffff00"/>
              </a:solidFill>
              <a:latin typeface="Tahoma"/>
            </a:endParaRPr>
          </a:p>
        </p:txBody>
      </p:sp>
      <p:sp>
        <p:nvSpPr>
          <p:cNvPr id="3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thing special; all users of the frequency band have equal rights to ope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 stations are only allowed to use the frequency band during emergenci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mateur stations are allowed to use the frequency band only if they do not cause harmful interference to primary use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ateur stations must increase transmitter power to overcome any interference caused by primary us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38F7232-3BD2-4FEC-BD1D-D6CAD9FF04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8 What action must you take while using the 30-meter band when a station assigned to the band's primary service causes interference?</a:t>
            </a:r>
            <a:endParaRPr b="1" lang="en-US" sz="3000" spc="-1" strike="noStrike">
              <a:solidFill>
                <a:srgbClr val="ffff00"/>
              </a:solidFill>
              <a:latin typeface="Tahoma"/>
            </a:endParaRPr>
          </a:p>
        </p:txBody>
      </p:sp>
      <p:sp>
        <p:nvSpPr>
          <p:cNvPr id="3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tify the FCC's regional Engineer in Charge of the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crease your transmitter's power to overcome the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tempt to contact the station and request that it stop the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nge frequencies; you may be causing harmful interference to the other station, in violation of FCC rul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CBDE60A4-9166-40FE-879A-9324AA16BB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04920"/>
            <a:ext cx="88394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4 What are the frequency privileges for a General Class control operator in the 30-meter band?</a:t>
            </a:r>
            <a:br>
              <a:rPr sz="3000"/>
            </a:br>
            <a:endParaRPr b="1" lang="en-US" sz="3000" spc="-1" strike="noStrike">
              <a:solidFill>
                <a:srgbClr val="ffff00"/>
              </a:solidFill>
              <a:latin typeface="Tahoma"/>
            </a:endParaRPr>
          </a:p>
        </p:txBody>
      </p:sp>
      <p:sp>
        <p:nvSpPr>
          <p:cNvPr id="1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100 - 101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100 - 10175-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125 - 101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125 - 10175-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7987DAC-0216-4C60-B33F-EB93C67DA3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8 What action must you take while using the 30-meter band when a station assigned to the band's primary service causes interference?</a:t>
            </a:r>
            <a:endParaRPr b="1" lang="en-US" sz="3000" spc="-1" strike="noStrike">
              <a:solidFill>
                <a:srgbClr val="ffff00"/>
              </a:solidFill>
              <a:latin typeface="Tahoma"/>
            </a:endParaRPr>
          </a:p>
        </p:txBody>
      </p:sp>
      <p:sp>
        <p:nvSpPr>
          <p:cNvPr id="3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tify the FCC's regional Engineer in Charge of the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crease your transmitter's power to overcome the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tempt to contact the station and request that it stop the interfere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Change frequencies; you may be causing harmful interference to the other station, in violation of FCC rul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15061A3-60BC-4845-B524-CE0B4BBC8C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9 While you are using a language other than English in making a contact, what language must you use when identifying your station?</a:t>
            </a:r>
            <a:endParaRPr b="1" lang="en-US" sz="3000" spc="-1" strike="noStrike">
              <a:solidFill>
                <a:srgbClr val="ffff00"/>
              </a:solidFill>
              <a:latin typeface="Tahoma"/>
            </a:endParaRPr>
          </a:p>
        </p:txBody>
      </p:sp>
      <p:sp>
        <p:nvSpPr>
          <p:cNvPr id="3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anguage being used for the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language being used for the contact, provided the US has a third-party communications agreement with that count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nglis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language of a country that is a member of the International Telecommunication Un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4D2C5F5-2216-47DF-946B-6114EA55C2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9 While you are using a language other than English in making a contact, what language must you use when identifying your station?</a:t>
            </a:r>
            <a:endParaRPr b="1" lang="en-US" sz="3000" spc="-1" strike="noStrike">
              <a:solidFill>
                <a:srgbClr val="ffff00"/>
              </a:solidFill>
              <a:latin typeface="Tahoma"/>
            </a:endParaRPr>
          </a:p>
        </p:txBody>
      </p:sp>
      <p:sp>
        <p:nvSpPr>
          <p:cNvPr id="3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anguage being used for the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language being used for the contact, provided the US has a third-party communications agreement with that countr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English</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language of a country that is a member of the International Telecommunication Un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D37CF15-055A-433D-9340-96CA522F8B4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10 What protection from harmful interference caused by primary service users do amateur radio stations have while operating in the 60-meter band?</a:t>
            </a:r>
            <a:endParaRPr b="1" lang="en-US" sz="3000" spc="-1" strike="noStrike">
              <a:solidFill>
                <a:srgbClr val="ffff00"/>
              </a:solidFill>
              <a:latin typeface="Tahoma"/>
            </a:endParaRPr>
          </a:p>
        </p:txBody>
      </p:sp>
      <p:sp>
        <p:nvSpPr>
          <p:cNvPr id="3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tations in the mobile and fixed service must not interfere with amateu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ations in the mobile and fixed service must not interfere if an amateur station is already on th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tions in the mobile and fixed service must not interfere with amateur stations if they are located in ITU Region 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104BC50-A994-43D2-8D30-91B1717D45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10 What protection from harmful interference caused by primary service users do amateur radio stations have while operating in the 60-meter band?</a:t>
            </a:r>
            <a:endParaRPr b="1" lang="en-US" sz="3000" spc="-1" strike="noStrike">
              <a:solidFill>
                <a:srgbClr val="ffff00"/>
              </a:solidFill>
              <a:latin typeface="Tahoma"/>
            </a:endParaRPr>
          </a:p>
        </p:txBody>
      </p:sp>
      <p:sp>
        <p:nvSpPr>
          <p:cNvPr id="3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No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tations in the mobile and fixed service must not interfere with amateu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ations in the mobile and fixed service must not interfere if an amateur station is already on th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tions in the mobile and fixed service must not interfere with amateur stations if they are located in ITU Region 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A2A9CE4-8586-4BD2-ABB2-1007CDE015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11 What operating restrictions must amateur radio stations observe while operating in the 60-meter band?</a:t>
            </a:r>
            <a:endParaRPr b="1" lang="en-US" sz="3000" spc="-1" strike="noStrike">
              <a:solidFill>
                <a:srgbClr val="ffff00"/>
              </a:solidFill>
              <a:latin typeface="Tahoma"/>
            </a:endParaRPr>
          </a:p>
        </p:txBody>
      </p:sp>
      <p:sp>
        <p:nvSpPr>
          <p:cNvPr id="3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must not cause harmful interference to stations operating in other radio servi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must transmit no more than 30 minutes during each hour to minimize harmful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must use lower sideband, suppressed-carrier,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must not exceed 2.0 kHz of bandwidt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1E7BFAE-5AC7-438A-A56F-70BE8B6EDE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11 What operating restrictions must amateur radio stations observe while operating in the 60-meter band?</a:t>
            </a:r>
            <a:endParaRPr b="1" lang="en-US" sz="3000" spc="-1" strike="noStrike">
              <a:solidFill>
                <a:srgbClr val="ffff00"/>
              </a:solidFill>
              <a:latin typeface="Tahoma"/>
            </a:endParaRPr>
          </a:p>
        </p:txBody>
      </p:sp>
      <p:sp>
        <p:nvSpPr>
          <p:cNvPr id="3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y must not cause harmful interference to stations operating in other radio servic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must transmit no more than 30 minutes during each hour to minimize harmful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must use lower sideband, suppressed-carrier,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must not exceed 2.0 kHz of bandwidt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6B94A76-384A-4609-82D4-8C8A1745F8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12 What must be done at an amateur radio station while it is transmitting third party messages?</a:t>
            </a:r>
            <a:endParaRPr b="1" lang="en-US" sz="3000" spc="-1" strike="noStrike">
              <a:solidFill>
                <a:srgbClr val="ffff00"/>
              </a:solidFill>
              <a:latin typeface="Tahoma"/>
            </a:endParaRPr>
          </a:p>
        </p:txBody>
      </p:sp>
      <p:sp>
        <p:nvSpPr>
          <p:cNvPr id="3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Keep a station log of when the message was handl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local or remote station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dentify both stations that handle the mess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local, remote or automatic station contro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3D7BB90-D2C4-4B8E-A103-0D218B4C2D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12 What must be done at an amateur radio station while it is transmitting third party messages?</a:t>
            </a:r>
            <a:endParaRPr b="1" lang="en-US" sz="3000" spc="-1" strike="noStrike">
              <a:solidFill>
                <a:srgbClr val="ffff00"/>
              </a:solidFill>
              <a:latin typeface="Tahoma"/>
            </a:endParaRPr>
          </a:p>
        </p:txBody>
      </p:sp>
      <p:sp>
        <p:nvSpPr>
          <p:cNvPr id="3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Keep a station log of when the message was handl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Use local or remote station contro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dentify both stations that handle the mess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local, remote or automatic station contro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E87F68FC-5C9A-453C-B69C-828C15D1A1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1 External RF power amplifiers designed to operate below what frequency may require FCC certification?</a:t>
            </a:r>
            <a:endParaRPr b="1" lang="en-US" sz="3000" spc="-1" strike="noStrike">
              <a:solidFill>
                <a:srgbClr val="ffff00"/>
              </a:solidFill>
              <a:latin typeface="Tahoma"/>
            </a:endParaRPr>
          </a:p>
        </p:txBody>
      </p:sp>
      <p:sp>
        <p:nvSpPr>
          <p:cNvPr id="3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4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17BF4D4-13EF-4EAE-B8E4-ADA6A2CF3D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4 What are the frequency privileges for a General Class control operator in the 30-meter band?</a:t>
            </a:r>
            <a:endParaRPr b="1" lang="en-US" sz="3000" spc="-1" strike="noStrike">
              <a:solidFill>
                <a:srgbClr val="ffff00"/>
              </a:solidFill>
              <a:latin typeface="Tahoma"/>
            </a:endParaRPr>
          </a:p>
        </p:txBody>
      </p:sp>
      <p:sp>
        <p:nvSpPr>
          <p:cNvPr id="1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0100 - 10150-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100 - 10175-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125 - 101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125 - 10175-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E16D6A2-4CA3-42B0-AB8F-4826CC23E7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1 External RF power amplifiers designed to operate below what frequency may require FCC certification?</a:t>
            </a:r>
            <a:endParaRPr b="1" lang="en-US" sz="3000" spc="-1" strike="noStrike">
              <a:solidFill>
                <a:srgbClr val="ffff00"/>
              </a:solidFill>
              <a:latin typeface="Tahoma"/>
            </a:endParaRPr>
          </a:p>
        </p:txBody>
      </p:sp>
      <p:sp>
        <p:nvSpPr>
          <p:cNvPr id="3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144 M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EBEA304-FFDA-44D0-B3B4-D6555DB871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0"/>
            <a:ext cx="8839440" cy="15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RF Linear Power Amplifier</a:t>
            </a:r>
            <a:endParaRPr b="1" lang="en-US" sz="3000" spc="-1" strike="noStrike">
              <a:solidFill>
                <a:srgbClr val="ffff00"/>
              </a:solidFill>
              <a:latin typeface="Tahoma"/>
            </a:endParaRPr>
          </a:p>
        </p:txBody>
      </p:sp>
      <p:pic>
        <p:nvPicPr>
          <p:cNvPr id="346" name="" descr=""/>
          <p:cNvPicPr/>
          <p:nvPr/>
        </p:nvPicPr>
        <p:blipFill>
          <a:blip r:embed="rId1"/>
          <a:srcRect l="2806" t="7652" r="3742" b="6851"/>
          <a:stretch/>
        </p:blipFill>
        <p:spPr>
          <a:xfrm>
            <a:off x="533520" y="1905120"/>
            <a:ext cx="8076960" cy="4117680"/>
          </a:xfrm>
          <a:prstGeom prst="rect">
            <a:avLst/>
          </a:prstGeom>
          <a:ln w="0">
            <a:noFill/>
          </a:ln>
        </p:spPr>
      </p:pic>
      <p:sp>
        <p:nvSpPr>
          <p:cNvPr id="3" name="PlaceHolder 2"/>
          <p:cNvSpPr>
            <a:spLocks noGrp="1"/>
          </p:cNvSpPr>
          <p:nvPr>
            <p:ph type="ftr" idx="1"/>
          </p:nvPr>
        </p:nvSpPr>
        <p:spPr/>
        <p:txBody>
          <a:bodyPr/>
          <a:p>
            <a:r>
              <a:t>Commission's Rules</a:t>
            </a:r>
          </a:p>
        </p:txBody>
      </p:sp>
      <p:sp>
        <p:nvSpPr>
          <p:cNvPr id="4" name="PlaceHolder 3"/>
          <p:cNvSpPr>
            <a:spLocks noGrp="1"/>
          </p:cNvSpPr>
          <p:nvPr>
            <p:ph type="sldNum" idx="2"/>
          </p:nvPr>
        </p:nvSpPr>
        <p:spPr/>
        <p:txBody>
          <a:bodyPr/>
          <a:p>
            <a:fld id="{E72D1B14-1439-4A71-AF62-4CA5719A658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2 Without a grant of FCC certification, how many external RF amplifiers of a given design capable of operation below 144 MHz may you build or modify in one calendar year?</a:t>
            </a:r>
            <a:endParaRPr b="1" lang="en-US" sz="3000" spc="-1" strike="noStrike">
              <a:solidFill>
                <a:srgbClr val="ffff00"/>
              </a:solidFill>
              <a:latin typeface="Tahoma"/>
            </a:endParaRPr>
          </a:p>
        </p:txBody>
      </p:sp>
      <p:sp>
        <p:nvSpPr>
          <p:cNvPr id="348"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87A94AF-3982-401D-828D-00C89D9BA1C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2 Without a grant of FCC certification, how many external RF amplifiers of a given design capable of operation below 144 MHz may you build or modify in one calendar year?</a:t>
            </a:r>
            <a:endParaRPr b="1" lang="en-US" sz="3000" spc="-1" strike="noStrike">
              <a:solidFill>
                <a:srgbClr val="ffff00"/>
              </a:solidFill>
              <a:latin typeface="Tahoma"/>
            </a:endParaRPr>
          </a:p>
        </p:txBody>
      </p:sp>
      <p:sp>
        <p:nvSpPr>
          <p:cNvPr id="350"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n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5C9592C-5A36-4824-80AD-9FE744E9888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3 Which of the following standards must be met where FCC certification of an external RF amplifier is required?</a:t>
            </a:r>
            <a:endParaRPr b="1" lang="en-US" sz="3000" spc="-1" strike="noStrike">
              <a:solidFill>
                <a:srgbClr val="ffff00"/>
              </a:solidFill>
              <a:latin typeface="Tahoma"/>
            </a:endParaRPr>
          </a:p>
        </p:txBody>
      </p:sp>
      <p:sp>
        <p:nvSpPr>
          <p:cNvPr id="3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4000"/>
          </a:bodyPr>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amplifier must not be able to amplify a 28-MHz signal to more than ten times the input power</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mplifier must not be capable of reaching its designed output power when driven with less than 50 watt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mplifier must not be able to be operated for more than ten minutes without a time delay circuit</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mplifier must not be able to be modified by an amateur op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7395874-621F-420B-9738-F5A934DE04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3 Which of the following standards must be met where FCC certification of an external RF amplifier is required?</a:t>
            </a:r>
            <a:endParaRPr b="1" lang="en-US" sz="3000" spc="-1" strike="noStrike">
              <a:solidFill>
                <a:srgbClr val="ffff00"/>
              </a:solidFill>
              <a:latin typeface="Tahoma"/>
            </a:endParaRPr>
          </a:p>
        </p:txBody>
      </p:sp>
      <p:sp>
        <p:nvSpPr>
          <p:cNvPr id="3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amplifier must not be able to amplify a 28-MHz signal to more than ten times the input pow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amplifier must not be capable of reaching its designed output power when driven with less than 50 watts</a:t>
            </a:r>
            <a:endParaRPr b="1" lang="en-US" sz="2600" spc="-1" strike="noStrike">
              <a:solidFill>
                <a:srgbClr val="ffff00"/>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mplifier must not be able to be operated for more than ten minutes without a time delay circuit</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amplifier must not be able to be modified by an amateur op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07F526FE-1009-47D9-BE7E-464161B421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4 Which of the following would NOT disqualify an external RF power amplifier from a FCC certification grant?</a:t>
            </a:r>
            <a:endParaRPr b="1" lang="en-US" sz="3000" spc="-1" strike="noStrike">
              <a:solidFill>
                <a:srgbClr val="ffff00"/>
              </a:solidFill>
              <a:latin typeface="Tahoma"/>
            </a:endParaRPr>
          </a:p>
        </p:txBody>
      </p:sp>
      <p:sp>
        <p:nvSpPr>
          <p:cNvPr id="3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4000"/>
          </a:bodyPr>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apability of being modified by the operator for use outside the amateur service band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capability of achieving full output power when driven with less than 50 watt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capability of achieving full output power on amateur service frequencies between 24 and 35 MHz</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capability of being switched by the operator to all amateur service frequencies below 2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83C804F-154D-4424-84B0-54DA00900B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4 Which of the following would NOT disqualify an external RF power amplifier from a FCC certification grant?</a:t>
            </a:r>
            <a:endParaRPr b="1" lang="en-US" sz="3000" spc="-1" strike="noStrike">
              <a:solidFill>
                <a:srgbClr val="ffff00"/>
              </a:solidFill>
              <a:latin typeface="Tahoma"/>
            </a:endParaRPr>
          </a:p>
        </p:txBody>
      </p:sp>
      <p:sp>
        <p:nvSpPr>
          <p:cNvPr id="3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apability of being modified by the operator for use outside the amateur service bands</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capability of achieving full output power when driven with less than 50 watts</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capability of achieving full output power on amateur service frequencies between 24 and 35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capability of being switched by the operator to all amateur service frequencies below 24 M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0E86E33-9A68-420B-879D-4070887425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Maximum Data/Symbol Rates</a:t>
            </a:r>
            <a:endParaRPr b="1" lang="en-US" sz="3000" spc="-1" strike="noStrike">
              <a:solidFill>
                <a:srgbClr val="ffff00"/>
              </a:solidFill>
              <a:latin typeface="Tahoma"/>
            </a:endParaRPr>
          </a:p>
        </p:txBody>
      </p:sp>
      <p:sp>
        <p:nvSpPr>
          <p:cNvPr id="360" name="PlaceHolder 2"/>
          <p:cNvSpPr>
            <a:spLocks noGrp="1"/>
          </p:cNvSpPr>
          <p:nvPr>
            <p:ph/>
          </p:nvPr>
        </p:nvSpPr>
        <p:spPr>
          <a:xfrm>
            <a:off x="304920" y="2133720"/>
            <a:ext cx="8610480" cy="4495680"/>
          </a:xfrm>
          <a:prstGeom prst="rect">
            <a:avLst/>
          </a:prstGeom>
          <a:noFill/>
          <a:ln w="0">
            <a:noFill/>
          </a:ln>
        </p:spPr>
        <p:txBody>
          <a:bodyPr lIns="90000" rIns="90000" tIns="46800" bIns="46800" anchor="t">
            <a:normAutofit/>
          </a:bodyPr>
          <a:p>
            <a:pPr indent="0">
              <a:spcBef>
                <a:spcPts val="649"/>
              </a:spcBef>
              <a:buNone/>
              <a:tabLst>
                <a:tab algn="l" pos="0"/>
                <a:tab algn="l" pos="914400"/>
                <a:tab algn="l" pos="5950080"/>
                <a:tab algn="l" pos="6400800"/>
                <a:tab algn="l" pos="7315200"/>
                <a:tab algn="l" pos="8229600"/>
                <a:tab algn="l" pos="9144000"/>
                <a:tab algn="l" pos="10058400"/>
              </a:tabLst>
            </a:pPr>
            <a:r>
              <a:rPr b="0" lang="en-US" sz="2600" spc="-1" strike="noStrike">
                <a:solidFill>
                  <a:srgbClr val="ffffff"/>
                </a:solidFill>
                <a:latin typeface="Tahoma"/>
              </a:rPr>
              <a:t>Below 10 meters (28 MHz)</a:t>
            </a:r>
            <a:r>
              <a:rPr b="0" lang="en-US" sz="2600" spc="-1" strike="noStrike">
                <a:solidFill>
                  <a:srgbClr val="ffffff"/>
                </a:solidFill>
                <a:latin typeface="Tahoma"/>
              </a:rPr>
              <a:t>	</a:t>
            </a:r>
            <a:r>
              <a:rPr b="0" lang="en-US" sz="2600" spc="-1" strike="noStrike">
                <a:solidFill>
                  <a:srgbClr val="ffffff"/>
                </a:solidFill>
                <a:latin typeface="Tahoma"/>
              </a:rPr>
              <a:t>300 baud</a:t>
            </a:r>
            <a:endParaRPr b="1" lang="en-US" sz="2600" spc="-1" strike="noStrike">
              <a:solidFill>
                <a:srgbClr val="ffff00"/>
              </a:solidFill>
              <a:latin typeface="Tahoma"/>
            </a:endParaRPr>
          </a:p>
          <a:p>
            <a:pPr indent="0">
              <a:spcBef>
                <a:spcPts val="649"/>
              </a:spcBef>
              <a:buNone/>
              <a:tabLst>
                <a:tab algn="l" pos="0"/>
                <a:tab algn="l" pos="914400"/>
                <a:tab algn="l" pos="5950080"/>
                <a:tab algn="l" pos="6400800"/>
                <a:tab algn="l" pos="7315200"/>
                <a:tab algn="l" pos="8229600"/>
                <a:tab algn="l" pos="9144000"/>
                <a:tab algn="l" pos="10058400"/>
              </a:tabLst>
            </a:pPr>
            <a:r>
              <a:rPr b="0" lang="en-US" sz="2600" spc="-1" strike="noStrike">
                <a:solidFill>
                  <a:srgbClr val="ffffff"/>
                </a:solidFill>
                <a:latin typeface="Tahoma"/>
              </a:rPr>
              <a:t>10 meter band</a:t>
            </a:r>
            <a:r>
              <a:rPr b="0" lang="en-US" sz="2600" spc="-1" strike="noStrike">
                <a:solidFill>
                  <a:srgbClr val="ffffff"/>
                </a:solidFill>
                <a:latin typeface="Tahoma"/>
              </a:rPr>
              <a:t>	</a:t>
            </a:r>
            <a:r>
              <a:rPr b="0" lang="en-US" sz="2600" spc="-1" strike="noStrike">
                <a:solidFill>
                  <a:srgbClr val="ffffff"/>
                </a:solidFill>
                <a:latin typeface="Tahoma"/>
              </a:rPr>
              <a:t>1200 baud</a:t>
            </a:r>
            <a:endParaRPr b="1" lang="en-US" sz="2600" spc="-1" strike="noStrike">
              <a:solidFill>
                <a:srgbClr val="ffff00"/>
              </a:solidFill>
              <a:latin typeface="Tahoma"/>
            </a:endParaRPr>
          </a:p>
          <a:p>
            <a:pPr indent="0">
              <a:spcBef>
                <a:spcPts val="649"/>
              </a:spcBef>
              <a:buNone/>
              <a:tabLst>
                <a:tab algn="l" pos="0"/>
                <a:tab algn="l" pos="914400"/>
                <a:tab algn="l" pos="5950080"/>
                <a:tab algn="l" pos="6400800"/>
                <a:tab algn="l" pos="7315200"/>
                <a:tab algn="l" pos="8229600"/>
                <a:tab algn="l" pos="9144000"/>
                <a:tab algn="l" pos="10058400"/>
              </a:tabLst>
            </a:pPr>
            <a:r>
              <a:rPr b="0" lang="en-US" sz="2600" spc="-1" strike="noStrike">
                <a:solidFill>
                  <a:srgbClr val="ffffff"/>
                </a:solidFill>
                <a:latin typeface="Tahoma"/>
              </a:rPr>
              <a:t>6 and 2 meter bands</a:t>
            </a:r>
            <a:r>
              <a:rPr b="0" lang="en-US" sz="2600" spc="-1" strike="noStrike">
                <a:solidFill>
                  <a:srgbClr val="ffffff"/>
                </a:solidFill>
                <a:latin typeface="Tahoma"/>
              </a:rPr>
              <a:t>	</a:t>
            </a:r>
            <a:r>
              <a:rPr b="0" lang="en-US" sz="2600" spc="-1" strike="noStrike">
                <a:solidFill>
                  <a:srgbClr val="ffffff"/>
                </a:solidFill>
                <a:latin typeface="Tahoma"/>
              </a:rPr>
              <a:t>19.6 kilobaud</a:t>
            </a:r>
            <a:endParaRPr b="1" lang="en-US" sz="2600" spc="-1" strike="noStrike">
              <a:solidFill>
                <a:srgbClr val="ffff00"/>
              </a:solidFill>
              <a:latin typeface="Tahoma"/>
            </a:endParaRPr>
          </a:p>
          <a:p>
            <a:pPr indent="0">
              <a:spcBef>
                <a:spcPts val="649"/>
              </a:spcBef>
              <a:buNone/>
              <a:tabLst>
                <a:tab algn="l" pos="0"/>
                <a:tab algn="l" pos="914400"/>
                <a:tab algn="l" pos="5950080"/>
                <a:tab algn="l" pos="6400800"/>
                <a:tab algn="l" pos="7315200"/>
                <a:tab algn="l" pos="8229600"/>
                <a:tab algn="l" pos="9144000"/>
                <a:tab algn="l" pos="10058400"/>
              </a:tabLst>
            </a:pPr>
            <a:r>
              <a:rPr b="0" lang="en-US" sz="2600" spc="-1" strike="noStrike">
                <a:solidFill>
                  <a:srgbClr val="ffffff"/>
                </a:solidFill>
                <a:latin typeface="Tahoma"/>
              </a:rPr>
              <a:t>1.25 meter and 70cm bands</a:t>
            </a:r>
            <a:r>
              <a:rPr b="0" lang="en-US" sz="2600" spc="-1" strike="noStrike">
                <a:solidFill>
                  <a:srgbClr val="ffffff"/>
                </a:solidFill>
                <a:latin typeface="Tahoma"/>
              </a:rPr>
              <a:t>	</a:t>
            </a:r>
            <a:r>
              <a:rPr b="0" lang="en-US" sz="2600" spc="-1" strike="noStrike">
                <a:solidFill>
                  <a:srgbClr val="ffffff"/>
                </a:solidFill>
                <a:latin typeface="Tahoma"/>
              </a:rPr>
              <a:t>56 kilobaud</a:t>
            </a:r>
            <a:endParaRPr b="1" lang="en-US" sz="2600" spc="-1" strike="noStrike">
              <a:solidFill>
                <a:srgbClr val="ffff00"/>
              </a:solidFill>
              <a:latin typeface="Tahoma"/>
            </a:endParaRPr>
          </a:p>
          <a:p>
            <a:pPr indent="0">
              <a:spcBef>
                <a:spcPts val="649"/>
              </a:spcBef>
              <a:buNone/>
              <a:tabLst>
                <a:tab algn="l" pos="0"/>
                <a:tab algn="l" pos="914400"/>
                <a:tab algn="l" pos="5950080"/>
                <a:tab algn="l" pos="6400800"/>
                <a:tab algn="l" pos="7315200"/>
                <a:tab algn="l" pos="8229600"/>
                <a:tab algn="l" pos="9144000"/>
                <a:tab algn="l" pos="10058400"/>
              </a:tabLst>
            </a:pPr>
            <a:r>
              <a:rPr b="0" lang="en-US" sz="2600" spc="-1" strike="noStrike">
                <a:solidFill>
                  <a:srgbClr val="ffffff"/>
                </a:solidFill>
                <a:latin typeface="Tahoma"/>
              </a:rPr>
              <a:t>33cm and higher</a:t>
            </a:r>
            <a:r>
              <a:rPr b="0" lang="en-US" sz="2600" spc="-1" strike="noStrike">
                <a:solidFill>
                  <a:srgbClr val="ffffff"/>
                </a:solidFill>
                <a:latin typeface="Tahoma"/>
              </a:rPr>
              <a:t>	</a:t>
            </a:r>
            <a:r>
              <a:rPr b="0" lang="en-US" sz="2600" spc="-1" strike="noStrike">
                <a:solidFill>
                  <a:srgbClr val="ffffff"/>
                </a:solidFill>
                <a:latin typeface="Tahoma"/>
              </a:rPr>
              <a:t>Unspecifie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1916E19-0ACE-4A6B-A663-E8362017C0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5 What is the maximum symbol rate permitted for RTTY emissions transmitted on frequency bands below 10 meters?</a:t>
            </a:r>
            <a:endParaRPr b="1" lang="en-US" sz="3000" spc="-1" strike="noStrike">
              <a:solidFill>
                <a:srgbClr val="ffff00"/>
              </a:solidFill>
              <a:latin typeface="Tahoma"/>
            </a:endParaRPr>
          </a:p>
        </p:txBody>
      </p:sp>
      <p:sp>
        <p:nvSpPr>
          <p:cNvPr id="3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9.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0 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bau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E19A90F3-2371-4EE8-9457-DDACEF8BDC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5 What are the frequency privileges for a General Class control operator in the 20-meter band?</a:t>
            </a:r>
            <a:endParaRPr b="1" lang="en-US" sz="3000" spc="-1" strike="noStrike">
              <a:solidFill>
                <a:srgbClr val="ffff00"/>
              </a:solidFill>
              <a:latin typeface="Tahoma"/>
            </a:endParaRPr>
          </a:p>
        </p:txBody>
      </p:sp>
      <p:sp>
        <p:nvSpPr>
          <p:cNvPr id="1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025 - 14100-kHz and 14175 - 143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025 - 14150-kHz and 14225 - 143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025 - 14125-kHz and 14200 - 143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4025 - 14175-kHz and 14250 - 1435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9006E5D-F914-4B46-A09C-E17D7E217A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5 What is the maximum symbol rate permitted for RTTY emissions transmitted on frequency bands below 10 meters?</a:t>
            </a:r>
            <a:endParaRPr b="1" lang="en-US" sz="3000" spc="-1" strike="noStrike">
              <a:solidFill>
                <a:srgbClr val="ffff00"/>
              </a:solidFill>
              <a:latin typeface="Tahoma"/>
            </a:endParaRPr>
          </a:p>
        </p:txBody>
      </p:sp>
      <p:sp>
        <p:nvSpPr>
          <p:cNvPr id="3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9.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0 baud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300 baud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80E60A4B-2C03-485A-A0F7-FCA0C87658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6 What is the maximum symbol rate permitted for packet emission on the 2-meter band?</a:t>
            </a:r>
            <a:endParaRPr b="1" lang="en-US" sz="3000" spc="-1" strike="noStrike">
              <a:solidFill>
                <a:srgbClr val="ffff00"/>
              </a:solidFill>
              <a:latin typeface="Tahoma"/>
            </a:endParaRPr>
          </a:p>
        </p:txBody>
      </p:sp>
      <p:sp>
        <p:nvSpPr>
          <p:cNvPr id="3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00 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00 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9.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6 kilobau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EAEFDE0-9785-4AAF-870B-5AA2460E4D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6 What is the maximum symbol rate permitted for packet emission on the 2-meter band?</a:t>
            </a:r>
            <a:endParaRPr b="1" lang="en-US" sz="3000" spc="-1" strike="noStrike">
              <a:solidFill>
                <a:srgbClr val="ffff00"/>
              </a:solidFill>
              <a:latin typeface="Tahoma"/>
            </a:endParaRPr>
          </a:p>
        </p:txBody>
      </p:sp>
      <p:sp>
        <p:nvSpPr>
          <p:cNvPr id="3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00 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00 baud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9.6 kilobaud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6 kilobau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659A748-F6EE-40A8-9921-8B89E1E0AD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7 What is the maximum symbol rate permitted for RTTY or data emission on the 10-meter band?</a:t>
            </a:r>
            <a:endParaRPr b="1" lang="en-US" sz="3000" spc="-1" strike="noStrike">
              <a:solidFill>
                <a:srgbClr val="ffff00"/>
              </a:solidFill>
              <a:latin typeface="Tahoma"/>
            </a:endParaRPr>
          </a:p>
        </p:txBody>
      </p:sp>
      <p:sp>
        <p:nvSpPr>
          <p:cNvPr id="3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9.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0 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bau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6C7FE9F-680F-4A23-A3D6-40A153078E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7 What is the maximum symbol rate permitted for RTTY or data emission on the 10-meter band?</a:t>
            </a:r>
            <a:endParaRPr b="1" lang="en-US" sz="3000" spc="-1" strike="noStrike">
              <a:solidFill>
                <a:srgbClr val="ffff00"/>
              </a:solidFill>
              <a:latin typeface="Tahoma"/>
            </a:endParaRPr>
          </a:p>
        </p:txBody>
      </p:sp>
      <p:sp>
        <p:nvSpPr>
          <p:cNvPr id="3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9.6 kilobaud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200 baud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bau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EDC686C-161D-4F9A-A697-98B1D368D99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8 What is the maximum symbol rate permitted for RTTY or data emission on the 6- and 2-meter bands?</a:t>
            </a:r>
            <a:endParaRPr b="1" lang="en-US" sz="3000" spc="-1" strike="noStrike">
              <a:solidFill>
                <a:srgbClr val="ffff00"/>
              </a:solidFill>
              <a:latin typeface="Tahoma"/>
            </a:endParaRPr>
          </a:p>
        </p:txBody>
      </p:sp>
      <p:sp>
        <p:nvSpPr>
          <p:cNvPr id="3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9.6 kilo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0 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bau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1C19227D-2131-4CD8-B8AD-675552B643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8 What is the maximum symbol rate permitted for RTTY or data emission on the 6- and 2-meter bands?</a:t>
            </a:r>
            <a:endParaRPr b="1" lang="en-US" sz="3000" spc="-1" strike="noStrike">
              <a:solidFill>
                <a:srgbClr val="ffff00"/>
              </a:solidFill>
              <a:latin typeface="Tahoma"/>
            </a:endParaRPr>
          </a:p>
        </p:txBody>
      </p:sp>
      <p:sp>
        <p:nvSpPr>
          <p:cNvPr id="3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6 kilobaud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9.6 kilobaud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0 bau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bau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173D4FA-9B1B-40DC-B487-9EB17943C6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09 What is the maximum authorized bandwidth for RTTY, data or multiplexed emissions using an unspecified digital code transmitted on the 6- and 2-meter bands?</a:t>
            </a:r>
            <a:endParaRPr b="1" lang="en-US" sz="3000" spc="-1" strike="noStrike">
              <a:solidFill>
                <a:srgbClr val="ffff00"/>
              </a:solidFill>
              <a:latin typeface="Tahoma"/>
            </a:endParaRPr>
          </a:p>
        </p:txBody>
      </p:sp>
      <p:sp>
        <p:nvSpPr>
          <p:cNvPr id="3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otal bandwidth shall not exceed that of a single-sideband phone e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total bandwidth shall not exceed 10 times that of a CW e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5034C21-88E1-47CD-A689-15D57D5005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09 What is the maximum authorized bandwidth for RTTY, data or multiplexed emissions using an unspecified digital code transmitted on the 6- and 2-meter bands?</a:t>
            </a:r>
            <a:endParaRPr b="1" lang="en-US" sz="3000" spc="-1" strike="noStrike">
              <a:solidFill>
                <a:srgbClr val="ffff00"/>
              </a:solidFill>
              <a:latin typeface="Tahoma"/>
            </a:endParaRPr>
          </a:p>
        </p:txBody>
      </p:sp>
      <p:sp>
        <p:nvSpPr>
          <p:cNvPr id="3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0 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otal bandwidth shall not exceed that of a single-sideband phone e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total bandwidth shall not exceed 10 times that of a CW e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A604D94-77CC-4D82-9FBC-1E63E6B7D1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F10 What must an external RF amplifier exhibit in order to receive a FCC grant of certification?</a:t>
            </a:r>
            <a:endParaRPr b="1" lang="en-US" sz="3000" spc="-1" strike="noStrike">
              <a:solidFill>
                <a:srgbClr val="ffff00"/>
              </a:solidFill>
              <a:latin typeface="Tahoma"/>
            </a:endParaRPr>
          </a:p>
        </p:txBody>
      </p:sp>
      <p:sp>
        <p:nvSpPr>
          <p:cNvPr id="3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must not be capable of operation on any frequency between 24 MHz and 3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s wiring must be accessible to permit modification of the amplif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must have an internal RF sensing switch to place the amplifier in the transmit mo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s manual must provide instructions for modification of the amplif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64A7D5D-495A-4F90-B1F2-AD105B24D0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5 What are the frequency privileges for a General Class control operator in the 20-meter band?</a:t>
            </a:r>
            <a:endParaRPr b="1" lang="en-US" sz="3000" spc="-1" strike="noStrike">
              <a:solidFill>
                <a:srgbClr val="ffff00"/>
              </a:solidFill>
              <a:latin typeface="Tahoma"/>
            </a:endParaRPr>
          </a:p>
        </p:txBody>
      </p:sp>
      <p:sp>
        <p:nvSpPr>
          <p:cNvPr id="1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025 - 14100-kHz and 14175 - 14350-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4025 - 14150-kHz and 14225 - 14350-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025 - 14125-kHz and 14200 - 143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4025 - 14175-kHz and 14250 - 1435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E910EC2-F6C0-47E2-ABD8-F302BD57B2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F10 What must an external RF amplifier exhibit in order to receive a FCC grant of certification?</a:t>
            </a:r>
            <a:endParaRPr b="1" lang="en-US" sz="3000" spc="-1" strike="noStrike">
              <a:solidFill>
                <a:srgbClr val="ffff00"/>
              </a:solidFill>
              <a:latin typeface="Tahoma"/>
            </a:endParaRPr>
          </a:p>
        </p:txBody>
      </p:sp>
      <p:sp>
        <p:nvSpPr>
          <p:cNvPr id="3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must not be capable of operation on any frequency between 24 MHz and 35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s wiring must be accessible to permit modification of the amplif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must have an internal RF sensing switch to place the amplifier in the transmit mo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s manual must provide instructions for modification of the amplif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12BAF86F-3B56-4B34-A412-8015650011DD}" type="slidenum">
              <a:t>140</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6 What are the frequency privileges for a General Class control operator in the 15-meter band?</a:t>
            </a:r>
            <a:endParaRPr b="1" lang="en-US" sz="3000" spc="-1" strike="noStrike">
              <a:solidFill>
                <a:srgbClr val="ffff00"/>
              </a:solidFill>
              <a:latin typeface="Tahoma"/>
            </a:endParaRPr>
          </a:p>
        </p:txBody>
      </p:sp>
      <p:sp>
        <p:nvSpPr>
          <p:cNvPr id="1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1025 - 21200-kHz and 21275 - 214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1025 - 21150-kHz and 21300 - 214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1025 - 21150-kHz and 21275 - 214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1025 - 21200-kHz and 21300 - 2145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F9D8DEA-7DD0-4904-83FE-B0530217B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6 What are the frequency privileges for a General Class control operator in the 15-meter band?</a:t>
            </a:r>
            <a:endParaRPr b="1" lang="en-US" sz="3000" spc="-1" strike="noStrike">
              <a:solidFill>
                <a:srgbClr val="ffff00"/>
              </a:solidFill>
              <a:latin typeface="Tahoma"/>
            </a:endParaRPr>
          </a:p>
        </p:txBody>
      </p:sp>
      <p:sp>
        <p:nvSpPr>
          <p:cNvPr id="1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1025 - 21200-kHz and 21275 - 214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1025 - 21150-kHz and 21300 - 214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1025 - 21150-kHz and 21275 - 21450-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21025 - 21200-kHz and 21300 - 21450-k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20E6F98-5E78-4E66-BF50-73E26430C3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7 What are the frequency privileges for a General Class control operator in the 12-meter band?</a:t>
            </a:r>
            <a:endParaRPr b="1" lang="en-US" sz="3000" spc="-1" strike="noStrike">
              <a:solidFill>
                <a:srgbClr val="ffff00"/>
              </a:solidFill>
              <a:latin typeface="Tahoma"/>
            </a:endParaRPr>
          </a:p>
        </p:txBody>
      </p:sp>
      <p:sp>
        <p:nvSpPr>
          <p:cNvPr id="1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4890 - 24975-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4890 - 2499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4900 - 2499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4900 - 24975-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958EC49-CA8D-404F-B067-6C143BB6AF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7 What are the frequency privileges for a General Class control operator in the 12-meter band?</a:t>
            </a:r>
            <a:endParaRPr b="1" lang="en-US" sz="3000" spc="-1" strike="noStrike">
              <a:solidFill>
                <a:srgbClr val="ffff00"/>
              </a:solidFill>
              <a:latin typeface="Tahoma"/>
            </a:endParaRPr>
          </a:p>
        </p:txBody>
      </p:sp>
      <p:sp>
        <p:nvSpPr>
          <p:cNvPr id="1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4890 - 24975-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24890 - 24990-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4900 - 2499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4900 - 24975-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DB03DE4-70D5-4101-8D82-69BFD2151E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8 What are the frequency privileges for a General Class control operator in the 10-meter band?</a:t>
            </a:r>
            <a:endParaRPr b="1" lang="en-US" sz="3000" spc="-1" strike="noStrike">
              <a:solidFill>
                <a:srgbClr val="ffff00"/>
              </a:solidFill>
              <a:latin typeface="Tahoma"/>
            </a:endParaRPr>
          </a:p>
        </p:txBody>
      </p:sp>
      <p:sp>
        <p:nvSpPr>
          <p:cNvPr id="1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8000 - 297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8025 - 297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8100 - 296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8125 - 2960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A909F0F-892A-4682-9601-0F2620280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0"/>
            <a:ext cx="8839440" cy="13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International Telegraph Union (ITU) Regions</a:t>
            </a:r>
            <a:endParaRPr b="1" lang="en-US" sz="2600" spc="-1" strike="noStrike">
              <a:solidFill>
                <a:srgbClr val="ffff00"/>
              </a:solidFill>
              <a:latin typeface="Tahoma"/>
            </a:endParaRPr>
          </a:p>
        </p:txBody>
      </p:sp>
      <p:pic>
        <p:nvPicPr>
          <p:cNvPr id="108" name="" descr=""/>
          <p:cNvPicPr/>
          <p:nvPr/>
        </p:nvPicPr>
        <p:blipFill>
          <a:blip r:embed="rId1"/>
          <a:stretch/>
        </p:blipFill>
        <p:spPr>
          <a:xfrm>
            <a:off x="457200" y="1576440"/>
            <a:ext cx="8229600" cy="4765680"/>
          </a:xfrm>
          <a:prstGeom prst="rect">
            <a:avLst/>
          </a:prstGeom>
          <a:ln w="0">
            <a:noFill/>
          </a:ln>
        </p:spPr>
      </p:pic>
      <p:sp>
        <p:nvSpPr>
          <p:cNvPr id="3" name="PlaceHolder 2"/>
          <p:cNvSpPr>
            <a:spLocks noGrp="1"/>
          </p:cNvSpPr>
          <p:nvPr>
            <p:ph type="ftr" idx="1"/>
          </p:nvPr>
        </p:nvSpPr>
        <p:spPr/>
        <p:txBody>
          <a:bodyPr/>
          <a:p>
            <a:r>
              <a:t>Commission's Rules</a:t>
            </a:r>
          </a:p>
        </p:txBody>
      </p:sp>
      <p:sp>
        <p:nvSpPr>
          <p:cNvPr id="4" name="PlaceHolder 3"/>
          <p:cNvSpPr>
            <a:spLocks noGrp="1"/>
          </p:cNvSpPr>
          <p:nvPr>
            <p:ph type="sldNum" idx="2"/>
          </p:nvPr>
        </p:nvSpPr>
        <p:spPr/>
        <p:txBody>
          <a:bodyPr/>
          <a:p>
            <a:fld id="{091CCC8A-DCA4-4D81-B459-967084F992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8 What are the frequency privileges for a General Class control operator in the 10-meter band?</a:t>
            </a:r>
            <a:endParaRPr b="1" lang="en-US" sz="3000" spc="-1" strike="noStrike">
              <a:solidFill>
                <a:srgbClr val="ffff00"/>
              </a:solidFill>
              <a:latin typeface="Tahoma"/>
            </a:endParaRPr>
          </a:p>
        </p:txBody>
      </p:sp>
      <p:sp>
        <p:nvSpPr>
          <p:cNvPr id="1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8000 - 29700-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8025 - 297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8100 - 296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8125 - 2960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54B5D33-6CB3-4BA8-9FA9-28D4697B8B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9 What are the frequency privileges for a General Class control operator in the 17-meter band?</a:t>
            </a:r>
            <a:endParaRPr b="1" lang="en-US" sz="3000" spc="-1" strike="noStrike">
              <a:solidFill>
                <a:srgbClr val="ffff00"/>
              </a:solidFill>
              <a:latin typeface="Tahoma"/>
            </a:endParaRPr>
          </a:p>
        </p:txBody>
      </p:sp>
      <p:sp>
        <p:nvSpPr>
          <p:cNvPr id="1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068 - 183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8025 - 182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8100 - 182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8068 - 18168-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4446661-2265-475A-994D-A3A168673C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9 What are the frequency privileges for a General Class control operator in the 17-meter band?</a:t>
            </a:r>
            <a:endParaRPr b="1" lang="en-US" sz="3000" spc="-1" strike="noStrike">
              <a:solidFill>
                <a:srgbClr val="ffff00"/>
              </a:solidFill>
              <a:latin typeface="Tahoma"/>
            </a:endParaRPr>
          </a:p>
        </p:txBody>
      </p:sp>
      <p:sp>
        <p:nvSpPr>
          <p:cNvPr id="1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068 - 183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8025 - 182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8100 - 18200-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18068 - 18168-k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2D67A07D-E5F4-4CE2-8296-ED97E18A39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10 What are the frequency segments for General class licensees within the 75/80-meter band in ITU Region 2 for CW emissions?</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500 - 3750 kHz and 3800 - 40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700 - 3750 kHz and 3850 - 40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525 - 3750 kHz and 3850 - 40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525 - 4000 kHz </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12DCC0D-95AD-4A08-B6F3-3610528B4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10 What are the frequency segments for General class licensees within the 75/80-meter band in ITU Region 2 for CW emissions?</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500 - 3750 kHz and 3800 - 40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700 - 3750 kHz and 3850 - 4000 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3525 - 3750 kHz and 3850 - 4000 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525 - 4000 kHz </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3A9DBF5-6F1F-487B-869C-315D932D97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11 What are the frequency segments within the 10-meter band for phone emissions?</a:t>
            </a:r>
            <a:endParaRPr b="1" lang="en-US" sz="3000" spc="-1" strike="noStrike">
              <a:solidFill>
                <a:srgbClr val="ffff00"/>
              </a:solidFill>
              <a:latin typeface="Tahoma"/>
            </a:endParaRPr>
          </a:p>
        </p:txBody>
      </p:sp>
      <p:sp>
        <p:nvSpPr>
          <p:cNvPr id="1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8000 - 283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9000 - 297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8300 - 297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8000 - 29000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2EE2BAB-1FCC-41CA-8BA6-45C365C07A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11 What are the frequency segments within the 10-meter band for phone emissions?</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8000 - 283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9000 - 29700 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8300 - 29700 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8000 - 29000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2592E29D-3351-40D3-9263-8AEB66E58C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1 Provided it is not at or near a public-use airport, what is the maximum height above ground an antenna structure may rise without requiring its owner to notify the FAA and register with the FCC?</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0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500AFC7-B0F3-4439-A0B5-41DA6411ED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1 Provided it is not at or near a public-use airport, what is the maximum height above ground an antenna structure may rise without requiring its owner to notify the FAA and register with the FCC?</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0 fe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fe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00 fe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fee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3C19AFC-33F3-47AF-B458-DDF238D561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2 If the FCC Rules DO NOT specifically cover a situation, how must you operate your amateur station?</a:t>
            </a:r>
            <a:endParaRPr b="1" lang="en-US" sz="3000" spc="-1" strike="noStrike">
              <a:solidFill>
                <a:srgbClr val="ffff00"/>
              </a:solidFill>
              <a:latin typeface="Tahoma"/>
            </a:endParaRPr>
          </a:p>
        </p:txBody>
      </p:sp>
      <p:sp>
        <p:nvSpPr>
          <p:cNvPr id="1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 accordance with standard licensee operator princip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 accordance with good engineering and good amateur pract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 accordance with station operating practices adopted by the VEC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 accordance with procedures set forth by the International Amateur Radio Un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E75368AD-8810-4B86-9C9F-D985EF7090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839440" cy="17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eneral Band Allocations</a:t>
            </a:r>
            <a:endParaRPr b="1" lang="en-US" sz="3000" spc="-1" strike="noStrike">
              <a:solidFill>
                <a:srgbClr val="ffff00"/>
              </a:solidFill>
              <a:latin typeface="Tahoma"/>
            </a:endParaRPr>
          </a:p>
        </p:txBody>
      </p:sp>
      <p:sp>
        <p:nvSpPr>
          <p:cNvPr id="110" name="PlaceHolder 2"/>
          <p:cNvSpPr>
            <a:spLocks noGrp="1"/>
          </p:cNvSpPr>
          <p:nvPr>
            <p:ph/>
          </p:nvPr>
        </p:nvSpPr>
        <p:spPr>
          <a:xfrm>
            <a:off x="380520" y="2057400"/>
            <a:ext cx="8458200" cy="4572000"/>
          </a:xfrm>
          <a:prstGeom prst="rect">
            <a:avLst/>
          </a:prstGeom>
          <a:noFill/>
          <a:ln w="0">
            <a:noFill/>
          </a:ln>
        </p:spPr>
        <p:txBody>
          <a:bodyPr lIns="90000" rIns="90000" tIns="46800" bIns="46800" anchor="t">
            <a:normAutofit/>
          </a:bodyPr>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0 meters</a:t>
            </a:r>
            <a:r>
              <a:rPr b="0" lang="en-US" sz="2200" spc="-1" strike="noStrike">
                <a:solidFill>
                  <a:srgbClr val="ffffff"/>
                </a:solidFill>
                <a:latin typeface="Tahoma"/>
              </a:rPr>
              <a:t>	</a:t>
            </a:r>
            <a:r>
              <a:rPr b="0" lang="en-US" sz="2200" spc="-1" strike="noStrike">
                <a:solidFill>
                  <a:srgbClr val="ffffff"/>
                </a:solidFill>
                <a:latin typeface="Tahoma"/>
              </a:rPr>
              <a:t>28000 – 29700 kHz</a:t>
            </a:r>
            <a:endParaRPr b="1" lang="en-US" sz="2200" spc="-1" strike="noStrike">
              <a:solidFill>
                <a:srgbClr val="ffff00"/>
              </a:solidFill>
              <a:latin typeface="Tahoma"/>
            </a:endParaRPr>
          </a:p>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2 meters</a:t>
            </a:r>
            <a:r>
              <a:rPr b="0" lang="en-US" sz="2200" spc="-1" strike="noStrike">
                <a:solidFill>
                  <a:srgbClr val="ffffff"/>
                </a:solidFill>
                <a:latin typeface="Tahoma"/>
              </a:rPr>
              <a:t>	</a:t>
            </a:r>
            <a:r>
              <a:rPr b="0" lang="en-US" sz="2200" spc="-1" strike="noStrike">
                <a:solidFill>
                  <a:srgbClr val="ffffff"/>
                </a:solidFill>
                <a:latin typeface="Tahoma"/>
              </a:rPr>
              <a:t>24890 – 24990 kHz</a:t>
            </a:r>
            <a:endParaRPr b="1" lang="en-US" sz="2200" spc="-1" strike="noStrike">
              <a:solidFill>
                <a:srgbClr val="ffff00"/>
              </a:solidFill>
              <a:latin typeface="Tahoma"/>
            </a:endParaRPr>
          </a:p>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5 meters</a:t>
            </a:r>
            <a:r>
              <a:rPr b="0" lang="en-US" sz="2200" spc="-1" strike="noStrike">
                <a:solidFill>
                  <a:srgbClr val="ffffff"/>
                </a:solidFill>
                <a:latin typeface="Tahoma"/>
              </a:rPr>
              <a:t>	</a:t>
            </a:r>
            <a:r>
              <a:rPr b="0" lang="en-US" sz="2200" spc="-1" strike="noStrike">
                <a:solidFill>
                  <a:srgbClr val="ffffff"/>
                </a:solidFill>
                <a:latin typeface="Tahoma"/>
              </a:rPr>
              <a:t>21025 – 21200 kHz and 21300 – 21450 kHz</a:t>
            </a:r>
            <a:endParaRPr b="1" lang="en-US" sz="2200" spc="-1" strike="noStrike">
              <a:solidFill>
                <a:srgbClr val="ffff00"/>
              </a:solidFill>
              <a:latin typeface="Tahoma"/>
            </a:endParaRPr>
          </a:p>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7 meters</a:t>
            </a:r>
            <a:r>
              <a:rPr b="0" lang="en-US" sz="2200" spc="-1" strike="noStrike">
                <a:solidFill>
                  <a:srgbClr val="ffffff"/>
                </a:solidFill>
                <a:latin typeface="Tahoma"/>
              </a:rPr>
              <a:t>	</a:t>
            </a:r>
            <a:r>
              <a:rPr b="0" lang="en-US" sz="2200" spc="-1" strike="noStrike">
                <a:solidFill>
                  <a:srgbClr val="ffffff"/>
                </a:solidFill>
                <a:latin typeface="Tahoma"/>
              </a:rPr>
              <a:t>18068 – 18168 kHz</a:t>
            </a:r>
            <a:endParaRPr b="1" lang="en-US" sz="2200" spc="-1" strike="noStrike">
              <a:solidFill>
                <a:srgbClr val="ffff00"/>
              </a:solidFill>
              <a:latin typeface="Tahoma"/>
            </a:endParaRPr>
          </a:p>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0 meters</a:t>
            </a:r>
            <a:r>
              <a:rPr b="0" lang="en-US" sz="2200" spc="-1" strike="noStrike">
                <a:solidFill>
                  <a:srgbClr val="ffffff"/>
                </a:solidFill>
                <a:latin typeface="Tahoma"/>
              </a:rPr>
              <a:t>	</a:t>
            </a:r>
            <a:r>
              <a:rPr b="0" lang="en-US" sz="2200" spc="-1" strike="noStrike">
                <a:solidFill>
                  <a:srgbClr val="ffffff"/>
                </a:solidFill>
                <a:latin typeface="Tahoma"/>
              </a:rPr>
              <a:t>14025 – 14150 kHz and 14225 – 14350 kHz</a:t>
            </a:r>
            <a:endParaRPr b="1" lang="en-US" sz="2200" spc="-1" strike="noStrike">
              <a:solidFill>
                <a:srgbClr val="ffff00"/>
              </a:solidFill>
              <a:latin typeface="Tahoma"/>
            </a:endParaRPr>
          </a:p>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30 meters</a:t>
            </a:r>
            <a:r>
              <a:rPr b="0" lang="en-US" sz="2200" spc="-1" strike="noStrike">
                <a:solidFill>
                  <a:srgbClr val="ffffff"/>
                </a:solidFill>
                <a:latin typeface="Tahoma"/>
              </a:rPr>
              <a:t>	</a:t>
            </a:r>
            <a:r>
              <a:rPr b="0" lang="en-US" sz="2200" spc="-1" strike="noStrike">
                <a:solidFill>
                  <a:srgbClr val="ffffff"/>
                </a:solidFill>
                <a:latin typeface="Tahoma"/>
              </a:rPr>
              <a:t>10100 – 10150 kHz</a:t>
            </a:r>
            <a:endParaRPr b="1" lang="en-US" sz="2200" spc="-1" strike="noStrike">
              <a:solidFill>
                <a:srgbClr val="ffff00"/>
              </a:solidFill>
              <a:latin typeface="Tahoma"/>
            </a:endParaRPr>
          </a:p>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40 meters</a:t>
            </a:r>
            <a:r>
              <a:rPr b="0" lang="en-US" sz="2200" spc="-1" strike="noStrike">
                <a:solidFill>
                  <a:srgbClr val="ffffff"/>
                </a:solidFill>
                <a:latin typeface="Tahoma"/>
              </a:rPr>
              <a:t>	</a:t>
            </a:r>
            <a:r>
              <a:rPr b="0" lang="en-US" sz="2200" spc="-1" strike="noStrike">
                <a:solidFill>
                  <a:srgbClr val="ffffff"/>
                </a:solidFill>
                <a:latin typeface="Tahoma"/>
              </a:rPr>
              <a:t>  7025 – 7150 kHz and 7225 – 1300 kHz</a:t>
            </a:r>
            <a:endParaRPr b="1" lang="en-US" sz="2200" spc="-1" strike="noStrike">
              <a:solidFill>
                <a:srgbClr val="ffff00"/>
              </a:solidFill>
              <a:latin typeface="Tahoma"/>
            </a:endParaRPr>
          </a:p>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80 meters</a:t>
            </a:r>
            <a:r>
              <a:rPr b="0" lang="en-US" sz="2200" spc="-1" strike="noStrike">
                <a:solidFill>
                  <a:srgbClr val="ffffff"/>
                </a:solidFill>
                <a:latin typeface="Tahoma"/>
              </a:rPr>
              <a:t>	</a:t>
            </a:r>
            <a:r>
              <a:rPr b="0" lang="en-US" sz="2200" spc="-1" strike="noStrike">
                <a:solidFill>
                  <a:srgbClr val="ffffff"/>
                </a:solidFill>
                <a:latin typeface="Tahoma"/>
              </a:rPr>
              <a:t>  3525 – 3750 kHz and 3850 – 4000 kHz</a:t>
            </a:r>
            <a:endParaRPr b="1" lang="en-US" sz="2200" spc="-1" strike="noStrike">
              <a:solidFill>
                <a:srgbClr val="ffff00"/>
              </a:solidFill>
              <a:latin typeface="Tahoma"/>
            </a:endParaRPr>
          </a:p>
          <a:p>
            <a:pPr indent="0">
              <a:spcBef>
                <a:spcPts val="550"/>
              </a:spcBef>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60 meters</a:t>
            </a:r>
            <a:r>
              <a:rPr b="0" lang="en-US" sz="2200" spc="-1" strike="noStrike">
                <a:solidFill>
                  <a:srgbClr val="ffffff"/>
                </a:solidFill>
                <a:latin typeface="Tahoma"/>
              </a:rPr>
              <a:t>	</a:t>
            </a:r>
            <a:r>
              <a:rPr b="0" lang="en-US" sz="2200" spc="-1" strike="noStrike">
                <a:solidFill>
                  <a:srgbClr val="ffffff"/>
                </a:solidFill>
                <a:latin typeface="Tahoma"/>
              </a:rPr>
              <a:t>  1800 – 2000 kHz</a:t>
            </a:r>
            <a:endParaRPr b="1" lang="en-US" sz="22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84F2612-5B26-44DC-9CC5-264CC91F53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2 If the FCC Rules DO NOT specifically cover a situation, how must you operate your amateur station?</a:t>
            </a:r>
            <a:endParaRPr b="1" lang="en-US" sz="3000" spc="-1" strike="noStrike">
              <a:solidFill>
                <a:srgbClr val="ffff00"/>
              </a:solidFill>
              <a:latin typeface="Tahoma"/>
            </a:endParaRPr>
          </a:p>
        </p:txBody>
      </p:sp>
      <p:sp>
        <p:nvSpPr>
          <p:cNvPr id="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 accordance with standard licensee operator principl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n accordance with good engineering and good amateur practi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 accordance with station operating practices adopted by the VEC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 accordance with procedures set forth by the International Amateur Radio Un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EB1F48B-8A54-48C2-A3C7-3652F44EEF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3 Which of the following types of stations may transmit only one-way communications?</a:t>
            </a:r>
            <a:endParaRPr b="1" lang="en-US" sz="3000" spc="-1" strike="noStrike">
              <a:solidFill>
                <a:srgbClr val="ffff00"/>
              </a:solidFill>
              <a:latin typeface="Tahoma"/>
            </a:endParaRPr>
          </a:p>
        </p:txBody>
      </p:sp>
      <p:sp>
        <p:nvSpPr>
          <p:cNvPr id="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peater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acon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HF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HF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02C48452-2DD3-41C9-9A78-8F670303C3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3 Which of the following types of stations may transmit only one-way communications?</a:t>
            </a:r>
            <a:endParaRPr b="1" lang="en-US" sz="3000" spc="-1" strike="noStrike">
              <a:solidFill>
                <a:srgbClr val="ffff00"/>
              </a:solidFill>
              <a:latin typeface="Tahoma"/>
            </a:endParaRPr>
          </a:p>
        </p:txBody>
      </p:sp>
      <p:sp>
        <p:nvSpPr>
          <p:cNvPr id="1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peater st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Beacon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HF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HF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09178F80-C0C6-4416-ACF5-1C39BD1F1B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4 Which of the following does NOT need to be true when an amateur station is being used to gather news information for broadcast purposes?</a:t>
            </a:r>
            <a:endParaRPr b="1" lang="en-US" sz="3000" spc="-1" strike="noStrike">
              <a:solidFill>
                <a:srgbClr val="ffff00"/>
              </a:solidFill>
              <a:latin typeface="Tahoma"/>
            </a:endParaRPr>
          </a:p>
        </p:txBody>
      </p:sp>
      <p:sp>
        <p:nvSpPr>
          <p:cNvPr id="1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nformation is more quickly transmitted by Amateur Rad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formation must involve the immediate safety of life of individuals or the immediate protection of proper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information must be directly related to the ev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formation cannot be transmitted by other mea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0481BF17-14A9-4A4B-9981-3CB9490E82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4 Which of the following does NOT need to be true when an amateur station is being used to gather news information for broadcast purposes?</a:t>
            </a:r>
            <a:endParaRPr b="1" lang="en-US" sz="3000" spc="-1" strike="noStrike">
              <a:solidFill>
                <a:srgbClr val="ffff00"/>
              </a:solidFill>
              <a:latin typeface="Tahoma"/>
            </a:endParaRPr>
          </a:p>
        </p:txBody>
      </p:sp>
      <p:sp>
        <p:nvSpPr>
          <p:cNvPr id="1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information is more quickly transmitted by Amateur Radio</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formation must involve the immediate safety of life of individuals or the immediate protection of proper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information must be directly related to the ev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formation cannot be transmitted by other mea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689FC45-8A37-4CB9-8406-90669B364D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5 Under what limited circumstances may music be transmitted by an amateur station?</a:t>
            </a:r>
            <a:endParaRPr b="1" lang="en-US" sz="3000" spc="-1" strike="noStrike">
              <a:solidFill>
                <a:srgbClr val="ffff00"/>
              </a:solidFill>
              <a:latin typeface="Tahoma"/>
            </a:endParaRPr>
          </a:p>
        </p:txBody>
      </p:sp>
      <p:sp>
        <p:nvSpPr>
          <p:cNvPr id="1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it produces no dissonances or spurious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it is used to jam an illegal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it is transmitted on frequencies above 121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it is an incidental part of a space shuttle retrans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C3EE3D6-B0CB-4BDA-9469-A5B0F5975C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5 Under what limited circumstances may music be transmitted by an amateur station?</a:t>
            </a:r>
            <a:endParaRPr b="1" lang="en-US" sz="3000" spc="-1" strike="noStrike">
              <a:solidFill>
                <a:srgbClr val="ffff00"/>
              </a:solidFill>
              <a:latin typeface="Tahoma"/>
            </a:endParaRPr>
          </a:p>
        </p:txBody>
      </p:sp>
      <p:sp>
        <p:nvSpPr>
          <p:cNvPr id="1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it produces no dissonances or spurious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it is used to jam an illegal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it is transmitted on frequencies above 1215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When it is an incidental part of a space shuttle retransmiss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0F6AE6A9-ADAF-4182-995D-D0FDA1D249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6 When may an amateur station in two-way communication transmit a message in a secret code in order to obscure the meaning of the communication?</a:t>
            </a:r>
            <a:endParaRPr b="1" lang="en-US" sz="3000" spc="-1" strike="noStrike">
              <a:solidFill>
                <a:srgbClr val="ffff00"/>
              </a:solidFill>
              <a:latin typeface="Tahoma"/>
            </a:endParaRPr>
          </a:p>
        </p:txBody>
      </p:sp>
      <p:sp>
        <p:nvSpPr>
          <p:cNvPr id="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ransmitting above 4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uring contes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uring a declared communications emerg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392E43A-F1EA-405D-B302-57C40571F9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6 When may an amateur station in two-way communication transmit a message in a secret code in order to obscure the meaning of the communication?</a:t>
            </a:r>
            <a:endParaRPr b="1" lang="en-US" sz="3000" spc="-1" strike="noStrike">
              <a:solidFill>
                <a:srgbClr val="ffff00"/>
              </a:solidFill>
              <a:latin typeface="Tahoma"/>
            </a:endParaRPr>
          </a:p>
        </p:txBody>
      </p:sp>
      <p:sp>
        <p:nvSpPr>
          <p:cNvPr id="1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ransmitting above 4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uring contes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Nev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uring a declared communications emerg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F56B8F1-9852-4925-8DB3-C3D6A4E20F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7 What are the restrictions on the use of abbreviations or procedural signals in the amateur service?</a:t>
            </a:r>
            <a:endParaRPr b="1" lang="en-US" sz="3000" spc="-1" strike="noStrike">
              <a:solidFill>
                <a:srgbClr val="ffff00"/>
              </a:solidFill>
              <a:latin typeface="Tahoma"/>
            </a:endParaRPr>
          </a:p>
        </p:txBody>
      </p:sp>
      <p:sp>
        <p:nvSpPr>
          <p:cNvPr id="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Q" codes are permit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may be used if they do not obscure the meaning of a mess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not permitted because they obscure the meaning of a message to FCC monitoring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10-codes" are permit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908C4E1-404E-4DB9-AD3F-7833D724F8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105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Maximum Power Levels</a:t>
            </a:r>
            <a:endParaRPr b="1" lang="en-US" sz="3000" spc="-1" strike="noStrike">
              <a:solidFill>
                <a:srgbClr val="ffff00"/>
              </a:solidFill>
              <a:latin typeface="Tahoma"/>
            </a:endParaRPr>
          </a:p>
        </p:txBody>
      </p:sp>
      <p:sp>
        <p:nvSpPr>
          <p:cNvPr id="112" name="PlaceHolder 2"/>
          <p:cNvSpPr>
            <a:spLocks noGrp="1"/>
          </p:cNvSpPr>
          <p:nvPr>
            <p:ph/>
          </p:nvPr>
        </p:nvSpPr>
        <p:spPr>
          <a:xfrm>
            <a:off x="609480" y="1828440"/>
            <a:ext cx="7925040" cy="4800600"/>
          </a:xfrm>
          <a:prstGeom prst="rect">
            <a:avLst/>
          </a:prstGeom>
          <a:noFill/>
          <a:ln w="0">
            <a:noFill/>
          </a:ln>
        </p:spPr>
        <p:txBody>
          <a:bodyPr lIns="90000" rIns="90000" tIns="46800" bIns="4680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3300"/>
                </a:solidFill>
                <a:latin typeface="Tahoma"/>
              </a:rPr>
              <a:t>Maximum 1500 watts PEP!</a:t>
            </a:r>
            <a:endParaRPr b="1" lang="en-US" sz="3500" spc="-1" strike="noStrike">
              <a:solidFill>
                <a:srgbClr val="ffff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Exceptions - 200 watts PEP maximum</a:t>
            </a:r>
            <a:endParaRPr b="1" lang="en-US" sz="2600" spc="-1" strike="noStrike">
              <a:solidFill>
                <a:srgbClr val="ffff00"/>
              </a:solidFill>
              <a:latin typeface="Tahoma"/>
            </a:endParaRPr>
          </a:p>
          <a:p>
            <a:pPr lvl="1" marL="914400" indent="-45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30 meters</a:t>
            </a:r>
            <a:endParaRPr b="0" lang="en-US" sz="2400" spc="-1" strike="noStrike">
              <a:solidFill>
                <a:srgbClr val="ffffff"/>
              </a:solidFill>
              <a:latin typeface="Tahoma"/>
            </a:endParaRPr>
          </a:p>
          <a:p>
            <a:pPr lvl="1" marL="914400" indent="-45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vice/Tech+ sub bands</a:t>
            </a:r>
            <a:endParaRPr b="0" lang="en-US" sz="2400" spc="-1" strike="noStrike">
              <a:solidFill>
                <a:srgbClr val="ffffff"/>
              </a:solidFill>
              <a:latin typeface="Tahoma"/>
            </a:endParaRPr>
          </a:p>
          <a:p>
            <a:pPr lvl="2" marL="1711440" indent="-23364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 meters (3675-3725 kHz)</a:t>
            </a:r>
            <a:endParaRPr b="0" lang="en-US" sz="2400" spc="-1" strike="noStrike">
              <a:solidFill>
                <a:srgbClr val="ffffff"/>
              </a:solidFill>
              <a:latin typeface="Garamond"/>
            </a:endParaRPr>
          </a:p>
          <a:p>
            <a:pPr lvl="2" marL="1711440" indent="-23364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0 meters (7100-7150 kHz)</a:t>
            </a:r>
            <a:endParaRPr b="0" lang="en-US" sz="2400" spc="-1" strike="noStrike">
              <a:solidFill>
                <a:srgbClr val="ffffff"/>
              </a:solidFill>
              <a:latin typeface="Garamond"/>
            </a:endParaRPr>
          </a:p>
          <a:p>
            <a:pPr lvl="2" marL="1711440" indent="-233640">
              <a:lnSpc>
                <a:spcPct val="100000"/>
              </a:lnSpc>
              <a:spcBef>
                <a:spcPts val="6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meters (21100-21200 kHz)</a:t>
            </a:r>
            <a:endParaRPr b="0" lang="en-US" sz="2400" spc="-1" strike="noStrike">
              <a:solidFill>
                <a:srgbClr val="ffffff"/>
              </a:solidFill>
              <a:latin typeface="Garamond"/>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18D87C5-E43F-4894-B4F8-6C47F8169D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7 What are the restrictions on the use of abbreviations or procedural signals in the amateur service?</a:t>
            </a:r>
            <a:endParaRPr b="1" lang="en-US" sz="3000" spc="-1" strike="noStrike">
              <a:solidFill>
                <a:srgbClr val="ffff00"/>
              </a:solidFill>
              <a:latin typeface="Tahoma"/>
            </a:endParaRPr>
          </a:p>
        </p:txBody>
      </p:sp>
      <p:sp>
        <p:nvSpPr>
          <p:cNvPr id="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Q" codes are permit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y may be used if they do not obscure the meaning of a messag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not permitted because they obscure the meaning of a message to FCC monitoring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10-codes" are permit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CF32167-1B35-4D6B-9796-A083B2FEE0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8 Which of the following amateur station transmissions is NOT prohibited by the FCC Rules?</a:t>
            </a:r>
            <a:endParaRPr b="1" lang="en-US" sz="3000" spc="-1" strike="noStrike">
              <a:solidFill>
                <a:srgbClr val="ffff00"/>
              </a:solidFill>
              <a:latin typeface="Tahoma"/>
            </a:endParaRPr>
          </a:p>
        </p:txBody>
      </p:sp>
      <p:sp>
        <p:nvSpPr>
          <p:cNvPr id="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laying of mus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use of obscene or indecent wor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alse or deceptive messages or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transmission of space shuttle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AFF7153-180E-4F5A-AB92-B99F16AA96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8 Which of the following amateur station transmissions is NOT prohibited by the FCC Rules?</a:t>
            </a:r>
            <a:endParaRPr b="1" lang="en-US" sz="3000" spc="-1" strike="noStrike">
              <a:solidFill>
                <a:srgbClr val="ffff00"/>
              </a:solidFill>
              <a:latin typeface="Tahoma"/>
            </a:endParaRPr>
          </a:p>
        </p:txBody>
      </p:sp>
      <p:sp>
        <p:nvSpPr>
          <p:cNvPr id="1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laying of mus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use of obscene or indecent wor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alse or deceptive messages or signal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Retransmission of space shuttle communication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EF685F0E-B72C-42A5-BFA0-95202AA6FD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09 What should you do to prevent your station from retransmitting music or signals from a non-amateur station?</a:t>
            </a:r>
            <a:endParaRPr b="1" lang="en-US" sz="3000" spc="-1" strike="noStrike">
              <a:solidFill>
                <a:srgbClr val="ffff00"/>
              </a:solidFill>
              <a:latin typeface="Tahoma"/>
            </a:endParaRPr>
          </a:p>
        </p:txBody>
      </p:sp>
      <p:sp>
        <p:nvSpPr>
          <p:cNvPr id="1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urn up the volume of your trans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peak closer to the microphone to increase your signal str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urn down the volume of background aud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djust your transceiver noise blank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46D326E-8CAF-45B1-A25A-D1C2F74B5D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09 What should you do to prevent your station from retransmitting music or signals from a non-amateur station?</a:t>
            </a:r>
            <a:endParaRPr b="1" lang="en-US" sz="3000" spc="-1" strike="noStrike">
              <a:solidFill>
                <a:srgbClr val="ffff00"/>
              </a:solidFill>
              <a:latin typeface="Tahoma"/>
            </a:endParaRPr>
          </a:p>
        </p:txBody>
      </p:sp>
      <p:sp>
        <p:nvSpPr>
          <p:cNvPr id="1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urn up the volume of your trans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peak closer to the microphone to increase your signal strength</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urn down the volume of background audio</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djust your transceiver noise blank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39BFC39-630C-46FA-9512-59859BF1EE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B10 Which of the following is NOT an FCC requirement regarding beacon stations?</a:t>
            </a:r>
            <a:endParaRPr b="1" lang="en-US" sz="3000" spc="-1" strike="noStrike">
              <a:solidFill>
                <a:srgbClr val="ffff00"/>
              </a:solidFill>
              <a:latin typeface="Tahoma"/>
            </a:endParaRPr>
          </a:p>
        </p:txBody>
      </p:sp>
      <p:sp>
        <p:nvSpPr>
          <p:cNvPr id="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transmissions must use audio frequency shift keying (AFS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one signal per band is permitted from a given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ransmitter power of the beacon station must not exceed 1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control operator of the beacon station must hold a Technician, Technician Plus, General, Advanced or Extra Class operator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C177671B-297E-4C2A-A669-F9758E2B32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B10 Which of the following is NOT an FCC requirement regarding beacon stations?</a:t>
            </a:r>
            <a:endParaRPr b="1" lang="en-US" sz="3000" spc="-1" strike="noStrike">
              <a:solidFill>
                <a:srgbClr val="ffff00"/>
              </a:solidFill>
              <a:latin typeface="Tahoma"/>
            </a:endParaRPr>
          </a:p>
        </p:txBody>
      </p:sp>
      <p:sp>
        <p:nvSpPr>
          <p:cNvPr id="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ll transmissions must use audio frequency shift keying (AFSK)</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one signal per band is permitted from a given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ransmitter power of the beacon station must not exceed 1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control operator of the beacon station must hold a Technician, Technician Plus, General, Advanced or Extra Class operator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7965AC9-1AE2-4B1B-B772-74FC29359F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1 What is the maximum transmitting power an amateur station may use on 3690 kHz?</a:t>
            </a:r>
            <a:endParaRPr b="1" lang="en-US" sz="3000" spc="-1" strike="noStrike">
              <a:solidFill>
                <a:srgbClr val="ffff00"/>
              </a:solidFill>
              <a:latin typeface="Tahoma"/>
            </a:endParaRPr>
          </a:p>
        </p:txBody>
      </p:sp>
      <p:sp>
        <p:nvSpPr>
          <p:cNvPr id="1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50CB2FB-C2B8-4EDC-82FC-09BFE81AA4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1 What is the maximum transmitting power an amateur station may use on 3690 kHz?</a:t>
            </a:r>
            <a:endParaRPr b="1" lang="en-US" sz="3000" spc="-1" strike="noStrike">
              <a:solidFill>
                <a:srgbClr val="ffff00"/>
              </a:solidFill>
              <a:latin typeface="Tahoma"/>
            </a:endParaRPr>
          </a:p>
        </p:txBody>
      </p:sp>
      <p:sp>
        <p:nvSpPr>
          <p:cNvPr id="2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00 watts PEP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0522CF2D-A8F0-4B1D-BA9D-1B7874D41C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2 What is the maximum transmitting power an amateur station may use on 7080 kHz?</a:t>
            </a:r>
            <a:endParaRPr b="1" lang="en-US" sz="3000" spc="-1" strike="noStrike">
              <a:solidFill>
                <a:srgbClr val="ffff00"/>
              </a:solidFill>
              <a:latin typeface="Tahoma"/>
            </a:endParaRPr>
          </a:p>
        </p:txBody>
      </p:sp>
      <p:sp>
        <p:nvSpPr>
          <p:cNvPr id="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CC5C877-F694-4718-A715-298E5B4D7C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1 What are the frequency privileges for a General Class control operator in the 160-meter band (ITU Region 2)?</a:t>
            </a:r>
            <a:endParaRPr b="1" lang="en-US" sz="3000" spc="-1" strike="noStrike">
              <a:solidFill>
                <a:srgbClr val="ffff00"/>
              </a:solidFill>
              <a:latin typeface="Tahoma"/>
            </a:endParaRPr>
          </a:p>
        </p:txBody>
      </p:sp>
      <p:sp>
        <p:nvSpPr>
          <p:cNvPr id="1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00 - 19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900 - 20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800 - 20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825 - 200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1685E20-D9C5-4822-B6DD-3B53DD51A1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2 What is the maximum transmitting power an amateur station may use on 7080 kHz?</a:t>
            </a:r>
            <a:endParaRPr b="1" lang="en-US" sz="3000" spc="-1" strike="noStrike">
              <a:solidFill>
                <a:srgbClr val="ffff00"/>
              </a:solidFill>
              <a:latin typeface="Tahoma"/>
            </a:endParaRPr>
          </a:p>
        </p:txBody>
      </p:sp>
      <p:sp>
        <p:nvSpPr>
          <p:cNvPr id="2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500 watts PEP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D6B3292-A940-49EC-8C09-A1577AEE6D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3 What is the maximum transmitting power an amateur station may use on 10.140 MHz?</a:t>
            </a:r>
            <a:endParaRPr b="1" lang="en-US" sz="3000" spc="-1" strike="noStrike">
              <a:solidFill>
                <a:srgbClr val="ffff00"/>
              </a:solidFill>
              <a:latin typeface="Tahoma"/>
            </a:endParaRPr>
          </a:p>
        </p:txBody>
      </p:sp>
      <p:sp>
        <p:nvSpPr>
          <p:cNvPr id="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8E3840D-30E6-4E1E-A2EC-FF231FA249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3 What is the maximum transmitting power an amateur station may use on 10.140 MHz?</a:t>
            </a:r>
            <a:endParaRPr b="1" lang="en-US" sz="3000" spc="-1" strike="noStrike">
              <a:solidFill>
                <a:srgbClr val="ffff00"/>
              </a:solidFill>
              <a:latin typeface="Tahoma"/>
            </a:endParaRPr>
          </a:p>
        </p:txBody>
      </p:sp>
      <p:sp>
        <p:nvSpPr>
          <p:cNvPr id="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00 watts PEP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5C9C200-50E7-48F9-ABC8-C8618BECE1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4 What is the maximum transmitting power an amateur station may use on 21.305 MHz?</a:t>
            </a:r>
            <a:endParaRPr b="1" lang="en-US" sz="3000" spc="-1" strike="noStrike">
              <a:solidFill>
                <a:srgbClr val="ffff00"/>
              </a:solidFill>
              <a:latin typeface="Tahoma"/>
            </a:endParaRPr>
          </a:p>
        </p:txBody>
      </p:sp>
      <p:sp>
        <p:nvSpPr>
          <p:cNvPr id="2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6BB46DB-97EF-4B05-9AE1-BE8D592095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4 What is the maximum transmitting power an amateur station may use on 21.305 MHz?</a:t>
            </a:r>
            <a:endParaRPr b="1" lang="en-US" sz="3000" spc="-1" strike="noStrike">
              <a:solidFill>
                <a:srgbClr val="ffff00"/>
              </a:solidFill>
              <a:latin typeface="Tahoma"/>
            </a:endParaRPr>
          </a:p>
        </p:txBody>
      </p:sp>
      <p:sp>
        <p:nvSpPr>
          <p:cNvPr id="2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 watts PEP outpu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minimum power necessary to carry out the desired communications, with a maximum of 1500 watts PEP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14AFBA2-01FA-4B25-84AE-9CA9DBCC2D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5 What is the maximum transmitting power an amateur station may use on 24.950 MHz?</a:t>
            </a:r>
            <a:endParaRPr b="1" lang="en-US" sz="3000" spc="-1" strike="noStrike">
              <a:solidFill>
                <a:srgbClr val="ffff00"/>
              </a:solidFill>
              <a:latin typeface="Tahoma"/>
            </a:endParaRPr>
          </a:p>
        </p:txBody>
      </p:sp>
      <p:sp>
        <p:nvSpPr>
          <p:cNvPr id="2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7375153-AECA-4F9F-8467-0CFBE9C157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5 What is the maximum transmitting power an amateur station may use on 24.950 MHz?</a:t>
            </a:r>
            <a:endParaRPr b="1" lang="en-US" sz="3000" spc="-1" strike="noStrike">
              <a:solidFill>
                <a:srgbClr val="ffff00"/>
              </a:solidFill>
              <a:latin typeface="Tahoma"/>
            </a:endParaRPr>
          </a:p>
        </p:txBody>
      </p:sp>
      <p:sp>
        <p:nvSpPr>
          <p:cNvPr id="2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500 watts PEP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520544B-1A1D-447A-AD93-3EB74D7414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6 What is the maximum transmitting power an amateur station may use on 7255 kHz?</a:t>
            </a:r>
            <a:endParaRPr b="1" lang="en-US" sz="3000" spc="-1" strike="noStrike">
              <a:solidFill>
                <a:srgbClr val="ffff00"/>
              </a:solidFill>
              <a:latin typeface="Tahoma"/>
            </a:endParaRPr>
          </a:p>
        </p:txBody>
      </p:sp>
      <p:sp>
        <p:nvSpPr>
          <p:cNvPr id="2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CCBDF300-C270-4AD1-86F5-5C2DCC8AE8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6 What is the maximum transmitting power an amateur station may use on 7255 kHz?</a:t>
            </a:r>
            <a:endParaRPr b="1" lang="en-US" sz="3000" spc="-1" strike="noStrike">
              <a:solidFill>
                <a:srgbClr val="ffff00"/>
              </a:solidFill>
              <a:latin typeface="Tahoma"/>
            </a:endParaRPr>
          </a:p>
        </p:txBody>
      </p:sp>
      <p:sp>
        <p:nvSpPr>
          <p:cNvPr id="2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 watts PEP outpu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minimum power necessary to carry out the desired communications, with a maximum of 1500 watts PEP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78644A4-CE4E-479D-9D71-7642ACF876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7 What is the maximum transmitting power an amateur station may use on 14.300 MHz?</a:t>
            </a:r>
            <a:endParaRPr b="1" lang="en-US" sz="3000" spc="-1" strike="noStrike">
              <a:solidFill>
                <a:srgbClr val="ffff00"/>
              </a:solidFill>
              <a:latin typeface="Tahoma"/>
            </a:endParaRPr>
          </a:p>
        </p:txBody>
      </p:sp>
      <p:sp>
        <p:nvSpPr>
          <p:cNvPr id="2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7BCA1E2-A483-45EF-A08F-2D06CE9328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1 What are the frequency privileges for a General Class control operator in the 160-meter band (ITU Region 2)?</a:t>
            </a:r>
            <a:endParaRPr b="1" lang="en-US" sz="3000" spc="-1" strike="noStrike">
              <a:solidFill>
                <a:srgbClr val="ffff00"/>
              </a:solidFill>
              <a:latin typeface="Tahoma"/>
            </a:endParaRPr>
          </a:p>
        </p:txBody>
      </p:sp>
      <p:sp>
        <p:nvSpPr>
          <p:cNvPr id="1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00 - 19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900 - 2000-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800 - 2000-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825 - 200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E766ACF-1895-4742-8508-620AC94680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7 What is the maximum transmitting power an amateur station may use on 14.300 MHz?</a:t>
            </a:r>
            <a:endParaRPr b="1" lang="en-US" sz="3000" spc="-1" strike="noStrike">
              <a:solidFill>
                <a:srgbClr val="ffff00"/>
              </a:solidFill>
              <a:latin typeface="Tahoma"/>
            </a:endParaRPr>
          </a:p>
        </p:txBody>
      </p:sp>
      <p:sp>
        <p:nvSpPr>
          <p:cNvPr id="2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minimum power necessary to carry out the desired communications, with a maximum of 1500 watts PEP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28176D05-C3A4-4D57-B6BA-F154B11B4F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8 What is the maximum transmitting power a station with a General Class control operator may use on 28.400 MHz?</a:t>
            </a:r>
            <a:endParaRPr b="1" lang="en-US" sz="3000" spc="-1" strike="noStrike">
              <a:solidFill>
                <a:srgbClr val="ffff00"/>
              </a:solidFill>
              <a:latin typeface="Tahoma"/>
            </a:endParaRPr>
          </a:p>
        </p:txBody>
      </p:sp>
      <p:sp>
        <p:nvSpPr>
          <p:cNvPr id="2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5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8728A1A-4821-4CD2-AF8C-54F7F106CA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8 What is the maximum transmitting power a station with a General Class control operator may use on 28.400 MHz?</a:t>
            </a:r>
            <a:endParaRPr b="1" lang="en-US" sz="3000" spc="-1" strike="noStrike">
              <a:solidFill>
                <a:srgbClr val="ffff00"/>
              </a:solidFill>
              <a:latin typeface="Tahoma"/>
            </a:endParaRPr>
          </a:p>
        </p:txBody>
      </p:sp>
      <p:sp>
        <p:nvSpPr>
          <p:cNvPr id="2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000 watts PEP outpu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minimum power necessary to carry out the desired communications, with a maximum of 1500 watts PEP outpu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6C86685-3572-4B27-9674-2507491371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09 What is the maximum transmitting power a station with a General Class control operator may use on 28.150 MHz?</a:t>
            </a:r>
            <a:endParaRPr b="1" lang="en-US" sz="3000" spc="-1" strike="noStrike">
              <a:solidFill>
                <a:srgbClr val="ffff00"/>
              </a:solidFill>
              <a:latin typeface="Tahoma"/>
            </a:endParaRPr>
          </a:p>
        </p:txBody>
      </p:sp>
      <p:sp>
        <p:nvSpPr>
          <p:cNvPr id="230"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fontScale="97000"/>
          </a:bodyPr>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 watts PEP output</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000 watts PEP output</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500 watts PEP output</a:t>
            </a:r>
            <a:endParaRPr b="0" lang="en-US" sz="2400" spc="-1" strike="noStrike">
              <a:solidFill>
                <a:srgbClr val="ffffff"/>
              </a:solidFill>
              <a:latin typeface="Tahoma"/>
            </a:endParaRPr>
          </a:p>
          <a:p>
            <a:pPr lvl="1" marL="888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13A71046-9BFD-4038-B8DC-F538FB5660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09 What is the maximum transmitting power a station with a General Class control operator may use on 28.150 MHz?</a:t>
            </a:r>
            <a:endParaRPr b="1" lang="en-US" sz="3000" spc="-1" strike="noStrike">
              <a:solidFill>
                <a:srgbClr val="ffff00"/>
              </a:solidFill>
              <a:latin typeface="Tahoma"/>
            </a:endParaRPr>
          </a:p>
        </p:txBody>
      </p:sp>
      <p:sp>
        <p:nvSpPr>
          <p:cNvPr id="232"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fontScale="95000"/>
          </a:bodyPr>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 watts PEP output</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000 watts PEP outpu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minimum power necessary to carry out the desired communications, with a maximum of 1500 watts PEP output</a:t>
            </a:r>
            <a:endParaRPr b="1" lang="en-US" sz="2600" spc="-1" strike="noStrike">
              <a:solidFill>
                <a:srgbClr val="ffff00"/>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20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E5AB2D1-659E-4984-9B82-5F912B3AB7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10 What is the maximum transmitting power an amateur station may use on 1825 kHz?</a:t>
            </a:r>
            <a:endParaRPr b="1" lang="en-US" sz="3000" spc="-1" strike="noStrike">
              <a:solidFill>
                <a:srgbClr val="ffff00"/>
              </a:solidFill>
              <a:latin typeface="Tahoma"/>
            </a:endParaRPr>
          </a:p>
        </p:txBody>
      </p:sp>
      <p:sp>
        <p:nvSpPr>
          <p:cNvPr id="2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500 watts PEP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AAFAC8F-4134-40AF-B0AC-17B64D2E91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10 What is the maximum transmitting power an amateur station may use on 1825 kHz?</a:t>
            </a:r>
            <a:endParaRPr b="1" lang="en-US" sz="3000" spc="-1" strike="noStrike">
              <a:solidFill>
                <a:srgbClr val="ffff00"/>
              </a:solidFill>
              <a:latin typeface="Tahoma"/>
            </a:endParaRPr>
          </a:p>
        </p:txBody>
      </p:sp>
      <p:sp>
        <p:nvSpPr>
          <p:cNvPr id="2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inimum power necessary to carry out the desired communications, with a maximum of 1000 watts PEP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000 watts PEP outpu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minimum power necessary to carry out the desired communications, with a maximum of 1500 watts PEP outpu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E3704D9-6DCC-4FA8-B4C9-733C192608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C11 Which of the following is NOT a requirement when a station is transmitting on the 60-meter band?</a:t>
            </a:r>
            <a:endParaRPr b="1" lang="en-US" sz="3000" spc="-1" strike="noStrike">
              <a:solidFill>
                <a:srgbClr val="ffff00"/>
              </a:solidFill>
              <a:latin typeface="Tahoma"/>
            </a:endParaRPr>
          </a:p>
        </p:txBody>
      </p:sp>
      <p:sp>
        <p:nvSpPr>
          <p:cNvPr id="2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transmissions may only use Upper Sideband (U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3-dB bandwidth of a signal shall not exceed 2.8 kHz, when centered on any of the five FCC-authorized transmitting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ssions shall not exceed an effective radiated power (ERP) of 50 W PE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 height shall not exceed 50 feet above mean sea level (AMS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1E183D4-4CC1-4056-B439-19B593C711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C11 Which of the following is NOT a requirement when a station is transmitting on the 60-meter band?</a:t>
            </a:r>
            <a:endParaRPr b="1" lang="en-US" sz="3000" spc="-1" strike="noStrike">
              <a:solidFill>
                <a:srgbClr val="ffff00"/>
              </a:solidFill>
              <a:latin typeface="Tahoma"/>
            </a:endParaRPr>
          </a:p>
        </p:txBody>
      </p:sp>
      <p:sp>
        <p:nvSpPr>
          <p:cNvPr id="2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transmissions may only use Upper Sideband (U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3-dB bandwidth of a signal shall not exceed 2.8 kHz, when centered on any of the five FCC-authorized transmitting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ssions shall not exceed an effective radiated power (ERP) of 50 W PEP</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ntenna height shall not exceed 50 feet above mean sea level (AMSL)</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215276DF-AB59-4E31-A410-4A919FF014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0"/>
            <a:ext cx="883944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License Requirements</a:t>
            </a:r>
            <a:endParaRPr b="1" lang="en-US" sz="3000" spc="-1" strike="noStrike">
              <a:solidFill>
                <a:srgbClr val="ffff00"/>
              </a:solidFill>
              <a:latin typeface="Tahoma"/>
            </a:endParaRPr>
          </a:p>
        </p:txBody>
      </p:sp>
      <p:graphicFrame>
        <p:nvGraphicFramePr>
          <p:cNvPr id="242" name=""/>
          <p:cNvGraphicFramePr/>
          <p:nvPr/>
        </p:nvGraphicFramePr>
        <p:xfrm>
          <a:off x="380880" y="1828800"/>
          <a:ext cx="8458200" cy="4189320"/>
        </p:xfrm>
        <a:graphic>
          <a:graphicData uri="http://schemas.openxmlformats.org/drawingml/2006/table">
            <a:tbl>
              <a:tblPr/>
              <a:tblGrid>
                <a:gridCol w="2438640"/>
                <a:gridCol w="1523880"/>
                <a:gridCol w="1523880"/>
                <a:gridCol w="1524240"/>
                <a:gridCol w="1447560"/>
              </a:tblGrid>
              <a:tr h="5659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ement Number</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License Class</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1 (CW)</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2</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3</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36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Technician</a:t>
                      </a:r>
                      <a:endParaRPr b="0" lang="en-US" sz="2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Technician with Morse Code</a:t>
                      </a:r>
                      <a:endParaRPr b="0" lang="en-US" sz="2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9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General</a:t>
                      </a:r>
                      <a:endParaRPr b="0" lang="en-US" sz="2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6520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Amateur Extra</a:t>
                      </a:r>
                      <a:endParaRPr b="0" lang="en-US" sz="2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X</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1"/>
          </p:nvPr>
        </p:nvSpPr>
        <p:spPr/>
        <p:txBody>
          <a:bodyPr/>
          <a:p>
            <a:r>
              <a:t>Commission's Rules</a:t>
            </a:r>
          </a:p>
        </p:txBody>
      </p:sp>
      <p:sp>
        <p:nvSpPr>
          <p:cNvPr id="4" name="PlaceHolder 3"/>
          <p:cNvSpPr>
            <a:spLocks noGrp="1"/>
          </p:cNvSpPr>
          <p:nvPr>
            <p:ph type="sldNum" idx="2"/>
          </p:nvPr>
        </p:nvSpPr>
        <p:spPr/>
        <p:txBody>
          <a:bodyPr/>
          <a:p>
            <a:fld id="{B4B6C049-DDE2-4B57-8D9F-98A882A5EF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2 What are the frequency privileges for a General Class control operator in the 75/80-meter band (ITU Region 2)?</a:t>
            </a:r>
            <a:endParaRPr b="1" lang="en-US" sz="3000" spc="-1" strike="noStrike">
              <a:solidFill>
                <a:srgbClr val="ffff00"/>
              </a:solidFill>
              <a:latin typeface="Tahoma"/>
            </a:endParaRPr>
          </a:p>
        </p:txBody>
      </p:sp>
      <p:sp>
        <p:nvSpPr>
          <p:cNvPr id="1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525 - 3750-kHz and 3850 - 40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525 - 3775-kHz and 3875 - 40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525 - 3750-kHz and 3875 - 40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525 - 3775-kHz and 3850 - 400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30A4BAE-A2EC-4809-9A6F-942D51FAC4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1 What examination elements may you prepare when you hold a General class operator license?</a:t>
            </a:r>
            <a:endParaRPr b="1" lang="en-US" sz="3000" spc="-1" strike="noStrike">
              <a:solidFill>
                <a:srgbClr val="ffff00"/>
              </a:solidFill>
              <a:latin typeface="Tahoma"/>
            </a:endParaRPr>
          </a:p>
        </p:txBody>
      </p:sp>
      <p:sp>
        <p:nvSpPr>
          <p:cNvPr id="2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lements 1 and 2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lement 1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lements 1, 2 and 3</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EB5E13C1-D2EB-444B-A743-7C0FB4B10B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1 What examination elements may you prepare when you hold a General class operator license?</a:t>
            </a:r>
            <a:endParaRPr b="1" lang="en-US" sz="3000" spc="-1" strike="noStrike">
              <a:solidFill>
                <a:srgbClr val="ffff00"/>
              </a:solidFill>
              <a:latin typeface="Tahoma"/>
            </a:endParaRPr>
          </a:p>
        </p:txBody>
      </p:sp>
      <p:sp>
        <p:nvSpPr>
          <p:cNvPr id="2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n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Elements 1 and 2 onl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lement 1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lements 1, 2 and 3</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5F99FF4-C324-439D-9CF5-05BB816D69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2 What license examinations may you administer when you are an accredited VE holding a General Class operator license?</a:t>
            </a:r>
            <a:endParaRPr b="1" lang="en-US" sz="3000" spc="-1" strike="noStrike">
              <a:solidFill>
                <a:srgbClr val="ffff00"/>
              </a:solidFill>
              <a:latin typeface="Tahoma"/>
            </a:endParaRPr>
          </a:p>
        </p:txBody>
      </p:sp>
      <p:sp>
        <p:nvSpPr>
          <p:cNvPr id="2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General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chnician and Morse co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echnician, General and Amateur Extr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232F1E0-9921-4436-AB60-0B848BBCD3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2 What license examinations may you administer when you are an accredited VE holding a General Class operator license?</a:t>
            </a:r>
            <a:endParaRPr b="1" lang="en-US" sz="3000" spc="-1" strike="noStrike">
              <a:solidFill>
                <a:srgbClr val="ffff00"/>
              </a:solidFill>
              <a:latin typeface="Tahoma"/>
            </a:endParaRPr>
          </a:p>
        </p:txBody>
      </p:sp>
      <p:sp>
        <p:nvSpPr>
          <p:cNvPr id="2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General onl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echnician and Morse cod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echnician, General and Amateur Extr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EFBC577-5794-456D-8E73-3F936A9ABB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83944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ertificate of Successful Completion (CSCE)</a:t>
            </a:r>
            <a:endParaRPr b="1" lang="en-US" sz="2600" spc="-1" strike="noStrike">
              <a:solidFill>
                <a:srgbClr val="ffff00"/>
              </a:solidFill>
              <a:latin typeface="Tahoma"/>
            </a:endParaRPr>
          </a:p>
        </p:txBody>
      </p:sp>
      <p:pic>
        <p:nvPicPr>
          <p:cNvPr id="252" name="" descr=""/>
          <p:cNvPicPr/>
          <p:nvPr/>
        </p:nvPicPr>
        <p:blipFill>
          <a:blip r:embed="rId1"/>
          <a:stretch/>
        </p:blipFill>
        <p:spPr>
          <a:xfrm>
            <a:off x="990720" y="1295280"/>
            <a:ext cx="7086600" cy="4792680"/>
          </a:xfrm>
          <a:prstGeom prst="rect">
            <a:avLst/>
          </a:prstGeom>
          <a:ln w="0">
            <a:noFill/>
          </a:ln>
        </p:spPr>
      </p:pic>
      <p:sp>
        <p:nvSpPr>
          <p:cNvPr id="3" name="PlaceHolder 2"/>
          <p:cNvSpPr>
            <a:spLocks noGrp="1"/>
          </p:cNvSpPr>
          <p:nvPr>
            <p:ph type="ftr" idx="1"/>
          </p:nvPr>
        </p:nvSpPr>
        <p:spPr/>
        <p:txBody>
          <a:bodyPr/>
          <a:p>
            <a:r>
              <a:t>Commission's Rules</a:t>
            </a:r>
          </a:p>
        </p:txBody>
      </p:sp>
      <p:sp>
        <p:nvSpPr>
          <p:cNvPr id="4" name="PlaceHolder 3"/>
          <p:cNvSpPr>
            <a:spLocks noGrp="1"/>
          </p:cNvSpPr>
          <p:nvPr>
            <p:ph type="sldNum" idx="2"/>
          </p:nvPr>
        </p:nvSpPr>
        <p:spPr/>
        <p:txBody>
          <a:bodyPr/>
          <a:p>
            <a:fld id="{33583B01-8330-4089-982C-05AA8763F7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3 What minimum examination elements must an applicant pass for a Technician Class operator license?</a:t>
            </a:r>
            <a:endParaRPr b="1" lang="en-US" sz="3000" spc="-1" strike="noStrike">
              <a:solidFill>
                <a:srgbClr val="ffff00"/>
              </a:solidFill>
              <a:latin typeface="Tahoma"/>
            </a:endParaRPr>
          </a:p>
        </p:txBody>
      </p:sp>
      <p:sp>
        <p:nvSpPr>
          <p:cNvPr id="2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lement 2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lements 1 and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lements 2 and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lements 1, 2 and 3</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D1E40E9-4E16-4515-8189-48C0F3212A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3 What minimum examination elements must an applicant pass for a Technician Class operator license?</a:t>
            </a:r>
            <a:endParaRPr b="1" lang="en-US" sz="3000" spc="-1" strike="noStrike">
              <a:solidFill>
                <a:srgbClr val="ffff00"/>
              </a:solidFill>
              <a:latin typeface="Tahoma"/>
            </a:endParaRPr>
          </a:p>
        </p:txBody>
      </p:sp>
      <p:sp>
        <p:nvSpPr>
          <p:cNvPr id="2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Element 2 onl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lements 1 and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lements 2 and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lements 1, 2 and 3</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EE6C502-747D-43EB-B652-BC43FB353B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4 What minimum examination elements must an applicant pass for a Technician Class operator license with Morse code credit to operate on the HF bands?</a:t>
            </a:r>
            <a:endParaRPr b="1" lang="en-US" sz="3000" spc="-1" strike="noStrike">
              <a:solidFill>
                <a:srgbClr val="ffff00"/>
              </a:solidFill>
              <a:latin typeface="Tahoma"/>
            </a:endParaRPr>
          </a:p>
        </p:txBody>
      </p:sp>
      <p:sp>
        <p:nvSpPr>
          <p:cNvPr id="2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lement 2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lements 1 and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lements 2 and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lements 1, 2 and 3</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80FA4BC-21A8-4A77-82E9-C6F9CF898D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4 What minimum examination elements must an applicant pass for a Technician Class operator license with Morse code credit to operate on the HF bands?</a:t>
            </a:r>
            <a:endParaRPr b="1" lang="en-US" sz="3000" spc="-1" strike="noStrike">
              <a:solidFill>
                <a:srgbClr val="ffff00"/>
              </a:solidFill>
              <a:latin typeface="Tahoma"/>
            </a:endParaRPr>
          </a:p>
        </p:txBody>
      </p:sp>
      <p:sp>
        <p:nvSpPr>
          <p:cNvPr id="2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lement 2 onl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Elements 1 and 2</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lements 2 and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Elements 1, 2 and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6B6A5989-B3A4-403F-80DB-5A30B5F8C1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5 What are the requirements for administering a Technician Class operator examination?</a:t>
            </a:r>
            <a:endParaRPr b="1" lang="en-US" sz="3000" spc="-1" strike="noStrike">
              <a:solidFill>
                <a:srgbClr val="ffff00"/>
              </a:solidFill>
              <a:latin typeface="Tahoma"/>
            </a:endParaRPr>
          </a:p>
        </p:txBody>
      </p:sp>
      <p:sp>
        <p:nvSpPr>
          <p:cNvPr id="2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ree VEC-accredited General Class or higher VEs must be pres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wo VEC-accredited General Class or higher VEs must be pres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wo General Class or higher VEs must be present, but only one need be VEC accredi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two General Class or higher VEs must be pres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8706B344-80F7-435F-9833-AF969C4EF7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A02 What are the frequency privileges for a General Class control operator in the 75/80-meter band (ITU Region 2)?</a:t>
            </a:r>
            <a:endParaRPr b="1" lang="en-US" sz="3000" spc="-1" strike="noStrike">
              <a:solidFill>
                <a:srgbClr val="ffff00"/>
              </a:solidFill>
              <a:latin typeface="Tahoma"/>
            </a:endParaRPr>
          </a:p>
        </p:txBody>
      </p:sp>
      <p:sp>
        <p:nvSpPr>
          <p:cNvPr id="1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3525 - 3750-kHz and 3850 - 4000-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525 - 3775-kHz and 3875 - 40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525 - 3750-kHz and 3875 - 40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525 - 3775-kHz and 3850 - 400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F6609B2-7071-4B9C-9F49-06030E65EE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5 What are the requirements for administering a Technician Class operator examination?</a:t>
            </a:r>
            <a:endParaRPr b="1" lang="en-US" sz="3000" spc="-1" strike="noStrike">
              <a:solidFill>
                <a:srgbClr val="ffff00"/>
              </a:solidFill>
              <a:latin typeface="Tahoma"/>
            </a:endParaRPr>
          </a:p>
        </p:txBody>
      </p:sp>
      <p:sp>
        <p:nvSpPr>
          <p:cNvPr id="2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ree VEC-accredited General Class or higher VEs must be pres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wo VEC-accredited General Class or higher VEs must be pres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wo General Class or higher VEs must be present, but only one need be VEC accredi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two General Class or higher VEs must be pres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43BB1E8F-60C8-42F5-9B63-381F42C9BB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6 When may you participate as an administering VE for a Technician Class operator license examination?</a:t>
            </a:r>
            <a:endParaRPr b="1" lang="en-US" sz="3000" spc="-1" strike="noStrike">
              <a:solidFill>
                <a:srgbClr val="ffff00"/>
              </a:solidFill>
              <a:latin typeface="Tahoma"/>
            </a:endParaRPr>
          </a:p>
        </p:txBody>
      </p:sp>
      <p:sp>
        <p:nvSpPr>
          <p:cNvPr id="2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3000"/>
          </a:bodyPr>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ce you have notified the FCC that you want to give an examination</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ce you have a Certificate of Successful Completion of Examination (CSCE) for General class</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ce you have prepared telegraphy and written examinations for the Technician license, or obtained them from a qualified supplier</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ce you have been granted your FCC General class or higher license and received your VEC accredi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F67577DE-22D6-4D34-84F2-CA8E848C8D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6 When may you participate as an administering VE for a Technician Class operator license examination?</a:t>
            </a:r>
            <a:endParaRPr b="1" lang="en-US" sz="3000" spc="-1" strike="noStrike">
              <a:solidFill>
                <a:srgbClr val="ffff00"/>
              </a:solidFill>
              <a:latin typeface="Tahoma"/>
            </a:endParaRPr>
          </a:p>
        </p:txBody>
      </p:sp>
      <p:sp>
        <p:nvSpPr>
          <p:cNvPr id="2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ce you have notified the FCC that you want to give an examination</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ce you have a Certificate of Successful Completion of Examination (CSCE) for General class</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ce you have prepared telegraphy and written examinations for the Technician license, or obtained them from a qualified suppli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Once you have been granted your FCC General class or higher license and received your VEC accredit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7E677300-E43E-40D0-A9F2-1BD5AB0335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7 If you are a Technician Class operator with a CSCE for General Class operator privileges, how do you identify your station when transmitting on 14.035 MHz?</a:t>
            </a:r>
            <a:endParaRPr b="1" lang="en-US" sz="3000" spc="-1" strike="noStrike">
              <a:solidFill>
                <a:srgbClr val="ffff00"/>
              </a:solidFill>
              <a:latin typeface="Tahoma"/>
            </a:endParaRPr>
          </a:p>
        </p:txBody>
      </p:sp>
      <p:sp>
        <p:nvSpPr>
          <p:cNvPr id="2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give your call sign and the location of the VE examination where you obtained the CS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ust give your call sign, followed by the slant mark "/", followed by the identifier "A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ay not operate on 14.035 MHz until your new license arri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 special form of identification is need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58E829F-18AA-4822-9F28-877B902100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7 If you are a Technician Class operator with a CSCE for General Class operator privileges, how do you identify your station when transmitting on 14.035 MHz?</a:t>
            </a:r>
            <a:endParaRPr b="1" lang="en-US" sz="3000" spc="-1" strike="noStrike">
              <a:solidFill>
                <a:srgbClr val="ffff00"/>
              </a:solidFill>
              <a:latin typeface="Tahoma"/>
            </a:endParaRPr>
          </a:p>
        </p:txBody>
      </p:sp>
      <p:sp>
        <p:nvSpPr>
          <p:cNvPr id="2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give your call sign and the location of the VE examination where you obtained the CS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You must give your call sign, followed by the slant mark "/", followed by the identifier "A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ay not operate on 14.035 MHz until your new license arri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 special form of identification is need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DC6BB8B-D92A-4579-87A2-3F7C05DB6B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8 If you are a Technician Class operator with a CSCE for General Class operator privileges, how do you identify your station when transmitting phone emissions on 14.325 MHz?</a:t>
            </a:r>
            <a:endParaRPr b="1" lang="en-US" sz="3000" spc="-1" strike="noStrike">
              <a:solidFill>
                <a:srgbClr val="ffff00"/>
              </a:solidFill>
              <a:latin typeface="Tahoma"/>
            </a:endParaRPr>
          </a:p>
        </p:txBody>
      </p:sp>
      <p:sp>
        <p:nvSpPr>
          <p:cNvPr id="2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 special form of identification is nee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ay not operate on 14.325 MHz until your new license arri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ust give your call sign, followed by any suitable word that denotes the slant mark and the identifier "A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give your call sign and the location of the VE examination where you obtained the CS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D7C7C5E-D871-4752-A5F9-3D55D37DAC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8 If you are a Technician Class operator with a CSCE for General Class operator privileges, how do you identify your station when transmitting phone emissions on 14.325 MHz?</a:t>
            </a:r>
            <a:endParaRPr b="1" lang="en-US" sz="3000" spc="-1" strike="noStrike">
              <a:solidFill>
                <a:srgbClr val="ffff00"/>
              </a:solidFill>
              <a:latin typeface="Tahoma"/>
            </a:endParaRPr>
          </a:p>
        </p:txBody>
      </p:sp>
      <p:sp>
        <p:nvSpPr>
          <p:cNvPr id="2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 special form of identification is nee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ay not operate on 14.325 MHz until your new license arriv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You must give your call sign, followed by any suitable word that denotes the slant mark and the identifier "A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give your call sign and the location of the VE examination where you obtained the CS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93071BB-A9CC-4FE2-884A-1F5357DE69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09 If you are a Technician Class operator with a CSCE for General Class operator privileges, when must you add the special identifier "AG" after your call sign?</a:t>
            </a:r>
            <a:endParaRPr b="1" lang="en-US" sz="3000" spc="-1" strike="noStrike">
              <a:solidFill>
                <a:srgbClr val="ffff00"/>
              </a:solidFill>
              <a:latin typeface="Tahoma"/>
            </a:endParaRPr>
          </a:p>
        </p:txBody>
      </p:sp>
      <p:sp>
        <p:nvSpPr>
          <p:cNvPr id="2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ever you operate using your new frequency privile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ever you ope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ever you operate using Technician frequency privile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pecial identifier is not required as long as your General class license application has been filed with the FC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3E7479A6-6196-4AC2-8CBB-B4D041EE79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09 If you are a Technician Class operator with a CSCE for General Class operator privileges, when must you add the special identifier "AG" after your call sign?</a:t>
            </a:r>
            <a:endParaRPr b="1" lang="en-US" sz="3000" spc="-1" strike="noStrike">
              <a:solidFill>
                <a:srgbClr val="ffff00"/>
              </a:solidFill>
              <a:latin typeface="Tahoma"/>
            </a:endParaRPr>
          </a:p>
        </p:txBody>
      </p:sp>
      <p:sp>
        <p:nvSpPr>
          <p:cNvPr id="2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Whenever you operate using your new frequency privileg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ever you ope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ever you operate using Technician frequency privile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pecial identifier is not required as long as your General class license application has been filed with the FC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A25A7966-7F84-4D98-A807-06C7A2306F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10 If you are a Technician Class operator with a CSCE for General Class operator privileges, on which of the following band segments must you include the special identifier "AG" after your call sign?</a:t>
            </a:r>
            <a:endParaRPr b="1" lang="en-US" sz="3000" spc="-1" strike="noStrike">
              <a:solidFill>
                <a:srgbClr val="ffff00"/>
              </a:solidFill>
              <a:latin typeface="Tahoma"/>
            </a:endParaRPr>
          </a:p>
        </p:txBody>
      </p:sp>
      <p:sp>
        <p:nvSpPr>
          <p:cNvPr id="282"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ever you operate from 18068 - 18168-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ever you operate from 14025 - 14150-kHz and 14225 - 143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ever you operate from 10100 - 101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1E12B381-458E-4510-A30C-774B2B639F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A03 What are the frequency privileges for a General Class control operator in the 40-meter band (ITU Region 2)?</a:t>
            </a:r>
            <a:endParaRPr b="1" lang="en-US" sz="3000" spc="-1" strike="noStrike">
              <a:solidFill>
                <a:srgbClr val="ffff00"/>
              </a:solidFill>
              <a:latin typeface="Tahoma"/>
            </a:endParaRPr>
          </a:p>
        </p:txBody>
      </p:sp>
      <p:sp>
        <p:nvSpPr>
          <p:cNvPr id="1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7025 - 7175-kHz and 7200 - 73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7025 - 7175-kHz and 7225 - 73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7025 - 7150-kHz and 7200 - 730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7025 - 7150-kHz and 7225 - 7300-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0EB7D46E-48D6-4DF9-AE6B-250198F109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83944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10 If you are a Technician Class operator with a CSCE for General Class operator privileges, on which of the following band segments must you include the special identifier "AG" after your call sign?</a:t>
            </a:r>
            <a:endParaRPr b="1" lang="en-US" sz="3000" spc="-1" strike="noStrike">
              <a:solidFill>
                <a:srgbClr val="ffff00"/>
              </a:solidFill>
              <a:latin typeface="Tahoma"/>
            </a:endParaRPr>
          </a:p>
        </p:txBody>
      </p:sp>
      <p:sp>
        <p:nvSpPr>
          <p:cNvPr id="284" name="PlaceHolder 2"/>
          <p:cNvSpPr>
            <a:spLocks noGrp="1"/>
          </p:cNvSpPr>
          <p:nvPr>
            <p:ph/>
          </p:nvPr>
        </p:nvSpPr>
        <p:spPr>
          <a:xfrm>
            <a:off x="0" y="3429000"/>
            <a:ext cx="9144000" cy="32004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ever you operate from 18068 - 18168-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ever you operate from 14025 - 14150-kHz and 14225 - 14350-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ever you operate from 10100 - 10150-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C7019F0-687E-4F94-ADDD-56A7535A1B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11 When may you participate as a VE in administering a Morse code examination?</a:t>
            </a:r>
            <a:endParaRPr b="1" lang="en-US" sz="3000" spc="-1" strike="noStrike">
              <a:solidFill>
                <a:srgbClr val="ffff00"/>
              </a:solidFill>
              <a:latin typeface="Tahoma"/>
            </a:endParaRPr>
          </a:p>
        </p:txBody>
      </p:sp>
      <p:sp>
        <p:nvSpPr>
          <p:cNvPr id="2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3000"/>
          </a:bodyPr>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ce you have notified the FCC that you want to give an examination</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ce you have a Certificate of Successful Completion of Examination (CSCE) for General class</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ce you have prepared telegraphy and written examinations for the Technician license, or obtained them from a qualified supplier</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ce you have been granted your FCC General Class or higher operator license and received your VEC accredi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E8FD76B6-514E-4F48-9791-58E1980E5F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11 When may you participate as a VE in administering a Morse code examination?</a:t>
            </a:r>
            <a:endParaRPr b="1" lang="en-US" sz="3000" spc="-1" strike="noStrike">
              <a:solidFill>
                <a:srgbClr val="ffff00"/>
              </a:solidFill>
              <a:latin typeface="Tahoma"/>
            </a:endParaRPr>
          </a:p>
        </p:txBody>
      </p:sp>
      <p:sp>
        <p:nvSpPr>
          <p:cNvPr id="2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ce you have notified the FCC that you want to give an examination</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ce you have a Certificate of Successful Completion of Examination (CSCE) for General class</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ce you have prepared telegraphy and written examinations for the Technician license, or obtained them from a qualified suppli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Once you have been granted your FCC General Class or higher operator license and received your VEC accredit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9A73D0CE-5CBB-44EC-9EA6-451E1AACC9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8394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D12 If you are a Technician licensee with Morse code credit and hold a CSCE for Element 3, what is one way you could identify your station when transmitting phone emissions on a General class amateur frequency?</a:t>
            </a:r>
            <a:endParaRPr b="1" lang="en-US" sz="3000" spc="-1" strike="noStrike">
              <a:solidFill>
                <a:srgbClr val="ffff00"/>
              </a:solidFill>
              <a:latin typeface="Tahoma"/>
            </a:endParaRPr>
          </a:p>
        </p:txBody>
      </p:sp>
      <p:sp>
        <p:nvSpPr>
          <p:cNvPr id="290"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fontScale="91000"/>
          </a:bodyPr>
          <a:p>
            <a:pPr lvl="1" marL="833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ive your call sign followed by the words "general class"</a:t>
            </a:r>
            <a:endParaRPr b="0" lang="en-US" sz="2400" spc="-1" strike="noStrike">
              <a:solidFill>
                <a:srgbClr val="ffffff"/>
              </a:solidFill>
              <a:latin typeface="Tahoma"/>
            </a:endParaRPr>
          </a:p>
          <a:p>
            <a:pPr lvl="1" marL="833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No special identification is needed, since your license upgrade would already be shown in the FCC's database</a:t>
            </a:r>
            <a:endParaRPr b="0" lang="en-US" sz="2400" spc="-1" strike="noStrike">
              <a:solidFill>
                <a:srgbClr val="ffffff"/>
              </a:solidFill>
              <a:latin typeface="Tahoma"/>
            </a:endParaRPr>
          </a:p>
          <a:p>
            <a:pPr lvl="1" marL="833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ive your call sign followed by the words "temporary AG"</a:t>
            </a:r>
            <a:endParaRPr b="0" lang="en-US" sz="2400" spc="-1" strike="noStrike">
              <a:solidFill>
                <a:srgbClr val="ffffff"/>
              </a:solidFill>
              <a:latin typeface="Tahoma"/>
            </a:endParaRPr>
          </a:p>
          <a:p>
            <a:pPr lvl="1" marL="833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wait until your new license arrives by mail from the FCC before using general class frequ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0E0A8E6-8763-4DFE-A990-4A697A4AF4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360"/>
            <a:ext cx="88394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D12 If you are a Technician licensee with Morse code credit and hold a CSCE for Element 3, what is one way you could identify your station when transmitting phone emissions on a General class amateur frequency?</a:t>
            </a:r>
            <a:endParaRPr b="1" lang="en-US" sz="3000" spc="-1" strike="noStrike">
              <a:solidFill>
                <a:srgbClr val="ffff00"/>
              </a:solidFill>
              <a:latin typeface="Tahoma"/>
            </a:endParaRPr>
          </a:p>
        </p:txBody>
      </p:sp>
      <p:sp>
        <p:nvSpPr>
          <p:cNvPr id="292"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fontScale="90000"/>
          </a:bodyPr>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ive your call sign followed by the words "general class"</a:t>
            </a:r>
            <a:endParaRPr b="0" lang="en-US" sz="2400" spc="-1" strike="noStrike">
              <a:solidFill>
                <a:srgbClr val="ffffff"/>
              </a:solidFill>
              <a:latin typeface="Tahoma"/>
            </a:endParaRPr>
          </a:p>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No special identification is needed, since your license upgrade would already be shown in the FCC's databas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Give your call sign followed by the words "temporary AG"</a:t>
            </a:r>
            <a:endParaRPr b="1" lang="en-US" sz="2600" spc="-1" strike="noStrike">
              <a:solidFill>
                <a:srgbClr val="ffff00"/>
              </a:solidFill>
              <a:latin typeface="Tahoma"/>
            </a:endParaRPr>
          </a:p>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wait until your new license arrives by mail from the FCC before using general class frequ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BB8ACB31-45B4-404A-B4EB-7F9435C563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1 As a General Class control operator at the station of a Technician Class operator, how must you identify the station while transmitting on 7250 kHz?</a:t>
            </a:r>
            <a:endParaRPr b="1" lang="en-US" sz="3000" spc="-1" strike="noStrike">
              <a:solidFill>
                <a:srgbClr val="ffff00"/>
              </a:solidFill>
              <a:latin typeface="Tahoma"/>
            </a:endParaRPr>
          </a:p>
        </p:txBody>
      </p:sp>
      <p:sp>
        <p:nvSpPr>
          <p:cNvPr id="2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6000"/>
          </a:bodyPr>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ith your call sign, followed by the word "controlling" and the Technician call sign</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ith the Technician Class operator's station call sign, followed by the slant bar "/" (or any suitable word) and your own call sign</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ith your call sign, followed by the slant bar "/" (or any suitable word) and the Technician call sign</a:t>
            </a:r>
            <a:endParaRPr b="0" lang="en-US" sz="2400" spc="-1" strike="noStrike">
              <a:solidFill>
                <a:srgbClr val="ffffff"/>
              </a:solidFill>
              <a:latin typeface="Tahoma"/>
            </a:endParaRPr>
          </a:p>
          <a:p>
            <a:pPr lvl="1" marL="8791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echnician station should not be operated on 7250-kHz, even with a General control op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546024C9-36FE-4768-83FC-568ED6C361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1 As a General Class control operator at the station of a Technician Class operator, how must you identify the station while transmitting on 7250 kHz?</a:t>
            </a:r>
            <a:endParaRPr b="1" lang="en-US" sz="3000" spc="-1" strike="noStrike">
              <a:solidFill>
                <a:srgbClr val="ffff00"/>
              </a:solidFill>
              <a:latin typeface="Tahoma"/>
            </a:endParaRPr>
          </a:p>
        </p:txBody>
      </p:sp>
      <p:sp>
        <p:nvSpPr>
          <p:cNvPr id="2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3000"/>
          </a:bodyPr>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ith your call sign, followed by the word "controlling" and the Technician call sig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With the Technician Class operator's station call sign, followed by the slant bar "/" (or any suitable word) and your own call sign</a:t>
            </a:r>
            <a:endParaRPr b="1" lang="en-US" sz="2600" spc="-1" strike="noStrike">
              <a:solidFill>
                <a:srgbClr val="ffff00"/>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ith your call sign, followed by the slant bar "/" (or any suitable word) and the Technician call sign</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echnician station should not be operated on 7250-kHz, even with a General control op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2C36B6D9-A450-43B8-B739-C56CC61CA4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2 Under what circumstances may a 10-meter repeater retransmit the 2-meter signal from a station having a Technician Class control operator?</a:t>
            </a:r>
            <a:endParaRPr b="1" lang="en-US" sz="3000" spc="-1" strike="noStrike">
              <a:solidFill>
                <a:srgbClr val="ffff00"/>
              </a:solidFill>
              <a:latin typeface="Tahoma"/>
            </a:endParaRPr>
          </a:p>
        </p:txBody>
      </p:sp>
      <p:sp>
        <p:nvSpPr>
          <p:cNvPr id="2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nder no circumstan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if the station on 10 meters is operating under a Special Temporary Authorization allowing such re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during an FCC-declared general state of communications emerg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if the 10-meter control operator holds at least a General class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88F44182-D668-49F0-B935-B8DAFD6CA0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G1E02 Under what circumstances may a 10-meter repeater retransmit the 2-meter signal from a station having a Technician Class control operator?</a:t>
            </a:r>
            <a:endParaRPr b="1" lang="en-US" sz="3000" spc="-1" strike="noStrike">
              <a:solidFill>
                <a:srgbClr val="ffff00"/>
              </a:solidFill>
              <a:latin typeface="Tahoma"/>
            </a:endParaRPr>
          </a:p>
        </p:txBody>
      </p:sp>
      <p:sp>
        <p:nvSpPr>
          <p:cNvPr id="3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nder no circumstan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if the station on 10 meters is operating under a Special Temporary Authorization allowing such re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during an FCC-declared general state of communications emergenc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Only if the 10-meter control operator holds at least a General class licens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133714E2-CD34-48C7-A3FE-FC73B5B034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G1E03 What kind of amateur station simultaneously retransmits the signals of other stations on a different channel?</a:t>
            </a:r>
            <a:endParaRPr b="1" lang="en-US" sz="3000" spc="-1" strike="noStrike">
              <a:solidFill>
                <a:srgbClr val="ffff00"/>
              </a:solidFill>
              <a:latin typeface="Tahoma"/>
            </a:endParaRPr>
          </a:p>
        </p:txBody>
      </p:sp>
      <p:sp>
        <p:nvSpPr>
          <p:cNvPr id="3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peater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pac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lecommand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lay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ission's Rules</a:t>
            </a:r>
          </a:p>
        </p:txBody>
      </p:sp>
      <p:sp>
        <p:nvSpPr>
          <p:cNvPr id="5" name="PlaceHolder 4"/>
          <p:cNvSpPr>
            <a:spLocks noGrp="1"/>
          </p:cNvSpPr>
          <p:nvPr>
            <p:ph type="sldNum" idx="2"/>
          </p:nvPr>
        </p:nvSpPr>
        <p:spPr/>
        <p:txBody>
          <a:bodyPr/>
          <a:p>
            <a:fld id="{D9B42BD2-2E31-4338-8704-63AD249B98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9T00:40:32Z</dcterms:modified>
  <cp:revision>1</cp:revision>
  <dc:subject/>
  <dc:title>G1 -- COMMISSION'S RULES  [6 Exam Questions -- 6 Groups]</dc:title>
</cp:coreProperties>
</file>