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6208-9F6D-42F7-9175-47EA90D76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6 Technician Class (Element 2) Master sylla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eased 6 February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5 Exam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croham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by Scott N7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0FDEB-DB36-43A8-ABFA-0D2F3A769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0" y="466416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55554-82C6-4ED9-B967-17AB078C7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576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0" y="466416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5760" y="466416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1F9CC-7611-4769-A61F-F5AB074AD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091680" y="251460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3360" y="251460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0" y="466416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091680" y="466416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3360" y="466416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ACD79-9FF8-4156-8AAD-2E0649BC0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A42EA-25FE-4F86-87BA-B6E73ED4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B774E-4FEF-4DCC-8BD1-7AE3D6C2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111AE-6700-4B57-B6EC-84A3C05F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251460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39685-249C-46E2-ABE7-0F572F93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F984D-E39B-4363-AF98-9419C949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839440" cy="116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9EFBD-659C-4632-AE52-D4423A08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251460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466416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77678-AF57-4C69-96FC-63553B21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45E14-233E-44AE-9DF5-4DC51D26AC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76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5760" y="466416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1EE22-C444-4285-A2D2-9CBF6FCA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576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0" y="466416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77A1F-1874-4253-A3F3-864D5152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0" y="466416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54CBA-FD8A-410A-B510-C42712DE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576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0" y="466416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5760" y="466416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2677C-35E1-4972-9D6A-646B5ABA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091680" y="251460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83360" y="251460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0" y="466416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091680" y="466416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83360" y="466416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E5D51-7CF3-4B73-B40E-1986903F7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62C77-E1E8-4E4F-B67C-FCB939CDA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251460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E0DDF-B11A-4A35-9E6D-AE45B6B2E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5E92F-65FE-4B32-991B-91BA060DD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839440" cy="116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54C0E-754F-4B7C-8E36-C17DFEFAD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251460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66416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4972E-7584-4BB0-9B0B-9B99BFD84D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5760" y="466416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B6717-F638-40C9-80C6-05570CECC0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466416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042AE-F9B5-4F3E-84A9-066D765CD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5867280" y="6477120"/>
            <a:ext cx="3276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-4539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2" marL="125892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3" marL="1601640" indent="-22860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4" marL="2743200" indent="-4618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5" marL="2743200" indent="-4618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6" marL="2743200" indent="-4618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4114800" y="655272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7ACB-E461-47D1-A863-27AFCF232D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3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F33B-8162-4553-91B1-5FC5A15BAF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  –  Emergency and 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Public Service Communications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3 exam questions – 3 groups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8791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8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CC declarations of an emergency, use of non-amateur equipment and frequencies, use of equipment by unlicensed persons, tactical call sig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791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8B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paration for emergency operations, RACES/ARES, safety of life and property, using ham radio at civic events, compensation prohibi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791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8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t operations, responsibilities of the net control station, message handling,  interfacing with public safety offici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251BA-7FD4-46A4-8483-949750BD09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A03 What should you do if you are in contact with another station and an emergency call is heard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ll the calling station that the frequency is in 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rect the calling station to the nearest emergency net frequen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regard the call and continue with your cont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D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Stop your contact immediately and take the emergency call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330EA-E8DA-45F7-9BA4-54BB219550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A04 What are the restrictions on amateur radio communications after the FCC has declared a communications emergency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emergency declaration prohibits all commun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are no restrictions if you have a special emergency certif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must avoid those frequencies dedicated to supporting the emergency unless you are participating in the relief eff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military stations are allowed to use the amateur radio frequencies during an emergen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6095F-6F2C-4C45-A4B4-EB1640248B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8A04 What are the restrictions on amateur radio communications after the FCC has declared a communications emergency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emergency declaration prohibits all commun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are no restrictions if you have a special emergency certif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C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You must avoid those frequencies dedicated to supporting the emergency unless you are participating in the relief effort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military stations are allowed to use the amateur radio frequencies during an emergen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9565D-463F-49E0-9B70-107FFB12CA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A05 What is one reason for using tactical call signs such as "command post" or "weather center" during an emergency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help to keep the general public inform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are more efficient and help coordinate public-service commun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are required by the FC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increase goodwill and sound profess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99E74-370A-4AB3-9837-7B7C8A8C12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8A05 What is one reason for using tactical call signs such as "command post" or "weather center" during an emergency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help to keep the general public inform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B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They are more efficient and help coordinate public-service communications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are required by the FC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increase goodwill and sound profess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DD614-CD9F-4C3E-9463-C7560427DB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A06 What is legally required to restrict a frequency to emergency-only communication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FCC declaration of a communications emergen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ermination by the designated net manager for an emergency 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horization by an ARES/RACES emergency coordin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ongressional declaration of int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F80A9-9D34-4CFA-B441-7FA221B9D0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8A06 What is legally required to restrict a frequency to emergency-only communication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n FCC declaration of a communications emergency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ermination by the designated net manager for an emergency 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horization by an ARES/RACES emergency coordin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ongressional declaration of int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CEDCF-E06D-436C-BFE0-01D65B788A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A07 Who has the exclusive use of a frequency if the FCC has not declared a communication emergency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y net station that has traf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tation first occupying the frequen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ividuals passing health and welfare commun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station has exclusive use in this circumst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D592D-5BDF-465E-8007-E7E905410D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8A07 Who has the exclusive use of a frequency if the FCC has not declared a communication emergency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y net station that has traf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tation first occupying the frequen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ividuals passing health and welfare commun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D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No station has exclusive use in this circumstance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4C092-3AB0-4A66-9785-A023431153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A08 What should you do if you hear someone reporting an emergency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ort the station to the FCC immediat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ume the emergency is real and act according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k the other station to move to a different frequen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ll the station to call the police on the teleph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D93AB-C877-43D2-AD4B-031E186E1D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Identifying an Emergency 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Emergency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851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reat 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lif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oper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Key Words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851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yday, SOS, Break, Help*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FCC declares an emergency and posts rules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851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y special conditions and rules to be observ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Remember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851400" indent="-421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ergency traffic always has right of w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51400" indent="-421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CC follows Good Samaritan rules and will forgive those that hel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51400" indent="-421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FCC also punishes those that are fraudulent (l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A11DB-184D-4C04-A329-3730A8CC8E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8A08 What should you do if you hear someone reporting an emergency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ort the station to the FCC immediat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B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ssume the emergency is real and act accordingly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k the other station to move to a different frequen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ll the station to call the police on the teleph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25276-1951-4C14-955A-40E9FF4BF6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A09 What is an appropriate way to initiate an emergency call on amateur radio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ell as loudly as you can into the microph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k if the frequency is in use and wait for someone to give you permission to go ahead before procee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lare a communications emergen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y "Mayday, Mayday, Mayday" followed by "any station come in please" and identify your s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CA77F-FAA6-4917-93DA-8F8402F130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8A09 What is an appropriate way to initiate an emergency call on amateur radio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ell as loudly as you can into the microph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k if the frequency is in use and wait for someone to give you permission to go ahead before procee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lare a communications emergen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D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Say "Mayday, Mayday, Mayday" followed by "any station come in please" and identify your station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494BA-D8F1-4EC0-8914-394E72EA1F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A10 What are the penalties for making a false emergency call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could have your license revok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could be fined a large sum of mone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could be sent to pri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of these answers are corr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DED78-E7C1-4977-BC97-5E86ED5DE0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8A10 What are the penalties for making a false emergency call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could have your license revok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could be fined a large sum of mone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could be sent to pri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D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ll of these answers are correct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B382B-7B69-4185-A100-BA8344DDCB9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A11 What type of communications has priority at all times in the Amateur Radio Service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eater commun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ergency commun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mplex commun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-party commun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74D66-9333-4D21-8C2B-E23BBC34786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8A11 What type of communications has priority at all times in the Amateur Radio Service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eater commun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B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Emergency communications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mplex commun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-party commun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813A5-A463-40FA-8685-6913B97A286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A12 When must priority be given to stations providing emergency communications? 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when operating under RAC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when an emergency has been declar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y time a net control station is on the ai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all times and on all frequenc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6619F-6079-4035-ACEE-D0F14AF1E48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8A12 When must priority be given to stations providing emergency communications?</a:t>
            </a: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when operating under RAC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when an emergency has been declar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y time a net control station is on the ai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D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t all times and on all frequencies 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67D94-F56A-409A-964F-27EB76BB5B1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Emergency Preparedness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Things you might want to have/do: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2 hour K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tteries – for your radio, flash light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ternate Power – generator, solar cell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58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58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 how to use your rad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58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ergency communication tra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A15CB-DF72-4EDF-A461-F3F252754D4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Emergency Traffic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o’s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lvl="1" marL="784080" indent="-33588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ssume the emergency is re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84080" indent="-33588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pen the chann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3228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op your contac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3228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ke the emergency ca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84080" indent="-33588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void FCC declared emergency frequenc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on’ts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lvl="1" marL="784080" indent="-33588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o false emergenc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3228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ou can loose your license and go to jail for declaring a false emergenc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3228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ou can be held liable if you interfere with emergency traff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32280" indent="-2239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ou will be required to pay the cost of the search and rescue effor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84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8908F-2D51-45B5-8158-07ECF73A37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Jump Kit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838080"/>
          <a:ext cx="8686800" cy="5337360"/>
        </p:xfrm>
        <a:graphic>
          <a:graphicData uri="http://schemas.openxmlformats.org/drawingml/2006/table">
            <a:tbl>
              <a:tblPr/>
              <a:tblGrid>
                <a:gridCol w="2101680"/>
                <a:gridCol w="2318040"/>
                <a:gridCol w="2361960"/>
                <a:gridCol w="1905120"/>
              </a:tblGrid>
              <a:tr h="213480">
                <a:tc gridSpan="2"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nack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iquid refreshm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gridSpan="2"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 day supply of food  and wa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ilet artic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gridSpan="2"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cket Ge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ssage Forms, Name Tags, Paper, Penci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gridSpan="2"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F Connector Adaptor K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helter (tent and sleeping bag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gridSpan="2"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og Boo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oul Weather Ge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gridSpan="2"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lashlight (regular and pe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rtable Stove and Mess kit with cleaning k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gridSpan="2"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nd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tteries (for everything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gridSpan="2"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arm Cloc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ater proof match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gridSpan="2"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ectrical and Duct ta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olbo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gridSpan="2"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afety glass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oldering iron and sol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gridSpan="2"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ditional Rad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gridSpan="2"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sh bags, Plastic Sheet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crophone, Headph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gridSpan="2"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ch Cords, Extra Coa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wer supply, charg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gridSpan="2"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RRL Standardized Connecto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ennas with mou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gridSpan="2"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 day change of cloth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WR Bridge (VHF and H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 gridSpan="4"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irst Aid Suppl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scriptio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iage Ta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hist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per Bag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roat lozeng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spir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e Banda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pace blan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atex Glov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hesive tape 1” &amp; 2”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aline solution (1 qt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issors and tweez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9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oller Bandages (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nd-Aids (assorte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iseptic solu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erile nee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auze Pads 4x4 (2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afety pins (1 box lg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iangular banda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ye Dropp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anitary Napkins for bleeding contr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hemical Ice Packs (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ndage strips : make from shee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ermome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5E1A2-56FF-407D-8FB0-E3DF8AF7036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RACES / ARES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25146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RACES – Radio Amateur Civil Emergency Service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39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rst respond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5800" indent="-2239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ork with local, state and federal government agenc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5800" indent="-2239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en activated – you work for the government (Restricte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00600" y="25146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ARES - Amateur Radio Emergency Service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39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alth and welf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5800" indent="-2239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ork with NGO (Red Cross, Salvation Army) and support servic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5800" indent="-2239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en activated – you still are a civilia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524160" y="5522760"/>
            <a:ext cx="77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 – both groups do good work, and many hams belong to both group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o both groups are often combin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FEMA/RACES"/>
          <p:cNvPicPr/>
          <p:nvPr/>
        </p:nvPicPr>
        <p:blipFill>
          <a:blip r:embed="rId1"/>
          <a:stretch/>
        </p:blipFill>
        <p:spPr>
          <a:xfrm>
            <a:off x="762120" y="533520"/>
            <a:ext cx="1942920" cy="1942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248520" y="380880"/>
            <a:ext cx="2201760" cy="2106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CBF7E-F5B4-4FA7-8E13-0B6618DA850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B01 What can you do to be prepared for an emergency situation where your assistance might be needed? 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at least twice a year to make sure you have all of your emergency response equipment and know where it i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ke sure you have a way to run your equipment if there is a power failure in your ar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icipate in drills that test your ability to set up and operate in the fiel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of these answers are correc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6A264-93B9-4613-BD4C-228AED429D8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B01 What can you do to be prepared for an emergency situation where your assistance might be needed? 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at least twice a year to make sure you have all of your emergency response equipment and know where it i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ke sure you have a way to run your equipment if there is a power failure in your ar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icipate in drills that test your ability to set up and operate in the fiel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D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ll of these answers are correct 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D676B-925D-48F8-A632-D9C6710755F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B02 When may you use your amateur station to transmit a "SOS" or "MAYDAY" signal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when you are transmitting from a ship at s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at 15 and 30 minutes after the ho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there is immediate threat to human life or proper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the National Weather Service has announced a weather war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EF514-1495-4155-BE9A-E41C505CF4E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8B02 When may you use your amateur station to transmit a "SOS" or "MAYDAY" signal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when you are transmitting from a ship at s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at 15 and 30 minutes after the ho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C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When there is immediate threat to human life or property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the National Weather Service has announced a weather war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0883A-2006-4EF4-9C1B-0E7092B75C0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B03 What is the primary function of RACES in relation to emergency activities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CES organizations are restricted to serving local, state, and federal government emergency management agenc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CES supports agencies like the Red Cross, Salvation Army, and National Weather Serv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CES supports the National Traffic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CES is a part of the National Emergency Warning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05423-A3C9-4C3A-ABEB-1E889B07C65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8B03 What is the primary function of RACES in relation to emergency activities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RACES organizations are restricted to serving local, state, and federal government emergency management agencies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CES supports agencies like the Red Cross, Salvation Army, and National Weather Serv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CES supports the National Traffic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CES is a part of the National Emergency Warning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38610-D89B-4CC2-9D87-D4B3A28FB2C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B04 What is the primary function of ARES in relation to emergency activities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S organizations are restricted to serving local, state, and federal government emergency management agenc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S supports agencies like the Red Cross, Salvation Army, and National Weather Serv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S groups work only with local school distri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S supports local National Guard uni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B80CB-2CDB-455C-BFFA-FA0A1A010F6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8B04 What is the primary function of ARES in relation to emergency activities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S organizations are restricted to serving local, state, and federal government emergency management agenc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B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RES supports agencies like the Red Cross, Salvation Army, and National Weather Service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S groups work only with local school distri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S supports local National Guard uni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5596F-9CEA-4954-BDE7-1CD60F2633A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Declaring an Emergency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Voice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YDAY, MAYDAY, MADAY any station come in please, this is &lt;your call sign* &gt;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Morse Code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S, SOS, SOS DE &lt;your call sign* &gt;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On a net or repeater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ea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3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2085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* Call sign can be a tactical call sign or your na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59995-3479-4564-B1EB-0279A13F44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B05 What organization must you register with before you can participate in RACES activities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local amateur radio clu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local racing organiz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esponsible civil defense organiz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Federal Communications Commi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4CEE9-9CB0-4FE9-8175-9C4E1268B30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8B05 What organization must you register with before you can participate in RACES activities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local amateur radio clu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local racing organiz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C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The responsible civil defense organization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Federal Communications Commi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CA38B-6059-458F-B7DE-5F62E14CC8E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B06 What is necessary before you can join an ARES group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re required to join the ARR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must have an amateur radio licen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must have an amateur radio license and have Red Cross CPR tra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must register with a civil defense organiz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2A191-72BE-48B4-9BAC-3B2FE6B4F45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8B06 What is necessary before you can join an ARES group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re required to join the ARR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B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You must have an amateur radio license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must have an amateur radio license and have Red Cross CPR tra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must register with a civil defense organiz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227ED-3E0F-4DDA-9759-5E83E3D6FEC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B07 What could be used as an alternate source of power to operate radio equipment during emergencies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attery in a car or tru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bicycle gener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ortable solar pan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of these answers are corr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985AE-FD9F-40E5-8F04-A732FBEEE6A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8B07 What could be used as an alternate source of power to operate radio equipment during emergencies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attery in a car or tru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bicycle gener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ortable solar pan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D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ll of these answers are correct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8E1E8-6959-4FCC-97AC-9AD9B997A36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B08 When can you use non-amateur frequencies or equipment to call for help in a situation involving immediate danger to life or property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ver; your license only allows you to use the frequencies authorized to your class of licen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a genuine emergency you may use any means at your disposal to call for help on any frequen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you have permission from the owner of the 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you have permission from a police officer on the sc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1BF08-CB11-4046-954E-00655B7C819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8B08 When can you use non-amateur frequencies or equipment to call for help in a situation involving immediate danger to life or property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ver; your license only allows you to use the frequencies authorized to your class of licen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B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In a genuine emergency you may use any means at your disposal to call for help on any frequency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you have permission from the owner of the 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you have permission from a police officer on the sc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53BBA-410C-4599-AC9E-6F7F65DE7EC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B09 Why should casual conversation between stations during a public service event be avoided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ch chatter is often interesting to bystand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listeners might overhear personal in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le chatter may interfere with important traf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might have to change batteries more of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0E121-D65F-4F36-9F1D-7BFF5A55A08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8B09 Why should casual conversation between stations during a public service event be avoided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ch chatter is often interesting to bystand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listeners might overhear personal in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C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Idle chatter may interfere with important traffic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might have to change batteries more of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D03D3-F103-4FD2-A4D0-92C1DA8B706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A01 What information is included in an FCC declaration of a temporary state of communication emergency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list of organizations authorized to use radio communications in the affected ar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list of amateur frequency bands to be used in the affected ar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y special conditions and rules to be observed during the emergen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operating schedule for authorized amateur emergency st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6D17A-DA8D-4612-B842-2461B11313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B10 What should you do if a reporter asks to use your amateur radio transceiver to make a news report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ow the use but give your call sign every 10 minu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ise them that the FCC prohibits such 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ll them it is OK as long as you do not receive compen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ll the reporter that you must approve the material beforeh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8F93E-B8AF-4200-8435-D8F1C386903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8B10 What should you do if a reporter asks to use your amateur radio transceiver to make a news report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ow the use but give your call sign every 10 minu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B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dvise them that the FCC prohibits such use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ll them it is OK as long as you do not receive compen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ll the reporter that you must approve the material beforeh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207EF-245D-4E44-AA95-A83677CFC05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B11 When can you use a modified amateur radio transceiver to transmit on the local fire department frequency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you are helping the Fire Department raise mone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when the Fire Department is short of regular equip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a genuine emergency you may use any means at your disposal to call for help on any frequen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the local Fire Chief has given written permi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88C39-3D56-4E85-A56D-61DC2C09C1D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8B11 When can you use a modified amateur radio transceiver to transmit on the local fire department frequency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you are helping the Fire Department raise mone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when the Fire Department is short of regular equip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C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In a genuine emergency you may use any means at your disposal to call for help on any frequency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the local Fire Chief has given written permi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88FF5-4A10-4120-AD0A-33CA8FA3446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Emergency Messages Content</a:t>
            </a:r>
            <a:br>
              <a:rPr sz="3000"/>
            </a:br>
            <a:br>
              <a:rPr sz="3000"/>
            </a:b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Remember – this is an emergency, the message is important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Job 1 – get the message through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240" y="25146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What is in a emergency message?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lvl="1" marL="671760" indent="-2192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ader/Pream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896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formation to track and confirm the message. Such as: Identifier/number,Date-Time From/To Check value (e.g. # word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71760" indent="-2192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dy/Tex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896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essage – keep it short 25 words or les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71760" indent="-2192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gna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7960" y="25146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What should not be in an emergency message?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lvl="1" marL="636480" indent="-174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sonnel inform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member this is open to the publi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36480" indent="-174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fidential inform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2B1F7-DFDA-40CE-A7BD-69966DD7FE2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Radio Nets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Open/Closed Nets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lvl="1"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pen Ne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ee For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w or Sporadic Traff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sten before talk Protoc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mal opera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osed Ne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t Control Station (NC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ly transmit when approved by net contr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Types of Nets</a:t>
            </a:r>
            <a:endParaRPr b="1" lang="en-US" sz="2200" spc="-1" strike="noStrike">
              <a:solidFill>
                <a:srgbClr val="ffff00"/>
              </a:solidFill>
              <a:latin typeface="Tahoma"/>
            </a:endParaRPr>
          </a:p>
          <a:p>
            <a:pPr lvl="1" marL="685800" indent="-2239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ctical Net – the front line net during the incident. Where the action i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5800" indent="-2239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ource Net – used to recruit operators and equipment to support tactical effo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5800" indent="-2239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mand Net – interagency and manag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31289-2C12-405A-B293-E0004BBBB36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C01 Which type of traffic has the highest priority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ergency traf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ority traf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lth and welfare traf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utine traf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E02E1-A408-471B-8B5F-88E36035967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8C01 Which type of traffic has the highest priority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Emergency traffic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ority traf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lth and welfare traf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utine traf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8CDB9-622C-436E-9DFC-78A96B0DE3E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C02 What type of messages should not be transmitted over amateur radio frequencies during emergencies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quests for suppl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al information concerning victi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chedule of relief opera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imates of how much longer the emergency will l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D19E3-8EA2-422E-A195-81CF01CB0FF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8C02 What type of messages should not be transmitted over amateur radio frequencies during emergencies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quests for suppl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B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Personal information concerning victims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chedule of relief opera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imates of how much longer the emergency will l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D213C-3E42-4B1E-B5C9-9A14957568C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8A01 What information is included in an FCC declaration of a temporary state of communication emergency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list of organizations authorized to use radio communications in the affected ar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list of amateur frequency bands to be used in the affected ar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C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ny special conditions and rules to be observed during the emergency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operating schedule for authorized amateur emergency st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9C788-1EFE-4523-8028-212B95D527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C03 What should you do to minimize disruptions to an emergency traffic net once you have checked in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ever the net frequency is quiet, announce your call sign and lo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ve 5 kHz away from the net's frequency and use high power to ask other hams to keep clear of the net frequen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 not transmit on the net frequency until asked to do so by the net control s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it until the net frequency is quiet, then ask for any emergency traffic for your ar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BF4B4-AA0F-4FF8-9BC4-2C4DBC129EF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8C03 What should you do to minimize disruptions to an emergency traffic net once you have checked in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ever the net frequency is quiet, announce your call sign and lo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ve 5 kHz away from the net's frequency and use high power to ask other hams to keep clear of the net frequen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C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Do not transmit on the net frequency until asked to do so by the net control station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it until the net frequency is quiet, then ask for any emergency traffic for your ar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A2581-A71A-4F36-8195-7D64FDB6BCF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C04 What is one thing that must be included when passing emergency messages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all signs of all the stations passing the mess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name of the person originating the mess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tatus re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essage tit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372AB-6624-40BA-9941-23B9481BCBB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8C04 What is one thing that must be included when passing emergency messages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all signs of all the stations passing the mess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B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The name of the person originating the message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tatus re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essage tit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C810B-C553-4A33-AE3B-90DFF10BCB2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C05 What is one way to reduce the chances of casual listeners overhearing sensitive emergency traffic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ss messages using a non-voice mode such as packet radio or Morse co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eak as rapidly as possible to reduce your on-air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ell out every word using phonet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trict transmission of messages to the hours between midnight  and 4:00 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FD729-8E9C-41B4-AC6A-601F474E189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8C05 What is one way to reduce the chances of casual listeners overhearing sensitive emergency traffic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Pass messages using a non-voice mode such as packet radio or Morse code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eak as rapidly as possible to reduce your on-air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ell out every word using phonet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trict transmission of messages to the hours between midnight  and 4:00 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55DD7-EA91-44AC-B84C-C4C057E5E4C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C06 What is of primary importance for a net control station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dual-band transcei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network ca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trong and clear sig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ability to speak several langua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D18B9-7633-41B2-B32D-82295B4728C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8C06 What is of primary importance for a net control station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dual-band transcei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network ca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C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 strong and clear signal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ability to speak several langua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68A22-B36A-4103-9755-FA87947352F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C07 What should the net control station do if someone breaks in with emergency traffic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k them to wait until the roll has been call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op all net activity until the emergency has been handl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k the station to call the local police and then resume normal net activ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k them to move off your net frequency immediat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7BDF8-C1DF-48EB-9E13-6BFA2B7CDE9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8C07 What should the net control station do if someone breaks in with emergency traffic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k them to wait until the roll has been call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B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Stop all net activity until the emergency has been handled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k the station to call the local police and then resume normal net activ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k them to move off your net frequency immediat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97AD9-B918-4982-8EEA-568FBE1190E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A02 Under what conditions are amateur stations allowed to communicate with stations operating in other radio services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communicating with the space shutt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specially authorized by the FCC, or in an actual emergen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communicating with stations in the Citizens Radio Serv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a commercial broadcast station is reporting news during a natural disas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265D2-3D87-4752-A08A-6CD0902D75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C08 What should you do if a large scale emergency has just occurred and no net control station is available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it until the assigned net control station comes on the air and pass your traffic when call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mit a call for help and hope someone will hear y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n the emergency net immediately and ask for check-i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sten to the local NOAA weather broadcast to find out how long the emergency will l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2EC5A-7B95-4D7E-885D-7DD6E378526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8C08 What should you do if a large scale emergency has just occurred and no net control station is available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it until the assigned net control station comes on the air and pass your traffic when call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mit a call for help and hope someone will hear y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C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Open the emergency net immediately and ask for check-ins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sten to the local NOAA weather broadcast to find out how long the emergency will l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E0CB3-C72F-4446-8A73-EB08E5DAC51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C09 What is the preamble of a message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first paragraph of the message t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essage numb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iority handling indicator for the mess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information needed to track the message as it passes through the amateur radio traffic handling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A85EB-BEC7-4D3F-BFAF-A94EEE7B6D1C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8C09 What is the preamble of a message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first paragraph of the message t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essage numb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iority handling indicator for the mess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D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The information needed to track the message as it passes through the amateur radio traffic handling system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16226-0031-4B5D-A84C-3AA125750EB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C10 What is meant by the term "check" in reference to a message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heck is a count of the number of words in the mess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heck is the value of a money order attached to the mess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heck is a list of stations that have relayed the mess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heck is a box on the message form that tells you the message was receiv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19DD8-025F-4D00-9EB9-A544E244F71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8C10 What is meant by the term "check" in reference to a message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The check is a count of the number of words in the message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heck is the value of a money order attached to the mess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heck is a list of stations that have relayed the mess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heck is a box on the message form that tells you the message was receiv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EDC6D-2DEB-4B05-9947-06402FDBAF4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C11 What is the recommended guideline for the maximum number of words to be included in the text of an emergency message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 wo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5 wo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 wo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5 wo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C9CE7-A3F2-4B4A-BBB9-E619920D6E3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8C11 What is the recommended guideline for the maximum number of words to be included in the text of an emergency message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 wo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B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25 words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 wo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5 wo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98557-F6C3-4A7F-A503-D1500CED70B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8A02 Under what conditions are amateur stations allowed to communicate with stations operating in other radio services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communicating with the space shutt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B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When specially authorized by the FCC, or in an actual emergency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communicating with stations in the Citizens Radio Serv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a commercial broadcast station is reporting news during a natural disas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1DBE4-4788-45EC-BF1C-8D5DF47F1B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8A03 What should you do if you are in contact with another station and an emergency call is heard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ll the calling station that the frequency is in 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rect the calling station to the nearest emergency net frequen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regard the call and continue with your cont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op your contact immediately and take the emergency ca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mergency and Public Service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DAE7D-4694-4D7C-80B4-CC21AB44B0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ry Lewis</cp:lastModifiedBy>
  <dcterms:modified xsi:type="dcterms:W3CDTF">2006-09-18T20:49:25Z</dcterms:modified>
  <cp:revision>1</cp:revision>
  <dc:subject/>
  <dc:title>T8  –  Emergency and  Public Service Communications 3 exam questions – 3 groups</dc:title>
</cp:coreProperties>
</file>