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AA91-28A2-4713-8700-4094FE9D7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hm’s law should be familiar from the Technician exam.  The new one is the power formula which states voltage in volts x current in amps = power in watts.  Be sure to keep an eye on the units in these ques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tors and Capacitors both exhibit Reactance or a resistance to AC measured in ohms.  Inductive reactance (Xl) increases with frequency and capacitive reactance (Xc) decreases with frequency.  When inductors and capacitors are used in the same circuit, the circuit is said to be resonant when inductive and capacitive reactance are eq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ing load impedance is important to insure maximum power deliver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key voltage measurements, RMS (Vrms), Peak (Vpk) and Peak to Peak (Vpp).  The Peak voltage is relative to ground.  RMS or Root Mean Square is more of an “average” voltage over the duration of the AC cycle.  RMS voltage is calculated by multiplying 0.707 times the peak voltage.  The Peak to Peak voltage measures from the peak of the positive swing to the peak of the negative s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0 volt AC line voltage in the wall is a peak value.  That means the RMS voltage is 85 volts and Peak  to Peak is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E311D08-9195-477A-A0EC-B2E99D1E3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40B298-F3C7-4D34-B9E0-8A86AF2499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5818D0-6197-4C30-B363-028AD1F379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E48A5-FC03-496A-BC64-9B4161A98B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825562-B6EB-45C9-BD8E-2C01E1972C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721D8-5BC3-4563-92CB-28177F9FC9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9867C-D5DC-406D-8D3E-FF870B768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123F07-93BE-4C32-BC75-5488F0C63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B95A1-00A2-483B-BE2A-CDA3DC0CF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2C59A-537A-4640-B560-6542F6809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F6F50-7C90-4904-A75A-1A9955C10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5077E-232C-4BA0-91DD-AEB974F434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96524-37ED-4DAF-BF1A-088714084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1A528-4EDB-4C48-BAB0-303675295F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6BF433-C327-4ED3-B240-A4F14930E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D643C7-D828-4F9F-A837-3F05322129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27477E-B70F-4616-8E0E-CB036E168B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DC8D12-E4B0-40E5-988F-3CF553FCF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0F26C-72B5-4994-B3BD-185784B5FE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575407-02FC-4479-B552-EB52477014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B7DBAE-0D11-4B30-9194-E12D592CB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806ABC-FDEB-4074-8C96-72004EB28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724E9-2D74-4A3B-BE08-7B1A898F32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2E24E-4D36-49B6-A06B-213B214A92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8A00-8C49-452F-A4F0-463C3024C3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3E70-69C8-497E-8E48-69EE6D7888D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 -- ELECTRICAL PRINCIPLES</a:t>
            </a:r>
            <a:br>
              <a:rPr sz="3000"/>
            </a:br>
            <a:r>
              <a:rPr b="1" lang="en-US" sz="3000" spc="-1" strike="noStrike">
                <a:solidFill>
                  <a:srgbClr val="ffff00"/>
                </a:solidFill>
                <a:latin typeface="Tahoma"/>
              </a:rPr>
              <a:t>[2 Exam Questions -- 2 Groups]</a:t>
            </a:r>
            <a:endParaRPr b="1" lang="en-US" sz="3000" spc="-1" strike="noStrike">
              <a:solidFill>
                <a:srgbClr val="ffff00"/>
              </a:solidFill>
              <a:latin typeface="Tahoma"/>
            </a:endParaRPr>
          </a:p>
        </p:txBody>
      </p:sp>
      <p:sp>
        <p:nvSpPr>
          <p:cNvPr id="106" name="PlaceHolder 2"/>
          <p:cNvSpPr>
            <a:spLocks noGrp="1"/>
          </p:cNvSpPr>
          <p:nvPr>
            <p:ph/>
          </p:nvPr>
        </p:nvSpPr>
        <p:spPr>
          <a:xfrm>
            <a:off x="-360" y="2514600"/>
            <a:ext cx="8991720" cy="4114800"/>
          </a:xfrm>
          <a:prstGeom prst="rect">
            <a:avLst/>
          </a:prstGeom>
          <a:noFill/>
          <a:ln w="0">
            <a:noFill/>
          </a:ln>
        </p:spPr>
        <p:txBody>
          <a:bodyPr lIns="90000" rIns="90000" tIns="46800" bIns="46800" anchor="t">
            <a:normAutofit fontScale="98000"/>
          </a:bodyPr>
          <a:p>
            <a:pPr lvl="1" marL="952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52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5A  Impedance, including matching; resistance, including ohm; reactance; inductance; capacitance; and metric divisions of these values</a:t>
            </a:r>
            <a:endParaRPr b="0" lang="en-US" sz="2400" spc="-1" strike="noStrike">
              <a:solidFill>
                <a:srgbClr val="ffffff"/>
              </a:solidFill>
              <a:latin typeface="Tahoma"/>
            </a:endParaRPr>
          </a:p>
          <a:p>
            <a:pPr lvl="1" marL="952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5B  Decibel; Ohm's Law; current and voltage dividers; electrical power calculations and series and parallel components; transformers (either voltage or impedance); sine wave root-mean-square (RMS) valu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EC831471-F839-49F4-AFDD-4756F5859E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4 In a capacitor, what causes opposition to the flow of AC?</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React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mit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B1AAA22C-723B-4994-8D81-7CFF906BB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5 How does a coil react to AC?</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in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F420BC85-71B1-404B-AF77-F3CDEC95C6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5 How does a coil react to AC?</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decrea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s the frequency of the applied AC increases, the reactance increas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6FB8045F-D89A-462F-964A-A406DE4D2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6 How does a capacitor react to AC?</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A5E2C501-80A5-4393-AEED-AE62B59547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6 How does a capacitor react to AC?</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s the frequency of the applied AC increases, the reactance decrea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 the frequency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s the amplitude of the applied AC increases, the reactance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77AAE882-9007-41F4-8563-A249D9738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7 What happens when the impedance of an electrical load is equal to the internal impedance of the power source?</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ource delivers minimum power to the lo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electrical load is shor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current can flow through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ource delivers maximum power to the loa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4C288FE-B6D6-40F8-A866-BC24D47B52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7 What happens when the impedance of an electrical load is equal to the internal impedance of the power source?</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ource delivers minimum power to the lo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electrical load is shor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current can flow through the circu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source delivers maximum power to the loa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0EC39622-14E1-474C-AABF-24EB872D0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8 Why is impedance matching important?</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o the source can deliver maximum power to the lo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 load will draw minimum power from the sou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nsure that there is less resistance than reactance in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ensure that the resistance and reactance in the circuit are equ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9970633F-2AF8-4BB3-BE94-0C35F6AB6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8 Why is impedance matching important?</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So the source can deliver maximum power to the loa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 load will draw minimum power from the sou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nsure that there is less resistance than reactance in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ensure that the resistance and reactance in the circuit are equ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11E27BDD-78A2-42D7-987C-C7C55576C5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9 What unit is used to measure reactance?</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h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h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ieme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513F44FE-C4AA-43A0-A3FB-7C111CDA8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1 What is impedance?</a:t>
            </a:r>
            <a:endParaRPr b="1" lang="en-US" sz="3000" spc="-1" strike="noStrike">
              <a:solidFill>
                <a:srgbClr val="ffff00"/>
              </a:solidFill>
              <a:latin typeface="Tahoma"/>
            </a:endParaRPr>
          </a:p>
        </p:txBody>
      </p:sp>
      <p:sp>
        <p:nvSpPr>
          <p:cNvPr id="1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lectric charge stored by a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opposition to the flow of AC in a circuit containing only capaci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opposition to the flow of AC in a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orce of repulsion between one electric field and another with the same char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7BF9F25-842E-49BA-A657-B8A23D734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9 What unit is used to measure reactance?</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h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h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ieme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DFF50EFB-FF30-49F7-9FAD-2F5C84BA5D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10 What unit is used to measure impedance?</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h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t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AE1032B6-B4C8-4946-BFED-100063EE9A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10 What unit is used to measure impedance?</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h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t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321AFE15-58FF-44AB-9488-012CD9B14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11 Why should core saturation of a conventional impedance matching transformer be avoided?</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armonics and distortion could result from satur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gnetic flux would increase with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F susceptance would incre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mporary changes of the core permeability could result from satu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0BDFF13-0E9C-4A49-A73E-C2E69FCC15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11 Why should core saturation of a conventional impedance matching transformer be avoided?</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Harmonics and distortion could result from satur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gnetic flux would increase with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F susceptance would incre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mporary changes of the core permeability could result from satu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9A52C086-82BB-415B-828B-8A06523C3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1 A two-times increase in power results in a change of how many dB?</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 dB hig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 dB hig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dB hig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dB hig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92D89B58-6456-44C0-B7CE-4F149E0EC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1 A two-times increase in power results in a change of how many dB?</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 dB high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3 dB high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dB hig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dB hig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3006247-8038-4910-8903-0E56DB989C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2 In a parallel circuit with a voltage source and several branch resistors, how is the total current related to the current in the branch resistors?</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equals the average of the branch current through each resis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equals the sum of the branch current through each resis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ecreases as more parallel resistors are added to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the sum of each resistor's voltage drop multiplied by the total number of resisto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57F2ABBB-9789-42A2-985D-14EB80C572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2 In a parallel circuit with a voltage source and several branch resistors, how is the total current related to the current in the branch resistors?</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equals the average of the branch current through each resis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equals the sum of the branch current through each resis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ecreases as more parallel resistors are added to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the sum of each resistor's voltage drop multiplied by the total number of resisto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9812BC8-2ED8-4E05-B43E-1F345F89A7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Ohm’s Law and Power Calculations</a:t>
            </a:r>
            <a:endParaRPr b="1" lang="en-US" sz="3000" spc="-1" strike="noStrike">
              <a:solidFill>
                <a:srgbClr val="ffff00"/>
              </a:solidFill>
              <a:latin typeface="Tahoma"/>
            </a:endParaRPr>
          </a:p>
        </p:txBody>
      </p:sp>
      <p:grpSp>
        <p:nvGrpSpPr>
          <p:cNvPr id="162" name=""/>
          <p:cNvGrpSpPr/>
          <p:nvPr/>
        </p:nvGrpSpPr>
        <p:grpSpPr>
          <a:xfrm>
            <a:off x="762120" y="2133720"/>
            <a:ext cx="2743200" cy="2666880"/>
            <a:chOff x="762120" y="2133720"/>
            <a:chExt cx="2743200" cy="2666880"/>
          </a:xfrm>
        </p:grpSpPr>
        <p:sp>
          <p:nvSpPr>
            <p:cNvPr id="163"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6" name=""/>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167"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168"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grpSp>
        <p:nvGrpSpPr>
          <p:cNvPr id="169" name=""/>
          <p:cNvGrpSpPr/>
          <p:nvPr/>
        </p:nvGrpSpPr>
        <p:grpSpPr>
          <a:xfrm>
            <a:off x="5638680" y="2133720"/>
            <a:ext cx="2743200" cy="2666880"/>
            <a:chOff x="5638680" y="2133720"/>
            <a:chExt cx="2743200" cy="2666880"/>
          </a:xfrm>
        </p:grpSpPr>
        <p:sp>
          <p:nvSpPr>
            <p:cNvPr id="170" name=""/>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174" name=""/>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175" name=""/>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176" name=""/>
          <p:cNvSpPr/>
          <p:nvPr/>
        </p:nvSpPr>
        <p:spPr>
          <a:xfrm>
            <a:off x="3352680" y="4343400"/>
            <a:ext cx="27432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Electrical Principals</a:t>
            </a:r>
          </a:p>
        </p:txBody>
      </p:sp>
      <p:sp>
        <p:nvSpPr>
          <p:cNvPr id="4" name="PlaceHolder 3"/>
          <p:cNvSpPr>
            <a:spLocks noGrp="1"/>
          </p:cNvSpPr>
          <p:nvPr>
            <p:ph type="sldNum" idx="2"/>
          </p:nvPr>
        </p:nvSpPr>
        <p:spPr/>
        <p:txBody>
          <a:bodyPr/>
          <a:p>
            <a:fld id="{0C8C4069-EBD1-40C1-B531-F7C9B84E0D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1 What is impedance?</a:t>
            </a:r>
            <a:endParaRPr b="1" lang="en-US" sz="3000" spc="-1" strike="noStrike">
              <a:solidFill>
                <a:srgbClr val="ffff00"/>
              </a:solidFill>
              <a:latin typeface="Tahoma"/>
            </a:endParaRPr>
          </a:p>
        </p:txBody>
      </p:sp>
      <p:sp>
        <p:nvSpPr>
          <p:cNvPr id="1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lectric charge stored by a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opposition to the flow of AC in a circuit containing only capaci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opposition to the flow of AC in a circui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orce of repulsion between one electric field and another with the same char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B8C6529-EA46-436B-83E6-E0E1682563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3 How many watts of electrical power are used if 400 VDC is supplied to an 800-ohm load?</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5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20,0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A2EADB9B-F0A3-4DC0-8563-7E6ECD489F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3 How many watts of electrical power are used if 400 VDC is supplied to an 800-ohm load?</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5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200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20,0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744AF397-075C-4E37-A61F-F390F7E7F6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4 How many watts of electrical power are used by a 12-VDC light bulb that draws 0.2 amperes?</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4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F70F85A0-F7BF-4EB3-A8D3-95450D80A5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4 How many watts of electrical power are used by a 12-VDC light bulb that draws 0.2 amperes?</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4 watt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4C4BF157-71C9-4A67-9334-F54CC95871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5 How many watts are being dissipated when 7.0 milliamperes flow through 1.25 kilohms?</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pproximately 61 milli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pproximately 39 milli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11 milli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9 milli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5D9EEC34-330B-4B65-8E12-6E2559EAB5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5 How many watts are being dissipated when 7.0 milliamperes flow through 1.25 kilohms?</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pproximately 61 milli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pproximately 39 milli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11 milli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9 milli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FFE8E26A-57B8-44C9-9279-0D877F52CD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6 What is the voltage across a 500-turn secondary winding in a transformer if the 2250-turn primary is connected to 120 VAC?</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37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4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6.7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9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960A7B4-A940-4D34-A286-E36084BD1B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6 What is the voltage across a 500-turn secondary winding in a transformer if the 2250-turn primary is connected to 120 VAC?</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37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40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6.7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9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26CCC48A-4BD1-4496-8E79-F0F60DA248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7 What is the turns ratio of a transformer to match an audio amplifier having a 600-ohm output impedance to a speaker having a 4-ohm impedance?</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2.2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4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038F3EAC-B4F5-4148-91E6-A215FEFB7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7 What is the turns ratio of a transformer to match an audio amplifier having a 600-ohm output impedance to a speaker having a 4-ohm impedance?</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2.2 to 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4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EBDE25A0-8CD1-4332-91BA-647C190F08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esonant Circuit</a:t>
            </a:r>
            <a:endParaRPr b="1" lang="en-US" sz="3000" spc="-1" strike="noStrike">
              <a:solidFill>
                <a:srgbClr val="ffff00"/>
              </a:solidFill>
              <a:latin typeface="Tahoma"/>
            </a:endParaRPr>
          </a:p>
        </p:txBody>
      </p:sp>
      <p:pic>
        <p:nvPicPr>
          <p:cNvPr id="112" name="" descr=""/>
          <p:cNvPicPr/>
          <p:nvPr/>
        </p:nvPicPr>
        <p:blipFill>
          <a:blip r:embed="rId1"/>
          <a:srcRect l="5702" t="6890" r="11512" b="15374"/>
          <a:stretch/>
        </p:blipFill>
        <p:spPr>
          <a:xfrm>
            <a:off x="380880" y="2057400"/>
            <a:ext cx="8382240" cy="3592440"/>
          </a:xfrm>
          <a:prstGeom prst="rect">
            <a:avLst/>
          </a:prstGeom>
          <a:ln w="0">
            <a:noFill/>
          </a:ln>
        </p:spPr>
      </p:pic>
      <p:sp>
        <p:nvSpPr>
          <p:cNvPr id="3" name="PlaceHolder 2"/>
          <p:cNvSpPr>
            <a:spLocks noGrp="1"/>
          </p:cNvSpPr>
          <p:nvPr>
            <p:ph type="ftr" idx="1"/>
          </p:nvPr>
        </p:nvSpPr>
        <p:spPr/>
        <p:txBody>
          <a:bodyPr/>
          <a:p>
            <a:r>
              <a:t>Electrical Principals</a:t>
            </a:r>
          </a:p>
        </p:txBody>
      </p:sp>
      <p:sp>
        <p:nvSpPr>
          <p:cNvPr id="4" name="PlaceHolder 3"/>
          <p:cNvSpPr>
            <a:spLocks noGrp="1"/>
          </p:cNvSpPr>
          <p:nvPr>
            <p:ph type="sldNum" idx="2"/>
          </p:nvPr>
        </p:nvSpPr>
        <p:spPr/>
        <p:txBody>
          <a:bodyPr/>
          <a:p>
            <a:fld id="{7CCDF0CC-672B-429D-810B-2907252753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0"/>
            <a:ext cx="883944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RMS, Peak and Peak to Peak Voltages</a:t>
            </a:r>
            <a:endParaRPr b="1" lang="en-US" sz="3000" spc="-1" strike="noStrike">
              <a:solidFill>
                <a:srgbClr val="ffff00"/>
              </a:solidFill>
              <a:latin typeface="Tahoma"/>
            </a:endParaRPr>
          </a:p>
        </p:txBody>
      </p:sp>
      <p:pic>
        <p:nvPicPr>
          <p:cNvPr id="198" name="" descr=""/>
          <p:cNvPicPr/>
          <p:nvPr/>
        </p:nvPicPr>
        <p:blipFill>
          <a:blip r:embed="rId1"/>
          <a:stretch/>
        </p:blipFill>
        <p:spPr>
          <a:xfrm>
            <a:off x="228600" y="2362320"/>
            <a:ext cx="8686800" cy="3932280"/>
          </a:xfrm>
          <a:prstGeom prst="rect">
            <a:avLst/>
          </a:prstGeom>
          <a:ln w="0">
            <a:noFill/>
          </a:ln>
        </p:spPr>
      </p:pic>
      <p:sp>
        <p:nvSpPr>
          <p:cNvPr id="3" name="PlaceHolder 2"/>
          <p:cNvSpPr>
            <a:spLocks noGrp="1"/>
          </p:cNvSpPr>
          <p:nvPr>
            <p:ph type="ftr" idx="1"/>
          </p:nvPr>
        </p:nvSpPr>
        <p:spPr/>
        <p:txBody>
          <a:bodyPr/>
          <a:p>
            <a:r>
              <a:t>Electrical Principals</a:t>
            </a:r>
          </a:p>
        </p:txBody>
      </p:sp>
      <p:sp>
        <p:nvSpPr>
          <p:cNvPr id="4" name="PlaceHolder 3"/>
          <p:cNvSpPr>
            <a:spLocks noGrp="1"/>
          </p:cNvSpPr>
          <p:nvPr>
            <p:ph type="sldNum" idx="2"/>
          </p:nvPr>
        </p:nvSpPr>
        <p:spPr/>
        <p:txBody>
          <a:bodyPr/>
          <a:p>
            <a:fld id="{900852D1-64BA-4F17-A732-0B3B76F7E0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8 A DC voltage equal to what value of an applied sine-wave AC voltage would produce the same amount of heat over time in a resistive element?</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eak-to-peak valu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MS valu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verage valu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eak valu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C94B5CC-EA17-4843-B2F5-0AA4E4031D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8 A DC voltage equal to what value of an applied sine-wave AC voltage would produce the same amount of heat over time in a resistive element?</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eak-to-peak valu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RMS valu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verage valu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eak valu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DAE722EE-58D4-429D-8E7E-2BF4236BD8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09 What is the peak-to-peak voltage of a sine wave that has an RMS voltage of 120 volts?</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4.8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69.7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4.8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39.4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AACF9FF-B20E-4B78-92E7-BFAF573EEF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09 What is the peak-to-peak voltage of a sine wave that has an RMS voltage of 120 volts?</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4.8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69.7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4.8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339.4 volt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5101057C-8DB6-42FA-AF26-B7B7F5A2C8C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10 A sine wave of 17 volts peak is equivalent to how many volts RMS?</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4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4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6612F563-6EFE-4B94-8370-8C3901D791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10 A sine wave of 17 volts peak is equivalent to how many volts RMS?</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5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2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4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4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AD748294-D5C1-4A1E-962D-94BCD7A312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12 What causes a voltage to appear across the secondary winding of a transformer when a voltage source is connected across its primary winding?</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pacitive coup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placement current coup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utual indu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tual capaci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A7159EF9-2B80-4614-BAD6-A940185C91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12 What causes a voltage to appear across the secondary winding of a transformer when a voltage source is connected across its primary winding?</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pacitive coup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placement current coupl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Mutual induct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tual capaci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D91416C3-E2C1-43D2-B4AE-09ACC3469A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13 What would be the capacitance and voltage rating of a series circuit consisting of two equal value capacitors with equal voltage ratings?</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tal capacitance would be half that of each capacitor and maximum voltage would be twice that of each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tal capacitance would be half that of each capacitor and maximum voltage would be the same as each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tal capacitance and maximum voltage would be the same as each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tal capacitance and maximum voltage would be half that of each capaci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0EF8C941-EADE-4EF5-B11C-704D2464D7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2 What is reactance?</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position to DC caused by resis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pposition to AC caused by inductors and capaci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property of ideal resistors in AC circu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large spark produced at switch contacts when an inductor is de-energiz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99AD144-B1F1-4121-80B2-6911DC811B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13 What would be the capacitance and voltage rating of a series circuit consisting of two equal value capacitors with equal voltage ratings?</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tal capacitance would be half that of each capacitor and maximum voltage would be twice that of each capaci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tal capacitance would be half that of each capacitor and maximum voltage would be the same as each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tal capacitance and maximum voltage would be the same as each capac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tal capacitance and maximum voltage would be half that of each capaci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B2A4AB28-83EC-4799-841F-9E9F56DE76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14 What percentage loss would result from a transmission line loss of 1 dB?</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6.6%</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7%</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6%</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20AFA0DA-E152-41CF-87A3-E4FF5DAB2E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14 What percentage loss would result from a transmission line loss of 1 dB?</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6.6%</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7%</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0.6%</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D0B8F114-3FB5-4640-A9F3-1A641DF15E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B15 If three equal resistors in parallel produce 50-ohms of resistance and the same resistors in series produce 450-ohms, what is the value of each resistor?</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0-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90-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75-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B57ACF90-3BE3-4CE5-8CFB-43B461AE79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B15 If three equal resistors in parallel produce 50-ohms of resistance and the same resistors in series produce 450-ohms, what is the value of each resistor?</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0-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90-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50-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75-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8189AB31-502C-4793-9337-ABC8F23750DE}"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2 What is reactance?</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position to DC caused by resisto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pposition to AC caused by inductors and capaci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property of ideal resistors in AC circu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large spark produced at switch contacts when an inductor is de-energiz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91B9A85F-89D2-429A-9440-2F72E82B6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3 In an inductor, what causes opposition to the flow of AC?</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mit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ac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C96C0BCA-5893-46FD-BE95-E5FF4CABA6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5A03 In an inductor, what causes opposition to the flow of AC?</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mit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Reactanc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0FE4C1CD-D538-47C8-9405-B3A652CD0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5A04 In a capacitor, what causes opposition to the flow of AC?</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a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mit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Principals</a:t>
            </a:r>
          </a:p>
        </p:txBody>
      </p:sp>
      <p:sp>
        <p:nvSpPr>
          <p:cNvPr id="5" name="PlaceHolder 4"/>
          <p:cNvSpPr>
            <a:spLocks noGrp="1"/>
          </p:cNvSpPr>
          <p:nvPr>
            <p:ph type="sldNum" idx="2"/>
          </p:nvPr>
        </p:nvSpPr>
        <p:spPr/>
        <p:txBody>
          <a:bodyPr/>
          <a:p>
            <a:fld id="{56F0C187-D1E8-483E-93C2-08E0FD75D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9:05Z</dcterms:modified>
  <cp:revision>1</cp:revision>
  <dc:subject/>
  <dc:title>G5 -- ELECTRICAL PRINCIPLES [2 Exam Questions -- 2 Groups]</dc:title>
</cp:coreProperties>
</file>